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10007600" cy="7740650"/>
  <p:notesSz cx="7740650" cy="10007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506F1-8FD4-4AFE-8F24-16DF212BB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F5A20-F151-4A14-BF9D-8789E56C2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D8C0-14EC-49ED-8C9F-2ABF875F0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259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502320" y="223524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74916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259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502320" y="4660920"/>
            <a:ext cx="273924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032-EDF5-4CFE-A47F-B38F3695A9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EAE91-8F95-409F-B3CF-7F95559FE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3BAC-3526-4887-BB07-4FDCFF9E8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F66AF-8E32-4C1E-B184-64902923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6D52E-55C7-4185-9B8D-0595B48CC1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749160" y="686880"/>
            <a:ext cx="850752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86701-08B7-4DDB-A7FE-EF69535D2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44DAD-846E-40EA-8DF1-117391689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08760" y="466092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A0D9-EB5F-4DC6-A623-D51F89A3F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91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08760" y="2235240"/>
            <a:ext cx="4151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749160" y="4660920"/>
            <a:ext cx="8507520" cy="22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22A58-A2C3-47FF-9E72-E31F6EEAA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9160" y="686880"/>
            <a:ext cx="8507520" cy="12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9160" y="2235240"/>
            <a:ext cx="8507520" cy="464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8800" y="7051320"/>
            <a:ext cx="20862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17840" y="7051320"/>
            <a:ext cx="317016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172280" y="7051320"/>
            <a:ext cx="208440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C165E-1A45-4A24-BBAE-61A1B7557CFF}" type="slidenum"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3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9360" y="0"/>
            <a:ext cx="9998280" cy="3659040"/>
          </a:xfrm>
          <a:custGeom>
            <a:avLst/>
            <a:gdLst/>
            <a:ahLst/>
            <a:rect l="l" t="t" r="r" b="b"/>
            <a:pathLst>
              <a:path w="6298" h="2305">
                <a:moveTo>
                  <a:pt x="0" y="0"/>
                </a:moveTo>
                <a:lnTo>
                  <a:pt x="0" y="2305"/>
                </a:lnTo>
                <a:lnTo>
                  <a:pt x="6298" y="2305"/>
                </a:lnTo>
                <a:lnTo>
                  <a:pt x="6298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1295280" y="1040040"/>
            <a:ext cx="8585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600" spc="-1" strike="noStrike">
                <a:solidFill>
                  <a:srgbClr val="ffffff"/>
                </a:solidFill>
                <a:latin typeface="Arial"/>
              </a:rPr>
              <a:t>OS/2 Road Map to e-business</a:t>
            </a:r>
            <a:endParaRPr b="0" lang="en-US" sz="5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446120" y="4148280"/>
            <a:ext cx="8528040" cy="62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763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000000"/>
                </a:solidFill>
                <a:latin typeface="Arial"/>
              </a:rPr>
              <a:t>Transition Dynamics</a:t>
            </a:r>
            <a:endParaRPr b="0" lang="en-US" sz="4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3"/>
          <a:stretch/>
        </p:blipFill>
        <p:spPr>
          <a:xfrm>
            <a:off x="7467480" y="5823000"/>
            <a:ext cx="1795680" cy="60948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4"/>
          <a:stretch/>
        </p:blipFill>
        <p:spPr>
          <a:xfrm>
            <a:off x="2151000" y="5746680"/>
            <a:ext cx="1917720" cy="74304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5"/>
          <a:stretch/>
        </p:blipFill>
        <p:spPr>
          <a:xfrm>
            <a:off x="5246640" y="5419800"/>
            <a:ext cx="847800" cy="13255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6045120" y="5349960"/>
            <a:ext cx="120600" cy="13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Agen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950760" y="1595520"/>
            <a:ext cx="8536320" cy="41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ree Year Pla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duct and Services Plan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urchase Model Chan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utlook After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nabling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ffect on OS/2 Busines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oposed customer cho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546200" y="576900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Hardware and Device Driver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546200" y="6107040"/>
            <a:ext cx="8393040" cy="34452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Maintenance suppor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546200" y="6443640"/>
            <a:ext cx="8393040" cy="345960"/>
          </a:xfrm>
          <a:prstGeom prst="rect">
            <a:avLst/>
          </a:prstGeom>
          <a:gradFill rotWithShape="0">
            <a:gsLst>
              <a:gs pos="0">
                <a:srgbClr val="ff48c8"/>
              </a:gs>
              <a:gs pos="50000">
                <a:srgbClr val="ffffff"/>
              </a:gs>
              <a:gs pos="100000">
                <a:srgbClr val="ff48c8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ice Extension (SE) &amp; Total Content Offering (TCO)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554120" y="5442120"/>
            <a:ext cx="8400960" cy="34416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7452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Java and Migration Tools and Service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536840" y="531036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508040" y="6794640"/>
            <a:ext cx="8285400" cy="758520"/>
          </a:xfrm>
          <a:prstGeom prst="rightArrow">
            <a:avLst>
              <a:gd name="adj1" fmla="val 50000"/>
              <a:gd name="adj2" fmla="val 273078"/>
            </a:avLst>
          </a:prstGeom>
          <a:gradFill rotWithShape="0">
            <a:gsLst>
              <a:gs pos="0">
                <a:srgbClr val="ffb672"/>
              </a:gs>
              <a:gs pos="50000">
                <a:srgbClr val="ffffff"/>
              </a:gs>
              <a:gs pos="100000">
                <a:srgbClr val="ffb672"/>
              </a:gs>
            </a:gsLst>
            <a:lin ang="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ver ti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200480" y="1410840"/>
            <a:ext cx="0" cy="387828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6991200" y="1411200"/>
            <a:ext cx="0" cy="388152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536840" y="1392120"/>
            <a:ext cx="8389800" cy="0"/>
          </a:xfrm>
          <a:prstGeom prst="line">
            <a:avLst/>
          </a:prstGeom>
          <a:ln w="507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roduct and Services Pla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531800" y="1521000"/>
            <a:ext cx="2503800" cy="38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e-business enableme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DA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indows NT Client 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WSoD Server /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oot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Managed flexibil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19720" y="1514520"/>
            <a:ext cx="2481120" cy="383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e-business investment protection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Brows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TCP/I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ebSphere Appl.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ff"/>
                </a:solidFill>
                <a:latin typeface="Arial"/>
              </a:rPr>
              <a:t>Cross Platform WorkSpace On-Deman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248600" y="1535040"/>
            <a:ext cx="2206440" cy="325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Client platform independence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Java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12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1079ff"/>
                </a:solidFill>
                <a:latin typeface="Arial"/>
              </a:rPr>
              <a:t>Server platform independenc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Linux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indows NT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384120" indent="-81000">
              <a:lnSpc>
                <a:spcPct val="100000"/>
              </a:lnSpc>
              <a:spcAft>
                <a:spcPts val="300"/>
              </a:spcAft>
              <a:buClr>
                <a:srgbClr val="808080"/>
              </a:buClr>
              <a:buFont typeface="WingDing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1079ff"/>
                </a:solidFill>
                <a:latin typeface="Arial"/>
              </a:rPr>
              <a:t>Warp Server for e-busin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Purchase Model Chang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90720" y="1452600"/>
            <a:ext cx="8535960" cy="63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char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1.1.X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4.5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Java 2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mmunicator 5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ebSphere 3 and beyond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arp Server for e-business enhancements (TCP/IP, LDAP...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orkSpace On-Demand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190440" indent="-190440">
              <a:lnSpc>
                <a:spcPct val="100000"/>
              </a:lnSpc>
              <a:spcAft>
                <a:spcPts val="524"/>
              </a:spcAft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rvices Off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-business transformation (cross-platform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rvice extensions, Total Content Offering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2240" indent="-177840">
              <a:lnSpc>
                <a:spcPct val="100000"/>
              </a:lnSpc>
              <a:spcAft>
                <a:spcPts val="488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stom enhancement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1622520" y="5438880"/>
            <a:ext cx="3862440" cy="11700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r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622520" y="4826160"/>
            <a:ext cx="38545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604880" y="3032280"/>
            <a:ext cx="1251000" cy="173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ros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atfor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anag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68480" y="4340160"/>
            <a:ext cx="2613240" cy="42408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Sphe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970440" y="3038400"/>
            <a:ext cx="1495440" cy="1258920"/>
          </a:xfrm>
          <a:prstGeom prst="rect">
            <a:avLst/>
          </a:prstGeom>
          <a:solidFill>
            <a:srgbClr val="00efe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Servlet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924520" y="5435640"/>
            <a:ext cx="3778200" cy="1168200"/>
          </a:xfrm>
          <a:prstGeom prst="rect">
            <a:avLst/>
          </a:prstGeom>
          <a:gradFill rotWithShape="0">
            <a:gsLst>
              <a:gs pos="0">
                <a:srgbClr val="00ce00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S/2   Windows NT   Linux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927760" y="4827600"/>
            <a:ext cx="3786120" cy="5666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ava Runtime Environ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19840" y="4221000"/>
            <a:ext cx="1917720" cy="582840"/>
          </a:xfrm>
          <a:prstGeom prst="rect">
            <a:avLst/>
          </a:prstGeom>
          <a:gradFill rotWithShape="0">
            <a:gsLst>
              <a:gs pos="0">
                <a:srgbClr val="ffc17d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spcAft>
                <a:spcPts val="374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rows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943600" y="3040200"/>
            <a:ext cx="3728880" cy="1741320"/>
          </a:xfrm>
          <a:custGeom>
            <a:avLst/>
            <a:gdLst/>
            <a:ahLst/>
            <a:rect l="l" t="t" r="r" b="b"/>
            <a:pathLst>
              <a:path w="2349" h="1097">
                <a:moveTo>
                  <a:pt x="0" y="731"/>
                </a:moveTo>
                <a:lnTo>
                  <a:pt x="0" y="0"/>
                </a:lnTo>
                <a:lnTo>
                  <a:pt x="2349" y="0"/>
                </a:lnTo>
                <a:lnTo>
                  <a:pt x="2349" y="1097"/>
                </a:lnTo>
                <a:lnTo>
                  <a:pt x="1218" y="1097"/>
                </a:lnTo>
                <a:lnTo>
                  <a:pt x="1218" y="731"/>
                </a:lnTo>
                <a:lnTo>
                  <a:pt x="0" y="731"/>
                </a:lnTo>
              </a:path>
            </a:pathLst>
          </a:custGeom>
          <a:noFill/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694560" y="3246480"/>
            <a:ext cx="219384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Application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GUI / XML / HTML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2898720" y="3063960"/>
            <a:ext cx="1046160" cy="12301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nabling Platform Independen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827440" y="3446640"/>
            <a:ext cx="1193760" cy="62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Web Svr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280078"/>
                </a:solidFill>
                <a:latin typeface="Arial"/>
              </a:rPr>
              <a:t>Logic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813320" y="1935360"/>
            <a:ext cx="765288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pplication Framework for e-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Effect on OS/2 Busi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950760" y="1569960"/>
            <a:ext cx="9021960" cy="573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pected marketplace trend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server consolid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d emphasis on Windows N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creasing emphasis on Linux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ecreasing emhasi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migrate to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ndustry-wide support (incl. IBM)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vailability of skills and resour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ome customers will exploit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Known stability characteristic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lete IBM software stack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662120" y="36828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Customer Choices In Three Year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950760" y="1477800"/>
            <a:ext cx="8536320" cy="62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ntinue e-business on OS/2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e-business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T, Linux primary choices on Int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-business exploitation servic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Broader hardware/software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Linux operating system is "free"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ve to proprietary model on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rvices engagements only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19240" indent="-204840">
              <a:lnSpc>
                <a:spcPct val="100000"/>
              </a:lnSpc>
              <a:spcAft>
                <a:spcPts val="561"/>
              </a:spcAft>
              <a:buClr>
                <a:srgbClr val="000000"/>
              </a:buClr>
              <a:buSzPct val="79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ost expensive and disruptiv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0520" y="0"/>
            <a:ext cx="9987120" cy="1160640"/>
          </a:xfrm>
          <a:custGeom>
            <a:avLst/>
            <a:gdLst/>
            <a:ahLst/>
            <a:rect l="l" t="t" r="r" b="b"/>
            <a:pathLst>
              <a:path w="6291" h="731">
                <a:moveTo>
                  <a:pt x="0" y="0"/>
                </a:moveTo>
                <a:lnTo>
                  <a:pt x="0" y="731"/>
                </a:lnTo>
                <a:lnTo>
                  <a:pt x="6291" y="731"/>
                </a:lnTo>
                <a:lnTo>
                  <a:pt x="6291" y="0"/>
                </a:lnTo>
                <a:close/>
              </a:path>
            </a:pathLst>
          </a:custGeom>
          <a:solidFill>
            <a:srgbClr val="0000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0"/>
            <a:ext cx="1366920" cy="7738920"/>
          </a:xfrm>
          <a:prstGeom prst="rect">
            <a:avLst/>
          </a:prstGeom>
          <a:solidFill>
            <a:srgbClr val="00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27080" y="324000"/>
            <a:ext cx="1141200" cy="115560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64960" y="7020000"/>
            <a:ext cx="981360" cy="38556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1662120" y="363600"/>
            <a:ext cx="7135920" cy="5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lnSpc>
                <a:spcPct val="100000"/>
              </a:lnSpc>
              <a:spcAft>
                <a:spcPts val="6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 Black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950760" y="1622520"/>
            <a:ext cx="8536320" cy="538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deliver e-business enablement for OS/2 for at least three year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ssport Advantage subscription is required to make the transformation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provide e-business transformation services for OS/2 and other platform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plication framework for e-business and IBM middleware will enable platform independen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rice of e-business exploitation on OS/2 will rise as volume declin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204840" indent="-204840">
              <a:lnSpc>
                <a:spcPct val="100000"/>
              </a:lnSpc>
              <a:spcAft>
                <a:spcPts val="561"/>
              </a:spcAft>
              <a:buClr>
                <a:srgbClr val="ffffff"/>
              </a:buClr>
              <a:buSzPct val="79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BM will fundamentally support customer choic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