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32.png" ContentType="image/png"/>
  <Override PartName="/ppt/media/image22.jpeg" ContentType="image/jpeg"/>
  <Override PartName="/ppt/media/image39.png" ContentType="image/png"/>
  <Override PartName="/ppt/media/image21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1.png" ContentType="image/png"/>
  <Override PartName="/ppt/media/image24.jpeg" ContentType="image/jpeg"/>
  <Override PartName="/ppt/media/image3.jpeg" ContentType="image/jpeg"/>
  <Override PartName="/ppt/media/image23.jpeg" ContentType="image/jpeg"/>
  <Override PartName="/ppt/media/image2.jpeg" ContentType="image/jpeg"/>
  <Override PartName="/ppt/media/image20.png" ContentType="image/png"/>
  <Override PartName="/ppt/media/image31.jpeg" ContentType="image/jpeg"/>
  <Override PartName="/ppt/media/image35.png" ContentType="image/png"/>
  <Override PartName="/ppt/media/image5.jpeg" ContentType="image/jpeg"/>
  <Override PartName="/ppt/media/image4.png" ContentType="image/png"/>
  <Override PartName="/ppt/media/image12.jpeg" ContentType="image/jpeg"/>
  <Override PartName="/ppt/media/image37.png" ContentType="image/png"/>
  <Override PartName="/ppt/media/image34.jpeg" ContentType="image/jpeg"/>
  <Override PartName="/ppt/media/image7.jpeg" ContentType="image/jpeg"/>
  <Override PartName="/ppt/media/image28.jpeg" ContentType="image/jpeg"/>
  <Override PartName="/ppt/media/image36.png" ContentType="image/png"/>
  <Override PartName="/ppt/media/image40.png" ContentType="image/png"/>
  <Override PartName="/ppt/media/image48.png" ContentType="image/png"/>
  <Override PartName="/ppt/media/image9.jpeg" ContentType="image/jpeg"/>
  <Override PartName="/ppt/media/image11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27.jpeg" ContentType="image/jpeg"/>
  <Override PartName="/ppt/media/image46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10.jpeg" ContentType="image/jpeg"/>
  <Override PartName="/ppt/media/image38.png" ContentType="image/png"/>
  <Override PartName="/ppt/media/image8.jpeg" ContentType="image/jpeg"/>
  <Override PartName="/ppt/media/image29.jpeg" ContentType="image/jpeg"/>
  <Override PartName="/ppt/media/image26.jpeg" ContentType="image/jpeg"/>
  <Override PartName="/ppt/media/image42.png" ContentType="image/png"/>
  <Override PartName="/ppt/media/image44.png" ContentType="image/pn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9F6D-FE42-4709-9701-E781AFE4AE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21D7-2989-4B26-BC5A-B3C7203B9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66937-E00F-4CE2-8128-3F90C11DC1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012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6960" y="176832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012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6960" y="4374000"/>
            <a:ext cx="29206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E361C-D6A3-47F5-9561-106B1B716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B752-493F-4CD1-8A37-E0AF3788E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E9BD-2B28-4D03-B67E-E352CA396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0D97-B0C0-4214-83A1-248723101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44B58-2AEC-4369-9D69-D0CAC8C47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7092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CA59-3A62-437E-A94B-34F4E9B40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EC33-23CC-4049-8920-603DFDCC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1240" y="437400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0798-B4C6-4C52-AFBE-B83552B8C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1240" y="1768320"/>
            <a:ext cx="44265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7092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726B-8ABA-408D-B15E-CB84A6668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7092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61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392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080"/>
            <a:ext cx="2346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8F6093-4E47-48B5-8556-C0F9D1E942F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92000" y="395280"/>
            <a:ext cx="856944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 Narrow"/>
              </a:rPr>
              <a:t>*Série Dark’n’Luke*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10920" y="1763280"/>
            <a:ext cx="7056360" cy="193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ersion alchimie 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24000" y="2246400"/>
            <a:ext cx="8856720" cy="531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079640" y="0"/>
            <a:ext cx="8353440" cy="740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8908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9052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079640" y="276120"/>
            <a:ext cx="8137440" cy="709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6000" y="324000"/>
            <a:ext cx="9864720" cy="675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49120" y="973080"/>
            <a:ext cx="9579240" cy="574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0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4160" y="1079640"/>
            <a:ext cx="949788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00160" y="900000"/>
            <a:ext cx="9821880" cy="589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-9360" y="1079640"/>
            <a:ext cx="1009620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836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27080" y="900000"/>
            <a:ext cx="982332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539640"/>
            <a:ext cx="10080720" cy="604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63440" y="900000"/>
            <a:ext cx="9823680" cy="5894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681120" y="138240"/>
            <a:ext cx="8859600" cy="74167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47640" y="34920"/>
            <a:ext cx="8859960" cy="741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4912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216000" y="74520"/>
            <a:ext cx="9504360" cy="74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4040" y="1055520"/>
            <a:ext cx="9579240" cy="5581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6180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2120" y="1079640"/>
            <a:ext cx="9498240" cy="5533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miqueau blaise</cp:lastModifiedBy>
  <dcterms:modified xsi:type="dcterms:W3CDTF">2006-10-22T17:11:57Z</dcterms:modified>
  <cp:revision>4</cp:revision>
  <dc:subject/>
  <dc:title>Diapositive 1</dc:title>
</cp:coreProperties>
</file>