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37711-E887-4886-A854-16661D4170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F5D52-CEFE-49AC-B2B6-479875B92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FBCB2-94EC-41BF-8C7B-3BAA2798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E2DA6-555D-475D-BD78-1983954982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A7605-BD08-4B23-A65A-B568C100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E5C074-0B00-4101-B242-2F0E77BE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5D963-E4D2-4C8A-B2FD-F1A85F02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58F83-882E-41F3-A0A3-760C85E99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BA7B1-B989-4BF5-B83B-C50798C4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F92EC-531F-4DAB-8AB3-E6B0D3A6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24CBA-68DA-4798-90C9-739B40B6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1B3C0-7AE7-4B0A-AA8C-D47E6597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C8F88-7B3F-4D63-A8F6-D0271D12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13709-ABCB-4546-A1C2-CC350865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6BAC0-3DF2-4E43-977F-2C9B9A559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78A55-990A-484B-8E3D-84BEEC63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210200"/>
            <a:ext cx="264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1B369-CBE3-4E9A-A6E4-CDDD3553C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25CF8-4245-4805-B398-47B2827D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1504-3766-48BD-91EF-CA2910FF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5335-50E9-41E0-8A88-8705917A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6854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685C3-8EBE-476A-B434-E17A0F1E3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D218F-0471-4032-AE99-6839DCCD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1020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A73C0-2C20-4492-A656-F9BD7F83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10200"/>
            <a:ext cx="8229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2837F-20CA-41F0-95ED-6169E0AE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ebb1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3D74-83C4-4B92-92F6-ECAEC2F5E4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red%20bar%20with%20logo%20text%20bar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0"/>
            <a:ext cx="9144000" cy="6476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444680" y="136440"/>
            <a:ext cx="960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Compaq Business Partner 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7720" y="1904760"/>
            <a:ext cx="6394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1b3f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191F-EBBC-47C3-AC89-66004745A5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red%20bottom%20bar2" descr="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0" y="6068880"/>
            <a:ext cx="9144000" cy="789120"/>
          </a:xfrm>
          <a:prstGeom prst="rect">
            <a:avLst/>
          </a:prstGeom>
          <a:ln w="0">
            <a:noFill/>
          </a:ln>
        </p:spPr>
      </p:pic>
      <p:pic>
        <p:nvPicPr>
          <p:cNvPr id="47" name="red%20bar%20with%20logo%20top%20bar" descr="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0"/>
            <a:ext cx="9144000" cy="857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image" Target="../media/image9.png"/><Relationship Id="rId29" Type="http://schemas.openxmlformats.org/officeDocument/2006/relationships/image" Target="../media/image9.png"/><Relationship Id="rId30" Type="http://schemas.openxmlformats.org/officeDocument/2006/relationships/image" Target="../media/image9.png"/><Relationship Id="rId31" Type="http://schemas.openxmlformats.org/officeDocument/2006/relationships/image" Target="../media/image9.png"/><Relationship Id="rId32" Type="http://schemas.openxmlformats.org/officeDocument/2006/relationships/image" Target="../media/image9.png"/><Relationship Id="rId33" Type="http://schemas.openxmlformats.org/officeDocument/2006/relationships/image" Target="../media/image9.png"/><Relationship Id="rId3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3.png"/><Relationship Id="rId32" Type="http://schemas.openxmlformats.org/officeDocument/2006/relationships/image" Target="../media/image13.png"/><Relationship Id="rId33" Type="http://schemas.openxmlformats.org/officeDocument/2006/relationships/image" Target="../media/image13.png"/><Relationship Id="rId3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9.png"/><Relationship Id="rId27" Type="http://schemas.openxmlformats.org/officeDocument/2006/relationships/image" Target="../media/image19.png"/><Relationship Id="rId28" Type="http://schemas.openxmlformats.org/officeDocument/2006/relationships/image" Target="../media/image19.png"/><Relationship Id="rId29" Type="http://schemas.openxmlformats.org/officeDocument/2006/relationships/image" Target="../media/image19.png"/><Relationship Id="rId30" Type="http://schemas.openxmlformats.org/officeDocument/2006/relationships/image" Target="../media/image19.png"/><Relationship Id="rId31" Type="http://schemas.openxmlformats.org/officeDocument/2006/relationships/image" Target="../media/image19.png"/><Relationship Id="rId32" Type="http://schemas.openxmlformats.org/officeDocument/2006/relationships/image" Target="../media/image19.png"/><Relationship Id="rId33" Type="http://schemas.openxmlformats.org/officeDocument/2006/relationships/image" Target="../media/image19.png"/><Relationship Id="rId3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image" Target="../media/image17.png"/><Relationship Id="rId29" Type="http://schemas.openxmlformats.org/officeDocument/2006/relationships/image" Target="../media/image17.png"/><Relationship Id="rId30" Type="http://schemas.openxmlformats.org/officeDocument/2006/relationships/image" Target="../media/image17.png"/><Relationship Id="rId31" Type="http://schemas.openxmlformats.org/officeDocument/2006/relationships/image" Target="../media/image17.png"/><Relationship Id="rId32" Type="http://schemas.openxmlformats.org/officeDocument/2006/relationships/image" Target="../media/image17.png"/><Relationship Id="rId33" Type="http://schemas.openxmlformats.org/officeDocument/2006/relationships/image" Target="../media/image17.png"/><Relationship Id="rId3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24680" y="205740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960" y="-36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Training &amp; Certification Requirement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76320" y="2514600"/>
          <a:ext cx="7848360" cy="43434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8" name=""/>
          <p:cNvGrpSpPr/>
          <p:nvPr/>
        </p:nvGrpSpPr>
        <p:grpSpPr>
          <a:xfrm>
            <a:off x="7848720" y="2863800"/>
            <a:ext cx="1371600" cy="3709800"/>
            <a:chOff x="7848720" y="2863800"/>
            <a:chExt cx="1371600" cy="3709800"/>
          </a:xfrm>
        </p:grpSpPr>
        <p:sp>
          <p:nvSpPr>
            <p:cNvPr id="89" name=""/>
            <p:cNvSpPr/>
            <p:nvPr/>
          </p:nvSpPr>
          <p:spPr>
            <a:xfrm>
              <a:off x="7848720" y="2863800"/>
              <a:ext cx="1371600" cy="10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CB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848720" y="423540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CBP 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848720" y="5683320"/>
              <a:ext cx="1371600" cy="8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CBP 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24680" y="52578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24680" y="3886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52280" y="3048120"/>
            <a:ext cx="1600200" cy="60948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4495680"/>
            <a:ext cx="1600200" cy="60984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5943600"/>
            <a:ext cx="1600200" cy="68580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28800" y="2590920"/>
            <a:ext cx="1728720" cy="4190400"/>
            <a:chOff x="1828800" y="2590920"/>
            <a:chExt cx="1728720" cy="4190400"/>
          </a:xfrm>
        </p:grpSpPr>
        <p:sp>
          <p:nvSpPr>
            <p:cNvPr id="98" name=""/>
            <p:cNvSpPr/>
            <p:nvPr/>
          </p:nvSpPr>
          <p:spPr>
            <a:xfrm>
              <a:off x="1828800" y="259092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8800" y="40384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5638680"/>
              <a:ext cx="172872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Technical &amp;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Servic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ebb11f"/>
                  </a:solidFill>
                  <a:latin typeface="Arial"/>
                </a:rPr>
                <a:t>Certification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976560" y="2590920"/>
            <a:ext cx="1814400" cy="4190400"/>
            <a:chOff x="3976560" y="2590920"/>
            <a:chExt cx="1814400" cy="4190400"/>
          </a:xfrm>
        </p:grpSpPr>
        <p:sp>
          <p:nvSpPr>
            <p:cNvPr id="102" name=""/>
            <p:cNvSpPr/>
            <p:nvPr/>
          </p:nvSpPr>
          <p:spPr>
            <a:xfrm>
              <a:off x="3976560" y="259092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76560" y="40384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76560" y="5638680"/>
              <a:ext cx="1814400" cy="1142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Produc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ff3300"/>
                  </a:solidFill>
                  <a:latin typeface="Arial"/>
                </a:rPr>
                <a:t>Knowled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251460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1066680"/>
            <a:ext cx="8229240" cy="1022400"/>
            <a:chOff x="0" y="1066680"/>
            <a:chExt cx="8229240" cy="1022400"/>
          </a:xfrm>
        </p:grpSpPr>
        <p:grpSp>
          <p:nvGrpSpPr>
            <p:cNvPr id="108" name=""/>
            <p:cNvGrpSpPr/>
            <p:nvPr/>
          </p:nvGrpSpPr>
          <p:grpSpPr>
            <a:xfrm>
              <a:off x="47520" y="1066680"/>
              <a:ext cx="1811880" cy="991800"/>
              <a:chOff x="47520" y="1066680"/>
              <a:chExt cx="1811880" cy="991800"/>
            </a:xfrm>
          </p:grpSpPr>
          <p:sp>
            <p:nvSpPr>
              <p:cNvPr id="109" name=""/>
              <p:cNvSpPr/>
              <p:nvPr/>
            </p:nvSpPr>
            <p:spPr>
              <a:xfrm>
                <a:off x="47520" y="1139760"/>
                <a:ext cx="18118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7000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47400" y="1168920"/>
                <a:ext cx="2394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47400" y="1110600"/>
                <a:ext cx="2394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7400" y="1066680"/>
                <a:ext cx="23940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3504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1000" y="1168920"/>
                <a:ext cx="23976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11000" y="1110600"/>
                <a:ext cx="23976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11000" y="1066680"/>
                <a:ext cx="23976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9900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074960" y="116892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074960" y="111060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074960" y="1066680"/>
                <a:ext cx="24084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362960" y="11962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438920" y="1168920"/>
                <a:ext cx="240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438920" y="1110600"/>
                <a:ext cx="2408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438920" y="1066680"/>
                <a:ext cx="24084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583280" y="1143360"/>
                <a:ext cx="27216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520" y="1492560"/>
                <a:ext cx="153684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1400" y="1381680"/>
                <a:ext cx="3193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07360" y="1354680"/>
                <a:ext cx="23976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07360" y="1296360"/>
                <a:ext cx="23976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7360" y="1252080"/>
                <a:ext cx="23976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9536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1320" y="135468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71320" y="129636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71320" y="1252080"/>
                <a:ext cx="24084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5932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934920" y="1354680"/>
                <a:ext cx="2408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34920" y="1296360"/>
                <a:ext cx="2408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34920" y="1252080"/>
                <a:ext cx="24084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22920" y="1381680"/>
                <a:ext cx="3204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300320" y="1354680"/>
                <a:ext cx="2394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00320" y="1296360"/>
                <a:ext cx="2394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00320" y="1252080"/>
                <a:ext cx="23940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1549440" y="1076040"/>
              <a:ext cx="1919160" cy="981000"/>
              <a:chOff x="1549440" y="1076040"/>
              <a:chExt cx="1919160" cy="981000"/>
            </a:xfrm>
          </p:grpSpPr>
          <p:sp>
            <p:nvSpPr>
              <p:cNvPr id="145" name=""/>
              <p:cNvSpPr/>
              <p:nvPr/>
            </p:nvSpPr>
            <p:spPr>
              <a:xfrm>
                <a:off x="1549440" y="1148400"/>
                <a:ext cx="191916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7852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66960" y="117684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866960" y="111960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66960" y="1076040"/>
                <a:ext cx="25380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17188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252520" y="1176840"/>
                <a:ext cx="25380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252520" y="1119600"/>
                <a:ext cx="25380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252520" y="1076040"/>
                <a:ext cx="25380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574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637720" y="117684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637720" y="111960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637720" y="1076040"/>
                <a:ext cx="25488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942640" y="1203480"/>
                <a:ext cx="3391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023280" y="1176840"/>
                <a:ext cx="25488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23280" y="1119600"/>
                <a:ext cx="25488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023280" y="1076040"/>
                <a:ext cx="25488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72320" y="1153440"/>
                <a:ext cx="28944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549440" y="1496520"/>
                <a:ext cx="1627920" cy="55872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638720" y="1386360"/>
                <a:ext cx="33804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719000" y="1360080"/>
                <a:ext cx="253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19000" y="1302480"/>
                <a:ext cx="2534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719000" y="1258920"/>
                <a:ext cx="25344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02392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04560" y="136008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104560" y="13024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104560" y="1258920"/>
                <a:ext cx="25488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40912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89760" y="1360080"/>
                <a:ext cx="254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489760" y="13024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89760" y="1258920"/>
                <a:ext cx="25488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794680" y="1386360"/>
                <a:ext cx="33912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6040" y="1360080"/>
                <a:ext cx="253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76040" y="1302480"/>
                <a:ext cx="25380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76040" y="1258920"/>
                <a:ext cx="25380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3175920" y="1066680"/>
              <a:ext cx="2005200" cy="988920"/>
              <a:chOff x="3175920" y="1066680"/>
              <a:chExt cx="2005200" cy="988920"/>
            </a:xfrm>
          </p:grpSpPr>
          <p:sp>
            <p:nvSpPr>
              <p:cNvPr id="181" name=""/>
              <p:cNvSpPr/>
              <p:nvPr/>
            </p:nvSpPr>
            <p:spPr>
              <a:xfrm>
                <a:off x="3175920" y="1139400"/>
                <a:ext cx="200520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3423240" y="1066680"/>
                <a:ext cx="353880" cy="212760"/>
                <a:chOff x="3423240" y="1066680"/>
                <a:chExt cx="353880" cy="2127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423240" y="1195560"/>
                  <a:ext cx="3538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3507480" y="1066680"/>
                  <a:ext cx="265680" cy="196200"/>
                  <a:chOff x="3507480" y="1066680"/>
                  <a:chExt cx="265680" cy="19620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3507480" y="1168200"/>
                    <a:ext cx="26568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>
                    <a:off x="3507480" y="1110240"/>
                    <a:ext cx="26568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3507480" y="1066680"/>
                    <a:ext cx="26568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3826080" y="1066680"/>
                <a:ext cx="354240" cy="212760"/>
                <a:chOff x="3826080" y="1066680"/>
                <a:chExt cx="354240" cy="2127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382608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3910680" y="1066680"/>
                  <a:ext cx="266040" cy="196200"/>
                  <a:chOff x="3910680" y="1066680"/>
                  <a:chExt cx="266040" cy="196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391068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391068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391068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4228920" y="1066680"/>
                <a:ext cx="354240" cy="212760"/>
                <a:chOff x="4228920" y="1066680"/>
                <a:chExt cx="354240" cy="212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22892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96" name=""/>
                <p:cNvGrpSpPr/>
                <p:nvPr/>
              </p:nvGrpSpPr>
              <p:grpSpPr>
                <a:xfrm>
                  <a:off x="4313520" y="1066680"/>
                  <a:ext cx="266040" cy="196200"/>
                  <a:chOff x="4313520" y="1066680"/>
                  <a:chExt cx="266040" cy="1962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>
                    <a:off x="431352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431352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431352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" name=""/>
              <p:cNvGrpSpPr/>
              <p:nvPr/>
            </p:nvGrpSpPr>
            <p:grpSpPr>
              <a:xfrm>
                <a:off x="4631760" y="1066680"/>
                <a:ext cx="354240" cy="212760"/>
                <a:chOff x="4631760" y="1066680"/>
                <a:chExt cx="354240" cy="2127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631760" y="119556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2" name=""/>
                <p:cNvGrpSpPr/>
                <p:nvPr/>
              </p:nvGrpSpPr>
              <p:grpSpPr>
                <a:xfrm>
                  <a:off x="4716360" y="1066680"/>
                  <a:ext cx="266040" cy="196200"/>
                  <a:chOff x="4716360" y="1066680"/>
                  <a:chExt cx="266040" cy="19620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>
                    <a:off x="4716360" y="116820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4716360" y="111024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4716360" y="106668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6" name=""/>
              <p:cNvSpPr/>
              <p:nvPr/>
            </p:nvSpPr>
            <p:spPr>
              <a:xfrm>
                <a:off x="4871880" y="1144440"/>
                <a:ext cx="30276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175920" y="1490040"/>
                <a:ext cx="170100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3268440" y="1251360"/>
                <a:ext cx="354240" cy="212760"/>
                <a:chOff x="3268440" y="1251360"/>
                <a:chExt cx="354240" cy="21276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26844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3353040" y="1251360"/>
                  <a:ext cx="266040" cy="196200"/>
                  <a:chOff x="3353040" y="1251360"/>
                  <a:chExt cx="266040" cy="19620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335304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35304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35304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" name=""/>
              <p:cNvGrpSpPr/>
              <p:nvPr/>
            </p:nvGrpSpPr>
            <p:grpSpPr>
              <a:xfrm>
                <a:off x="3671280" y="1251360"/>
                <a:ext cx="354240" cy="212760"/>
                <a:chOff x="3671280" y="1251360"/>
                <a:chExt cx="354240" cy="21276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367128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6" name=""/>
                <p:cNvGrpSpPr/>
                <p:nvPr/>
              </p:nvGrpSpPr>
              <p:grpSpPr>
                <a:xfrm>
                  <a:off x="3755880" y="1251360"/>
                  <a:ext cx="266040" cy="196200"/>
                  <a:chOff x="3755880" y="1251360"/>
                  <a:chExt cx="266040" cy="19620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>
                    <a:off x="375588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75588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75588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" name=""/>
              <p:cNvGrpSpPr/>
              <p:nvPr/>
            </p:nvGrpSpPr>
            <p:grpSpPr>
              <a:xfrm>
                <a:off x="4074120" y="1251360"/>
                <a:ext cx="354240" cy="212760"/>
                <a:chOff x="4074120" y="1251360"/>
                <a:chExt cx="354240" cy="2127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407412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4158720" y="1251360"/>
                  <a:ext cx="266040" cy="196200"/>
                  <a:chOff x="4158720" y="1251360"/>
                  <a:chExt cx="266040" cy="1962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>
                    <a:off x="415872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415872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15872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" name=""/>
              <p:cNvGrpSpPr/>
              <p:nvPr/>
            </p:nvGrpSpPr>
            <p:grpSpPr>
              <a:xfrm>
                <a:off x="4477320" y="1251360"/>
                <a:ext cx="354240" cy="212760"/>
                <a:chOff x="4477320" y="1251360"/>
                <a:chExt cx="354240" cy="2127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4477320" y="1380240"/>
                  <a:ext cx="35424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28" name=""/>
                <p:cNvGrpSpPr/>
                <p:nvPr/>
              </p:nvGrpSpPr>
              <p:grpSpPr>
                <a:xfrm>
                  <a:off x="4561920" y="1251360"/>
                  <a:ext cx="266040" cy="196200"/>
                  <a:chOff x="4561920" y="1251360"/>
                  <a:chExt cx="266040" cy="19620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>
                    <a:off x="4561920" y="1352880"/>
                    <a:ext cx="26604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561920" y="1294920"/>
                    <a:ext cx="26604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561920" y="1251360"/>
                    <a:ext cx="26604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2" name=""/>
            <p:cNvGrpSpPr/>
            <p:nvPr/>
          </p:nvGrpSpPr>
          <p:grpSpPr>
            <a:xfrm>
              <a:off x="4835880" y="1077840"/>
              <a:ext cx="1928520" cy="981000"/>
              <a:chOff x="4835880" y="1077840"/>
              <a:chExt cx="1928520" cy="981000"/>
            </a:xfrm>
          </p:grpSpPr>
          <p:sp>
            <p:nvSpPr>
              <p:cNvPr id="233" name=""/>
              <p:cNvSpPr/>
              <p:nvPr/>
            </p:nvSpPr>
            <p:spPr>
              <a:xfrm>
                <a:off x="4835880" y="1149840"/>
                <a:ext cx="1928520" cy="349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07312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54840" y="117864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54840" y="112104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54840" y="1077840"/>
                <a:ext cx="25524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6156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542200" y="1178640"/>
                <a:ext cx="25524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542200" y="1121040"/>
                <a:ext cx="25524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542200" y="1077840"/>
                <a:ext cx="25524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856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29560" y="117864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29560" y="112104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29560" y="1077840"/>
                <a:ext cx="25632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235920" y="120528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16920" y="1178640"/>
                <a:ext cx="2563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316920" y="1121040"/>
                <a:ext cx="2563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316920" y="1077840"/>
                <a:ext cx="25632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466680" y="1155240"/>
                <a:ext cx="290880" cy="9036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835880" y="1497960"/>
                <a:ext cx="163584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25520" y="1388160"/>
                <a:ext cx="3398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006520" y="1361880"/>
                <a:ext cx="25488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006520" y="1304280"/>
                <a:ext cx="25488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006520" y="1260720"/>
                <a:ext cx="25488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31288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393520" y="136188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93520" y="130428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393520" y="1260720"/>
                <a:ext cx="25632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9988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780520" y="1361880"/>
                <a:ext cx="2563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780520" y="1304280"/>
                <a:ext cx="2563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780520" y="1260720"/>
                <a:ext cx="25632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87240" y="1388160"/>
                <a:ext cx="3409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168960" y="1361880"/>
                <a:ext cx="25524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168960" y="1304280"/>
                <a:ext cx="25524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168960" y="1260720"/>
                <a:ext cx="25524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1559880" y="15764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38000" y="15764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49000" y="15764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1536480"/>
              <a:ext cx="15721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6447960" y="1077840"/>
              <a:ext cx="1781280" cy="981000"/>
              <a:chOff x="6447960" y="1077840"/>
              <a:chExt cx="1781280" cy="981000"/>
            </a:xfrm>
          </p:grpSpPr>
          <p:sp>
            <p:nvSpPr>
              <p:cNvPr id="273" name=""/>
              <p:cNvSpPr/>
              <p:nvPr/>
            </p:nvSpPr>
            <p:spPr>
              <a:xfrm>
                <a:off x="6447960" y="1150200"/>
                <a:ext cx="17812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66684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42800" y="117900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42800" y="112140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42800" y="1077840"/>
                <a:ext cx="23544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2576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100640" y="1179000"/>
                <a:ext cx="23544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100640" y="1121400"/>
                <a:ext cx="23544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100640" y="1077840"/>
                <a:ext cx="23544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8360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458120" y="117900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458120" y="112140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58120" y="1077840"/>
                <a:ext cx="23688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741080" y="1205640"/>
                <a:ext cx="31500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815600" y="1179000"/>
                <a:ext cx="2368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7815600" y="1121400"/>
                <a:ext cx="236880" cy="1072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815600" y="1077840"/>
                <a:ext cx="23688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957800" y="1153440"/>
                <a:ext cx="26748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447960" y="1499040"/>
                <a:ext cx="151128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30760" y="1389240"/>
                <a:ext cx="3135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605280" y="136260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605280" y="1305000"/>
                <a:ext cx="23580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605280" y="1261080"/>
                <a:ext cx="23580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88824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963120" y="136260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963120" y="130500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63120" y="1261080"/>
                <a:ext cx="23688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4608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320600" y="136260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20600" y="1305000"/>
                <a:ext cx="2368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20600" y="1261080"/>
                <a:ext cx="23688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603920" y="1389240"/>
                <a:ext cx="31500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679520" y="136260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79520" y="1305000"/>
                <a:ext cx="2354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7679520" y="1261080"/>
                <a:ext cx="23544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6585480" y="1552320"/>
              <a:ext cx="12135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7924680" y="220968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B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828800" y="2057400"/>
            <a:ext cx="3886200" cy="40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Sin requisitos de entrenamient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6095880" y="2133720"/>
            <a:ext cx="1752840" cy="4647960"/>
            <a:chOff x="6095880" y="2133720"/>
            <a:chExt cx="1752840" cy="4647960"/>
          </a:xfrm>
        </p:grpSpPr>
        <p:sp>
          <p:nvSpPr>
            <p:cNvPr id="312" name=""/>
            <p:cNvSpPr/>
            <p:nvPr/>
          </p:nvSpPr>
          <p:spPr>
            <a:xfrm>
              <a:off x="6119640" y="259092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119640" y="40384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19640" y="5638680"/>
              <a:ext cx="1729080" cy="1143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ale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000" spc="-1" strike="noStrike">
                  <a:solidFill>
                    <a:srgbClr val="33cc33"/>
                  </a:solidFill>
                  <a:latin typeface="Arial"/>
                </a:rPr>
                <a:t>Skill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095880" y="2133720"/>
              <a:ext cx="1752840" cy="3045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cff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400" spc="-1" strike="noStrike">
                  <a:solidFill>
                    <a:srgbClr val="33cc33"/>
                  </a:solidFill>
                  <a:latin typeface="Arial"/>
                </a:rPr>
                <a:t>Sales  Skill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1005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ebb11f"/>
                </a:solidFill>
                <a:latin typeface="Arial"/>
              </a:rPr>
              <a:t>Technical &amp; Services Certification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52280" y="2362320"/>
          <a:ext cx="7772400" cy="4495680"/>
        </p:xfrm>
        <a:graphic>
          <a:graphicData uri="http://schemas.openxmlformats.org/drawingml/2006/table">
            <a:tbl>
              <a:tblPr/>
              <a:tblGrid>
                <a:gridCol w="6324840"/>
                <a:gridCol w="14475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8" name=""/>
          <p:cNvGrpSpPr/>
          <p:nvPr/>
        </p:nvGrpSpPr>
        <p:grpSpPr>
          <a:xfrm>
            <a:off x="7924680" y="2529000"/>
            <a:ext cx="1371600" cy="3528000"/>
            <a:chOff x="7924680" y="2529000"/>
            <a:chExt cx="1371600" cy="3528000"/>
          </a:xfrm>
        </p:grpSpPr>
        <p:sp>
          <p:nvSpPr>
            <p:cNvPr id="319" name=""/>
            <p:cNvSpPr/>
            <p:nvPr/>
          </p:nvSpPr>
          <p:spPr>
            <a:xfrm>
              <a:off x="7924680" y="25290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24680" y="39006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924680" y="541008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24680" y="50292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24680" y="365760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590920" y="259092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6705720" y="3886200"/>
            <a:ext cx="990360" cy="990720"/>
            <a:chOff x="6705720" y="3886200"/>
            <a:chExt cx="990360" cy="990720"/>
          </a:xfrm>
        </p:grpSpPr>
        <p:sp>
          <p:nvSpPr>
            <p:cNvPr id="326" name=""/>
            <p:cNvSpPr/>
            <p:nvPr/>
          </p:nvSpPr>
          <p:spPr>
            <a:xfrm>
              <a:off x="6857640" y="3886200"/>
              <a:ext cx="7617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2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05720" y="4267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05720" y="464832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ASE Fu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705720" y="2724120"/>
            <a:ext cx="990360" cy="628560"/>
            <a:chOff x="6705720" y="2724120"/>
            <a:chExt cx="990360" cy="628560"/>
          </a:xfrm>
        </p:grpSpPr>
        <p:sp>
          <p:nvSpPr>
            <p:cNvPr id="330" name=""/>
            <p:cNvSpPr/>
            <p:nvPr/>
          </p:nvSpPr>
          <p:spPr>
            <a:xfrm>
              <a:off x="6857640" y="2724120"/>
              <a:ext cx="761760" cy="247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05720" y="312408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s.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705720" y="5410080"/>
            <a:ext cx="990360" cy="1295640"/>
            <a:chOff x="6705720" y="5410080"/>
            <a:chExt cx="990360" cy="1295640"/>
          </a:xfrm>
        </p:grpSpPr>
        <p:sp>
          <p:nvSpPr>
            <p:cNvPr id="333" name=""/>
            <p:cNvSpPr/>
            <p:nvPr/>
          </p:nvSpPr>
          <p:spPr>
            <a:xfrm>
              <a:off x="6857640" y="5410080"/>
              <a:ext cx="7617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3 AC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705720" y="5791320"/>
              <a:ext cx="9903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 ASE Ful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05720" y="6172200"/>
              <a:ext cx="99036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8e3a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1Master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AS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14400" y="541008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6320" y="1447920"/>
            <a:ext cx="8153280" cy="982080"/>
            <a:chOff x="76320" y="1447920"/>
            <a:chExt cx="8153280" cy="982080"/>
          </a:xfrm>
        </p:grpSpPr>
        <p:grpSp>
          <p:nvGrpSpPr>
            <p:cNvPr id="339" name=""/>
            <p:cNvGrpSpPr/>
            <p:nvPr/>
          </p:nvGrpSpPr>
          <p:grpSpPr>
            <a:xfrm>
              <a:off x="123840" y="1447920"/>
              <a:ext cx="1781280" cy="914760"/>
              <a:chOff x="123840" y="1447920"/>
              <a:chExt cx="1781280" cy="914760"/>
            </a:xfrm>
          </p:grpSpPr>
          <p:sp>
            <p:nvSpPr>
              <p:cNvPr id="340" name=""/>
              <p:cNvSpPr/>
              <p:nvPr/>
            </p:nvSpPr>
            <p:spPr>
              <a:xfrm>
                <a:off x="123840" y="1515240"/>
                <a:ext cx="1781280" cy="3283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4272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8680" y="1542240"/>
                <a:ext cx="23544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8680" y="1488600"/>
                <a:ext cx="23544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8680" y="1447920"/>
                <a:ext cx="235440" cy="8748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0128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76160" y="1542240"/>
                <a:ext cx="23580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76160" y="1488600"/>
                <a:ext cx="23580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76160" y="1447920"/>
                <a:ext cx="235800" cy="8748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05912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134000" y="154224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134000" y="148860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134000" y="1447920"/>
                <a:ext cx="236880" cy="8748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416960" y="156744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491480" y="1542240"/>
                <a:ext cx="236880" cy="874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491480" y="1488600"/>
                <a:ext cx="236880" cy="10044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491480" y="1447920"/>
                <a:ext cx="236880" cy="874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33680" y="1518480"/>
                <a:ext cx="267480" cy="843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3840" y="1840680"/>
                <a:ext cx="1510920" cy="52200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6280" y="1738080"/>
                <a:ext cx="31392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81160" y="1713240"/>
                <a:ext cx="23580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81160" y="1659600"/>
                <a:ext cx="23580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81160" y="1618920"/>
                <a:ext cx="235800" cy="874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6412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39000" y="171324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9000" y="165960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39000" y="1618920"/>
                <a:ext cx="236880" cy="874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92196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996480" y="1713240"/>
                <a:ext cx="23688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996480" y="1659600"/>
                <a:ext cx="23688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996480" y="1618920"/>
                <a:ext cx="236880" cy="874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279440" y="1738080"/>
                <a:ext cx="315000" cy="7812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400" bIns="32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5400" y="1713240"/>
                <a:ext cx="235440" cy="8820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355400" y="1659600"/>
                <a:ext cx="235440" cy="1011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355400" y="1618920"/>
                <a:ext cx="235440" cy="874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600200" y="1449000"/>
              <a:ext cx="1887480" cy="903960"/>
              <a:chOff x="1600200" y="1449000"/>
              <a:chExt cx="1887480" cy="903960"/>
            </a:xfrm>
          </p:grpSpPr>
          <p:sp>
            <p:nvSpPr>
              <p:cNvPr id="376" name=""/>
              <p:cNvSpPr/>
              <p:nvPr/>
            </p:nvSpPr>
            <p:spPr>
              <a:xfrm>
                <a:off x="1600200" y="1515600"/>
                <a:ext cx="1887480" cy="3222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3240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912320" y="154188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912320" y="148896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912320" y="1449000"/>
                <a:ext cx="249840" cy="8604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21256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291400" y="1541880"/>
                <a:ext cx="24984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291400" y="1488960"/>
                <a:ext cx="24984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291400" y="1449000"/>
                <a:ext cx="249840" cy="8604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59164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670480" y="1541880"/>
                <a:ext cx="25092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670480" y="1488960"/>
                <a:ext cx="25092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670480" y="1449000"/>
                <a:ext cx="250920" cy="8604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970360" y="156636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049560" y="1541880"/>
                <a:ext cx="250560" cy="860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560" y="1488960"/>
                <a:ext cx="250560" cy="9864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049560" y="1449000"/>
                <a:ext cx="250560" cy="8604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96080" y="1520280"/>
                <a:ext cx="284760" cy="8326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600200" y="1836360"/>
                <a:ext cx="1600920" cy="51480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688040" y="1735200"/>
                <a:ext cx="33264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767240" y="1710720"/>
                <a:ext cx="24948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67240" y="1657800"/>
                <a:ext cx="24948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767240" y="1617480"/>
                <a:ext cx="249480" cy="8604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206712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145960" y="171072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145960" y="165780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145960" y="1617480"/>
                <a:ext cx="250560" cy="8604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44584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525040" y="171072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525040" y="165780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25040" y="1617480"/>
                <a:ext cx="250920" cy="8604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824920" y="1735200"/>
                <a:ext cx="3337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2905200" y="1710720"/>
                <a:ext cx="249840" cy="8712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905200" y="1657800"/>
                <a:ext cx="249840" cy="1000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05200" y="1617480"/>
                <a:ext cx="249840" cy="8604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3200400" y="1449000"/>
              <a:ext cx="1971720" cy="911880"/>
              <a:chOff x="3200400" y="1449000"/>
              <a:chExt cx="1971720" cy="911880"/>
            </a:xfrm>
          </p:grpSpPr>
          <p:sp>
            <p:nvSpPr>
              <p:cNvPr id="412" name=""/>
              <p:cNvSpPr/>
              <p:nvPr/>
            </p:nvSpPr>
            <p:spPr>
              <a:xfrm>
                <a:off x="3200400" y="1515960"/>
                <a:ext cx="1971720" cy="325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3443400" y="1449000"/>
                <a:ext cx="348120" cy="196200"/>
                <a:chOff x="3443400" y="1449000"/>
                <a:chExt cx="348120" cy="1962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443400" y="1567800"/>
                  <a:ext cx="34812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15" name=""/>
                <p:cNvGrpSpPr/>
                <p:nvPr/>
              </p:nvGrpSpPr>
              <p:grpSpPr>
                <a:xfrm>
                  <a:off x="3526560" y="1449000"/>
                  <a:ext cx="261360" cy="181080"/>
                  <a:chOff x="3526560" y="1449000"/>
                  <a:chExt cx="261360" cy="181080"/>
                </a:xfrm>
              </p:grpSpPr>
              <p:sp>
                <p:nvSpPr>
                  <p:cNvPr id="416" name=""/>
                  <p:cNvSpPr/>
                  <p:nvPr/>
                </p:nvSpPr>
                <p:spPr>
                  <a:xfrm>
                    <a:off x="3526560" y="1542600"/>
                    <a:ext cx="26136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3526560" y="1489320"/>
                    <a:ext cx="26136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3526560" y="1449000"/>
                    <a:ext cx="26136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9" name=""/>
              <p:cNvGrpSpPr/>
              <p:nvPr/>
            </p:nvGrpSpPr>
            <p:grpSpPr>
              <a:xfrm>
                <a:off x="3839760" y="1449000"/>
                <a:ext cx="348480" cy="196200"/>
                <a:chOff x="3839760" y="1449000"/>
                <a:chExt cx="348480" cy="1962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3839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1" name=""/>
                <p:cNvGrpSpPr/>
                <p:nvPr/>
              </p:nvGrpSpPr>
              <p:grpSpPr>
                <a:xfrm>
                  <a:off x="3922920" y="1449000"/>
                  <a:ext cx="261720" cy="181080"/>
                  <a:chOff x="3922920" y="1449000"/>
                  <a:chExt cx="261720" cy="181080"/>
                </a:xfrm>
              </p:grpSpPr>
              <p:sp>
                <p:nvSpPr>
                  <p:cNvPr id="422" name=""/>
                  <p:cNvSpPr/>
                  <p:nvPr/>
                </p:nvSpPr>
                <p:spPr>
                  <a:xfrm>
                    <a:off x="3922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3922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3922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5" name=""/>
              <p:cNvGrpSpPr/>
              <p:nvPr/>
            </p:nvGrpSpPr>
            <p:grpSpPr>
              <a:xfrm>
                <a:off x="4235760" y="1449000"/>
                <a:ext cx="348480" cy="196200"/>
                <a:chOff x="4235760" y="1449000"/>
                <a:chExt cx="348480" cy="196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235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27" name=""/>
                <p:cNvGrpSpPr/>
                <p:nvPr/>
              </p:nvGrpSpPr>
              <p:grpSpPr>
                <a:xfrm>
                  <a:off x="4318920" y="1449000"/>
                  <a:ext cx="261720" cy="181080"/>
                  <a:chOff x="4318920" y="1449000"/>
                  <a:chExt cx="261720" cy="181080"/>
                </a:xfrm>
              </p:grpSpPr>
              <p:sp>
                <p:nvSpPr>
                  <p:cNvPr id="428" name=""/>
                  <p:cNvSpPr/>
                  <p:nvPr/>
                </p:nvSpPr>
                <p:spPr>
                  <a:xfrm>
                    <a:off x="4318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4318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4318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1" name=""/>
              <p:cNvGrpSpPr/>
              <p:nvPr/>
            </p:nvGrpSpPr>
            <p:grpSpPr>
              <a:xfrm>
                <a:off x="4631760" y="1449000"/>
                <a:ext cx="348480" cy="196200"/>
                <a:chOff x="4631760" y="1449000"/>
                <a:chExt cx="348480" cy="1962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4631760" y="156780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4714920" y="1449000"/>
                  <a:ext cx="261720" cy="181080"/>
                  <a:chOff x="4714920" y="1449000"/>
                  <a:chExt cx="261720" cy="18108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4714920" y="154260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4714920" y="148932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4714920" y="144900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7" name=""/>
              <p:cNvSpPr/>
              <p:nvPr/>
            </p:nvSpPr>
            <p:spPr>
              <a:xfrm>
                <a:off x="4867920" y="1520640"/>
                <a:ext cx="297720" cy="840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200400" y="1839600"/>
                <a:ext cx="1672920" cy="519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3291480" y="1619280"/>
                <a:ext cx="348480" cy="196200"/>
                <a:chOff x="3291480" y="1619280"/>
                <a:chExt cx="348480" cy="1962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329148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1" name=""/>
                <p:cNvGrpSpPr/>
                <p:nvPr/>
              </p:nvGrpSpPr>
              <p:grpSpPr>
                <a:xfrm>
                  <a:off x="3374640" y="1619280"/>
                  <a:ext cx="261720" cy="181080"/>
                  <a:chOff x="3374640" y="1619280"/>
                  <a:chExt cx="261720" cy="181080"/>
                </a:xfrm>
              </p:grpSpPr>
              <p:sp>
                <p:nvSpPr>
                  <p:cNvPr id="442" name=""/>
                  <p:cNvSpPr/>
                  <p:nvPr/>
                </p:nvSpPr>
                <p:spPr>
                  <a:xfrm>
                    <a:off x="337464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>
                    <a:off x="337464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>
                    <a:off x="337464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687480" y="1619280"/>
                <a:ext cx="348480" cy="196200"/>
                <a:chOff x="3687480" y="1619280"/>
                <a:chExt cx="348480" cy="19620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68748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770640" y="1619280"/>
                  <a:ext cx="261720" cy="181080"/>
                  <a:chOff x="3770640" y="1619280"/>
                  <a:chExt cx="261720" cy="18108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>
                    <a:off x="377064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>
                    <a:off x="377064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>
                    <a:off x="377064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1" name=""/>
              <p:cNvGrpSpPr/>
              <p:nvPr/>
            </p:nvGrpSpPr>
            <p:grpSpPr>
              <a:xfrm>
                <a:off x="4083840" y="1619280"/>
                <a:ext cx="348480" cy="196200"/>
                <a:chOff x="4083840" y="1619280"/>
                <a:chExt cx="348480" cy="19620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408384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3" name=""/>
                <p:cNvGrpSpPr/>
                <p:nvPr/>
              </p:nvGrpSpPr>
              <p:grpSpPr>
                <a:xfrm>
                  <a:off x="4167000" y="1619280"/>
                  <a:ext cx="261720" cy="181080"/>
                  <a:chOff x="4167000" y="1619280"/>
                  <a:chExt cx="261720" cy="181080"/>
                </a:xfrm>
              </p:grpSpPr>
              <p:sp>
                <p:nvSpPr>
                  <p:cNvPr id="454" name=""/>
                  <p:cNvSpPr/>
                  <p:nvPr/>
                </p:nvSpPr>
                <p:spPr>
                  <a:xfrm>
                    <a:off x="416700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416700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6" name=""/>
                  <p:cNvSpPr/>
                  <p:nvPr/>
                </p:nvSpPr>
                <p:spPr>
                  <a:xfrm>
                    <a:off x="416700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7" name=""/>
              <p:cNvGrpSpPr/>
              <p:nvPr/>
            </p:nvGrpSpPr>
            <p:grpSpPr>
              <a:xfrm>
                <a:off x="4479840" y="1619280"/>
                <a:ext cx="348480" cy="196200"/>
                <a:chOff x="4479840" y="1619280"/>
                <a:chExt cx="348480" cy="19620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479840" y="1738080"/>
                  <a:ext cx="348480" cy="7740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9" name=""/>
                <p:cNvGrpSpPr/>
                <p:nvPr/>
              </p:nvGrpSpPr>
              <p:grpSpPr>
                <a:xfrm>
                  <a:off x="4563000" y="1619280"/>
                  <a:ext cx="261720" cy="181080"/>
                  <a:chOff x="4563000" y="1619280"/>
                  <a:chExt cx="261720" cy="181080"/>
                </a:xfrm>
              </p:grpSpPr>
              <p:sp>
                <p:nvSpPr>
                  <p:cNvPr id="460" name=""/>
                  <p:cNvSpPr/>
                  <p:nvPr/>
                </p:nvSpPr>
                <p:spPr>
                  <a:xfrm>
                    <a:off x="4563000" y="1712880"/>
                    <a:ext cx="261720" cy="874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"/>
                  <p:cNvSpPr/>
                  <p:nvPr/>
                </p:nvSpPr>
                <p:spPr>
                  <a:xfrm>
                    <a:off x="4563000" y="1659600"/>
                    <a:ext cx="261720" cy="10008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"/>
                  <p:cNvSpPr/>
                  <p:nvPr/>
                </p:nvSpPr>
                <p:spPr>
                  <a:xfrm>
                    <a:off x="4563000" y="1619280"/>
                    <a:ext cx="261720" cy="874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480" bIns="154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63" name=""/>
            <p:cNvGrpSpPr/>
            <p:nvPr/>
          </p:nvGrpSpPr>
          <p:grpSpPr>
            <a:xfrm>
              <a:off x="4876920" y="1457640"/>
              <a:ext cx="1897200" cy="904320"/>
              <a:chOff x="4876920" y="1457640"/>
              <a:chExt cx="1897200" cy="904320"/>
            </a:xfrm>
          </p:grpSpPr>
          <p:sp>
            <p:nvSpPr>
              <p:cNvPr id="464" name=""/>
              <p:cNvSpPr/>
              <p:nvPr/>
            </p:nvSpPr>
            <p:spPr>
              <a:xfrm>
                <a:off x="4876920" y="1523880"/>
                <a:ext cx="1897200" cy="32292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11020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190840" y="155052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190840" y="149760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190840" y="1457640"/>
                <a:ext cx="250920" cy="8604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9216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571720" y="1550520"/>
                <a:ext cx="25092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571720" y="1497600"/>
                <a:ext cx="25092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71720" y="1457640"/>
                <a:ext cx="250920" cy="8604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7340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952960" y="155052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952960" y="149760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952960" y="1457640"/>
                <a:ext cx="252000" cy="8604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254280" y="157536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33840" y="1550520"/>
                <a:ext cx="252000" cy="864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333840" y="1497600"/>
                <a:ext cx="252000" cy="990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33840" y="1457640"/>
                <a:ext cx="252000" cy="8604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481440" y="1528920"/>
                <a:ext cx="286200" cy="8330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876920" y="1845000"/>
                <a:ext cx="1609200" cy="51516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65120" y="1743840"/>
                <a:ext cx="33408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44680" y="1719360"/>
                <a:ext cx="25056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44680" y="1666440"/>
                <a:ext cx="25056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44680" y="1626120"/>
                <a:ext cx="250560" cy="8604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34600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425560" y="171936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425560" y="166644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425560" y="1626120"/>
                <a:ext cx="252000" cy="8604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72688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06440" y="1719360"/>
                <a:ext cx="25200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06440" y="1666440"/>
                <a:ext cx="25200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06440" y="1626120"/>
                <a:ext cx="252000" cy="8604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107760" y="1743840"/>
                <a:ext cx="3351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188400" y="1719360"/>
                <a:ext cx="250920" cy="871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188400" y="1666440"/>
                <a:ext cx="250920" cy="1000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88400" y="1626120"/>
                <a:ext cx="250920" cy="8604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1601280" y="191736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449520" y="191736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31360" y="191736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6320" y="188100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6477120" y="1457640"/>
              <a:ext cx="1752480" cy="904680"/>
              <a:chOff x="6477120" y="1457640"/>
              <a:chExt cx="1752480" cy="904680"/>
            </a:xfrm>
          </p:grpSpPr>
          <p:sp>
            <p:nvSpPr>
              <p:cNvPr id="504" name=""/>
              <p:cNvSpPr/>
              <p:nvPr/>
            </p:nvSpPr>
            <p:spPr>
              <a:xfrm>
                <a:off x="6477120" y="1524240"/>
                <a:ext cx="1752480" cy="3243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69240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766920" y="155088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766920" y="149796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66920" y="1457640"/>
                <a:ext cx="231480" cy="864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04556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119000" y="1550880"/>
                <a:ext cx="23148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119000" y="1497960"/>
                <a:ext cx="23148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119000" y="1457640"/>
                <a:ext cx="231480" cy="864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39764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470720" y="155088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470720" y="149796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470720" y="1457640"/>
                <a:ext cx="232920" cy="864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749360" y="1575360"/>
                <a:ext cx="309960" cy="777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2040" bIns="32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7822800" y="1550880"/>
                <a:ext cx="232920" cy="864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822800" y="1497960"/>
                <a:ext cx="232920" cy="990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822800" y="1457640"/>
                <a:ext cx="232920" cy="864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962480" y="1527120"/>
                <a:ext cx="263160" cy="83484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477120" y="1846080"/>
                <a:ext cx="1486800" cy="51624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8480" y="1744560"/>
                <a:ext cx="30852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631920" y="1720080"/>
                <a:ext cx="23184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631920" y="1667160"/>
                <a:ext cx="23184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631920" y="1626840"/>
                <a:ext cx="231840" cy="864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1020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983640" y="172008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983640" y="166716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983640" y="1626840"/>
                <a:ext cx="232920" cy="864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26228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335720" y="1720080"/>
                <a:ext cx="23292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335720" y="1667160"/>
                <a:ext cx="23292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335720" y="1626840"/>
                <a:ext cx="232920" cy="864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7614360" y="1744560"/>
                <a:ext cx="309960" cy="77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1680" bIns="31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688880" y="1720080"/>
                <a:ext cx="231480" cy="871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688880" y="1667160"/>
                <a:ext cx="231480" cy="1000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688880" y="1626840"/>
                <a:ext cx="231480" cy="864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6553440" y="189540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914400" y="3886200"/>
            <a:ext cx="2286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sociate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AlphaServer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733920" y="3886200"/>
            <a:ext cx="22096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809880" y="5410080"/>
            <a:ext cx="221004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"/>
          <p:cNvGraphicFramePr/>
          <p:nvPr/>
        </p:nvGraphicFramePr>
        <p:xfrm>
          <a:off x="0" y="2286000"/>
          <a:ext cx="8305920" cy="4571640"/>
        </p:xfrm>
        <a:graphic>
          <a:graphicData uri="http://schemas.openxmlformats.org/drawingml/2006/table">
            <a:tbl>
              <a:tblPr/>
              <a:tblGrid>
                <a:gridCol w="8305920"/>
              </a:tblGrid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4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"/>
          <p:cNvSpPr/>
          <p:nvPr/>
        </p:nvSpPr>
        <p:spPr>
          <a:xfrm>
            <a:off x="8077320" y="25909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077320" y="388620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ermedia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8eb6e"/>
                </a:solidFill>
                <a:latin typeface="Arial"/>
              </a:rPr>
              <a:t>Premi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077320" y="5562720"/>
            <a:ext cx="1371600" cy="6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Adv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Strate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0" y="1143000"/>
            <a:ext cx="8305560" cy="930600"/>
            <a:chOff x="0" y="1143000"/>
            <a:chExt cx="8305560" cy="930600"/>
          </a:xfrm>
        </p:grpSpPr>
        <p:grpSp>
          <p:nvGrpSpPr>
            <p:cNvPr id="549" name=""/>
            <p:cNvGrpSpPr/>
            <p:nvPr/>
          </p:nvGrpSpPr>
          <p:grpSpPr>
            <a:xfrm>
              <a:off x="48240" y="1143000"/>
              <a:ext cx="1828800" cy="693360"/>
              <a:chOff x="48240" y="1143000"/>
              <a:chExt cx="1828800" cy="693360"/>
            </a:xfrm>
          </p:grpSpPr>
          <p:sp>
            <p:nvSpPr>
              <p:cNvPr id="550" name=""/>
              <p:cNvSpPr/>
              <p:nvPr/>
            </p:nvSpPr>
            <p:spPr>
              <a:xfrm>
                <a:off x="48240" y="119412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7288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51000" y="121428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1000" y="117360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1000" y="114300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4116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17840" y="121428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17840" y="117360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17840" y="114300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0087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08504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08504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085040" y="114300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375920" y="12333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52600" y="121428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52600" y="117360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52600" y="114300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598400" y="119664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240" y="144072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32840" y="136296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09520" y="134424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9520" y="130356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09520" y="127260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04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7708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7708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7080" y="127260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676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43920" y="134424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43920" y="130356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43920" y="127260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234800" y="136296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312560" y="134424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12560" y="130356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312560" y="127260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1563840" y="1149480"/>
              <a:ext cx="1936800" cy="685440"/>
              <a:chOff x="1563840" y="1149480"/>
              <a:chExt cx="1936800" cy="685440"/>
            </a:xfrm>
          </p:grpSpPr>
          <p:sp>
            <p:nvSpPr>
              <p:cNvPr id="586" name=""/>
              <p:cNvSpPr/>
              <p:nvPr/>
            </p:nvSpPr>
            <p:spPr>
              <a:xfrm>
                <a:off x="1563840" y="119988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8018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88424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88424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884240" y="114948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1920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73400" y="122004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73400" y="117972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73400" y="114948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8084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662200" y="122004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662200" y="1179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662200" y="114948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970000" y="123840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051000" y="122004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051000" y="117972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51000" y="114948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201480" y="120348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563840" y="144324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53840" y="136656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35200" y="134784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35200" y="130788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35200" y="127728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0430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124000" y="134784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124000" y="130788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124000" y="127728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43144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12800" y="134784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512800" y="130788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12800" y="127728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820600" y="13665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902680" y="134784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902680" y="130788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902680" y="127728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3205440" y="1143000"/>
              <a:ext cx="2023920" cy="691200"/>
              <a:chOff x="3205440" y="1143000"/>
              <a:chExt cx="2023920" cy="691200"/>
            </a:xfrm>
          </p:grpSpPr>
          <p:sp>
            <p:nvSpPr>
              <p:cNvPr id="622" name=""/>
              <p:cNvSpPr/>
              <p:nvPr/>
            </p:nvSpPr>
            <p:spPr>
              <a:xfrm>
                <a:off x="3205440" y="119376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3" name=""/>
              <p:cNvGrpSpPr/>
              <p:nvPr/>
            </p:nvGrpSpPr>
            <p:grpSpPr>
              <a:xfrm>
                <a:off x="3454920" y="1143000"/>
                <a:ext cx="357480" cy="148680"/>
                <a:chOff x="3454920" y="1143000"/>
                <a:chExt cx="357480" cy="1486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34549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25" name=""/>
                <p:cNvGrpSpPr/>
                <p:nvPr/>
              </p:nvGrpSpPr>
              <p:grpSpPr>
                <a:xfrm>
                  <a:off x="3540240" y="1143000"/>
                  <a:ext cx="268560" cy="137520"/>
                  <a:chOff x="3540240" y="1143000"/>
                  <a:chExt cx="268560" cy="137520"/>
                </a:xfrm>
              </p:grpSpPr>
              <p:sp>
                <p:nvSpPr>
                  <p:cNvPr id="626" name=""/>
                  <p:cNvSpPr/>
                  <p:nvPr/>
                </p:nvSpPr>
                <p:spPr>
                  <a:xfrm>
                    <a:off x="35402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>
                    <a:off x="35402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>
                    <a:off x="35402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29" name=""/>
              <p:cNvGrpSpPr/>
              <p:nvPr/>
            </p:nvGrpSpPr>
            <p:grpSpPr>
              <a:xfrm>
                <a:off x="3861720" y="1143000"/>
                <a:ext cx="357480" cy="148680"/>
                <a:chOff x="3861720" y="1143000"/>
                <a:chExt cx="357480" cy="1486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386172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1" name=""/>
                <p:cNvGrpSpPr/>
                <p:nvPr/>
              </p:nvGrpSpPr>
              <p:grpSpPr>
                <a:xfrm>
                  <a:off x="3947040" y="1143000"/>
                  <a:ext cx="268560" cy="137520"/>
                  <a:chOff x="3947040" y="1143000"/>
                  <a:chExt cx="268560" cy="13752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394704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394704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394704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5" name=""/>
              <p:cNvGrpSpPr/>
              <p:nvPr/>
            </p:nvGrpSpPr>
            <p:grpSpPr>
              <a:xfrm>
                <a:off x="4268160" y="1143000"/>
                <a:ext cx="357480" cy="148680"/>
                <a:chOff x="4268160" y="1143000"/>
                <a:chExt cx="357480" cy="1486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42681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37" name=""/>
                <p:cNvGrpSpPr/>
                <p:nvPr/>
              </p:nvGrpSpPr>
              <p:grpSpPr>
                <a:xfrm>
                  <a:off x="4353480" y="1143000"/>
                  <a:ext cx="268560" cy="137520"/>
                  <a:chOff x="4353480" y="1143000"/>
                  <a:chExt cx="268560" cy="137520"/>
                </a:xfrm>
              </p:grpSpPr>
              <p:sp>
                <p:nvSpPr>
                  <p:cNvPr id="638" name=""/>
                  <p:cNvSpPr/>
                  <p:nvPr/>
                </p:nvSpPr>
                <p:spPr>
                  <a:xfrm>
                    <a:off x="43534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43534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43534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1" name=""/>
              <p:cNvGrpSpPr/>
              <p:nvPr/>
            </p:nvGrpSpPr>
            <p:grpSpPr>
              <a:xfrm>
                <a:off x="4674960" y="1143000"/>
                <a:ext cx="357480" cy="148680"/>
                <a:chOff x="4674960" y="1143000"/>
                <a:chExt cx="357480" cy="1486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4674960" y="12330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43" name=""/>
                <p:cNvGrpSpPr/>
                <p:nvPr/>
              </p:nvGrpSpPr>
              <p:grpSpPr>
                <a:xfrm>
                  <a:off x="4760280" y="1143000"/>
                  <a:ext cx="268560" cy="137520"/>
                  <a:chOff x="4760280" y="1143000"/>
                  <a:chExt cx="268560" cy="13752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4760280" y="12142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4760280" y="11736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760280" y="11430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7" name=""/>
              <p:cNvSpPr/>
              <p:nvPr/>
            </p:nvSpPr>
            <p:spPr>
              <a:xfrm>
                <a:off x="4917240" y="119736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205440" y="143892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"/>
              <p:cNvGrpSpPr/>
              <p:nvPr/>
            </p:nvGrpSpPr>
            <p:grpSpPr>
              <a:xfrm>
                <a:off x="3299040" y="1271880"/>
                <a:ext cx="357480" cy="148680"/>
                <a:chOff x="3299040" y="1271880"/>
                <a:chExt cx="357480" cy="14868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329904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1" name=""/>
                <p:cNvGrpSpPr/>
                <p:nvPr/>
              </p:nvGrpSpPr>
              <p:grpSpPr>
                <a:xfrm>
                  <a:off x="3384360" y="1271880"/>
                  <a:ext cx="268560" cy="137520"/>
                  <a:chOff x="3384360" y="1271880"/>
                  <a:chExt cx="268560" cy="13752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338436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338436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38436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5" name=""/>
              <p:cNvGrpSpPr/>
              <p:nvPr/>
            </p:nvGrpSpPr>
            <p:grpSpPr>
              <a:xfrm>
                <a:off x="3705480" y="1271880"/>
                <a:ext cx="357480" cy="148680"/>
                <a:chOff x="3705480" y="1271880"/>
                <a:chExt cx="357480" cy="14868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37054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57" name=""/>
                <p:cNvGrpSpPr/>
                <p:nvPr/>
              </p:nvGrpSpPr>
              <p:grpSpPr>
                <a:xfrm>
                  <a:off x="3790800" y="1271880"/>
                  <a:ext cx="268560" cy="137520"/>
                  <a:chOff x="3790800" y="1271880"/>
                  <a:chExt cx="268560" cy="137520"/>
                </a:xfrm>
              </p:grpSpPr>
              <p:sp>
                <p:nvSpPr>
                  <p:cNvPr id="658" name=""/>
                  <p:cNvSpPr/>
                  <p:nvPr/>
                </p:nvSpPr>
                <p:spPr>
                  <a:xfrm>
                    <a:off x="37908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37908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37908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1" name=""/>
              <p:cNvGrpSpPr/>
              <p:nvPr/>
            </p:nvGrpSpPr>
            <p:grpSpPr>
              <a:xfrm>
                <a:off x="4111920" y="1271880"/>
                <a:ext cx="357480" cy="148680"/>
                <a:chOff x="4111920" y="1271880"/>
                <a:chExt cx="357480" cy="14868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11192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3" name=""/>
                <p:cNvGrpSpPr/>
                <p:nvPr/>
              </p:nvGrpSpPr>
              <p:grpSpPr>
                <a:xfrm>
                  <a:off x="4197240" y="1271880"/>
                  <a:ext cx="268560" cy="137520"/>
                  <a:chOff x="4197240" y="1271880"/>
                  <a:chExt cx="268560" cy="137520"/>
                </a:xfrm>
              </p:grpSpPr>
              <p:sp>
                <p:nvSpPr>
                  <p:cNvPr id="664" name=""/>
                  <p:cNvSpPr/>
                  <p:nvPr/>
                </p:nvSpPr>
                <p:spPr>
                  <a:xfrm>
                    <a:off x="419724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19724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19724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7" name=""/>
              <p:cNvGrpSpPr/>
              <p:nvPr/>
            </p:nvGrpSpPr>
            <p:grpSpPr>
              <a:xfrm>
                <a:off x="4519080" y="1271880"/>
                <a:ext cx="357480" cy="148680"/>
                <a:chOff x="4519080" y="1271880"/>
                <a:chExt cx="357480" cy="14868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4519080" y="1361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9" name=""/>
                <p:cNvGrpSpPr/>
                <p:nvPr/>
              </p:nvGrpSpPr>
              <p:grpSpPr>
                <a:xfrm>
                  <a:off x="4604400" y="1271880"/>
                  <a:ext cx="268560" cy="137520"/>
                  <a:chOff x="4604400" y="1271880"/>
                  <a:chExt cx="268560" cy="137520"/>
                </a:xfrm>
              </p:grpSpPr>
              <p:sp>
                <p:nvSpPr>
                  <p:cNvPr id="670" name=""/>
                  <p:cNvSpPr/>
                  <p:nvPr/>
                </p:nvSpPr>
                <p:spPr>
                  <a:xfrm>
                    <a:off x="4604400" y="1343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4604400" y="1302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4604400" y="1271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3" name=""/>
            <p:cNvGrpSpPr/>
            <p:nvPr/>
          </p:nvGrpSpPr>
          <p:grpSpPr>
            <a:xfrm>
              <a:off x="4880880" y="1150560"/>
              <a:ext cx="1946520" cy="685800"/>
              <a:chOff x="4880880" y="1150560"/>
              <a:chExt cx="1946520" cy="685800"/>
            </a:xfrm>
          </p:grpSpPr>
          <p:sp>
            <p:nvSpPr>
              <p:cNvPr id="674" name=""/>
              <p:cNvSpPr/>
              <p:nvPr/>
            </p:nvSpPr>
            <p:spPr>
              <a:xfrm>
                <a:off x="4880880" y="120096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120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2030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30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203080" y="115056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1232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93680" y="122076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93680" y="118080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93680" y="115056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032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98464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98464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984640" y="115056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293880" y="123948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375600" y="122076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375600" y="118080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375600" y="115056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6527160" y="120456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880880" y="144432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971240" y="136764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052960" y="134892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052960" y="13089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052960" y="127836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3622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4439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4439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443920" y="127836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5280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34520" y="134892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34520" y="130896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34520" y="127836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143760" y="13676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26560" y="134892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26560" y="13089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26560" y="127836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1839240" y="154800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637800" y="154800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307840" y="154800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0" y="147132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6507720" y="1150560"/>
              <a:ext cx="1797840" cy="685800"/>
              <a:chOff x="6507720" y="1150560"/>
              <a:chExt cx="1797840" cy="685800"/>
            </a:xfrm>
          </p:grpSpPr>
          <p:sp>
            <p:nvSpPr>
              <p:cNvPr id="714" name=""/>
              <p:cNvSpPr/>
              <p:nvPr/>
            </p:nvSpPr>
            <p:spPr>
              <a:xfrm>
                <a:off x="6507720" y="120096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72876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80508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80508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805080" y="115056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0909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166160" y="122112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166160" y="118116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166160" y="115056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5200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52724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2724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527240" y="115056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812720" y="123984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888320" y="122112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888320" y="118116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888320" y="115056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031600" y="120348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507720" y="144504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6591240" y="136800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6666480" y="134964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666480" y="130932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6666480" y="127872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695232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02756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02756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027560" y="127872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31340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88640" y="134964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388640" y="130932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388640" y="127872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674480" y="13680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750800" y="134964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750800" y="130932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750800" y="127872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>
              <a:off x="6646680" y="148248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6400800" y="4114800"/>
            <a:ext cx="167652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ull Line (55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52280" y="2666880"/>
            <a:ext cx="7925040" cy="1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5 Selling Business  System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0" y="1905120"/>
            <a:ext cx="8305560" cy="533160"/>
            <a:chOff x="0" y="1905120"/>
            <a:chExt cx="8305560" cy="533160"/>
          </a:xfrm>
        </p:grpSpPr>
        <p:sp>
          <p:nvSpPr>
            <p:cNvPr id="753" name=""/>
            <p:cNvSpPr/>
            <p:nvPr/>
          </p:nvSpPr>
          <p:spPr>
            <a:xfrm>
              <a:off x="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061000" y="1905120"/>
              <a:ext cx="2120760" cy="533160"/>
            </a:xfrm>
            <a:prstGeom prst="downArrowCallout">
              <a:avLst>
                <a:gd name="adj1" fmla="val 99452"/>
                <a:gd name="adj2" fmla="val 99443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12128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83720" y="1905120"/>
              <a:ext cx="2121840" cy="533160"/>
            </a:xfrm>
            <a:prstGeom prst="downArrowCallout">
              <a:avLst>
                <a:gd name="adj1" fmla="val 99503"/>
                <a:gd name="adj2" fmla="val 99494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ff82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53352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343400" y="19051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6705720" y="1905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514600" y="1919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Proli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91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Product Sales </a:t>
            </a:r>
            <a:r>
              <a:rPr b="1" lang="es-AR" sz="2800" spc="-1" strike="noStrike">
                <a:solidFill>
                  <a:srgbClr val="ff3300"/>
                </a:solidFill>
                <a:latin typeface="Arial"/>
              </a:rPr>
              <a:t>Knowledge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305920" y="342900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8305920" y="4952880"/>
            <a:ext cx="9144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533520" y="30481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3520" y="44197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33520" y="579132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80880" y="6248520"/>
            <a:ext cx="1295640" cy="533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62320" y="6477120"/>
            <a:ext cx="13716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asksmart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Datacenter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438280" y="4419720"/>
            <a:ext cx="12956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438280" y="2971800"/>
            <a:ext cx="12956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438280" y="3962520"/>
            <a:ext cx="12956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514600" y="5943600"/>
            <a:ext cx="106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114800" y="441972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191120" y="6324480"/>
            <a:ext cx="16761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52280" y="365760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52280" y="5105520"/>
            <a:ext cx="792504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10 Selling Enterprise Solutions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172200" y="6095880"/>
            <a:ext cx="198108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AN Solut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ast Trak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559-560--5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400800" y="5486400"/>
            <a:ext cx="167652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514600" y="5410080"/>
            <a:ext cx="1066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ducto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Tecnoli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0" name=""/>
          <p:cNvGraphicFramePr/>
          <p:nvPr/>
        </p:nvGraphicFramePr>
        <p:xfrm>
          <a:off x="76320" y="2098800"/>
          <a:ext cx="7848360" cy="4530600"/>
        </p:xfrm>
        <a:graphic>
          <a:graphicData uri="http://schemas.openxmlformats.org/drawingml/2006/table">
            <a:tbl>
              <a:tblPr/>
              <a:tblGrid>
                <a:gridCol w="7848360"/>
              </a:tblGrid>
              <a:tr h="137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0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"/>
          <p:cNvSpPr/>
          <p:nvPr/>
        </p:nvSpPr>
        <p:spPr>
          <a:xfrm>
            <a:off x="1371600" y="6172200"/>
            <a:ext cx="54100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Presentaciones de Ventas que Ganan Negocios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209680" y="5638680"/>
            <a:ext cx="381024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676520" y="5181480"/>
            <a:ext cx="487656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2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209680" y="4343400"/>
            <a:ext cx="38102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Account Planning Workshop 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676520" y="3809880"/>
            <a:ext cx="487656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52480" y="2971800"/>
            <a:ext cx="48769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1005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CBP </a:t>
            </a:r>
            <a:r>
              <a:rPr b="1" lang="es-AR" sz="3200" spc="-1" strike="noStrike">
                <a:solidFill>
                  <a:srgbClr val="91b3f7"/>
                </a:solidFill>
                <a:latin typeface="Arial"/>
              </a:rPr>
              <a:t> </a:t>
            </a:r>
            <a:r>
              <a:rPr b="1" lang="es-AR" sz="2800" spc="-1" strike="noStrike">
                <a:solidFill>
                  <a:srgbClr val="33cc33"/>
                </a:solidFill>
                <a:latin typeface="Arial"/>
              </a:rPr>
              <a:t>Sales Skills</a:t>
            </a:r>
            <a:endParaRPr b="1" lang="en-US" sz="2800" spc="-1" strike="noStrike">
              <a:solidFill>
                <a:srgbClr val="91b3f7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924680" y="2362320"/>
            <a:ext cx="1371600" cy="3528000"/>
            <a:chOff x="7924680" y="2362320"/>
            <a:chExt cx="1371600" cy="3528000"/>
          </a:xfrm>
        </p:grpSpPr>
        <p:sp>
          <p:nvSpPr>
            <p:cNvPr id="789" name=""/>
            <p:cNvSpPr/>
            <p:nvPr/>
          </p:nvSpPr>
          <p:spPr>
            <a:xfrm>
              <a:off x="7924680" y="2362320"/>
              <a:ext cx="13716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924680" y="373392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924680" y="524340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924680" y="48625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924680" y="3490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5" name=""/>
          <p:cNvGrpSpPr/>
          <p:nvPr/>
        </p:nvGrpSpPr>
        <p:grpSpPr>
          <a:xfrm>
            <a:off x="0" y="1117440"/>
            <a:ext cx="8153280" cy="1022040"/>
            <a:chOff x="0" y="1117440"/>
            <a:chExt cx="8153280" cy="1022040"/>
          </a:xfrm>
        </p:grpSpPr>
        <p:grpSp>
          <p:nvGrpSpPr>
            <p:cNvPr id="796" name=""/>
            <p:cNvGrpSpPr/>
            <p:nvPr/>
          </p:nvGrpSpPr>
          <p:grpSpPr>
            <a:xfrm>
              <a:off x="47520" y="1117440"/>
              <a:ext cx="1781280" cy="991800"/>
              <a:chOff x="47520" y="1117440"/>
              <a:chExt cx="1781280" cy="991800"/>
            </a:xfrm>
          </p:grpSpPr>
          <p:sp>
            <p:nvSpPr>
              <p:cNvPr id="797" name=""/>
              <p:cNvSpPr/>
              <p:nvPr/>
            </p:nvSpPr>
            <p:spPr>
              <a:xfrm>
                <a:off x="47520" y="1190520"/>
                <a:ext cx="1781280" cy="35604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26640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42360" y="1219680"/>
                <a:ext cx="23544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42360" y="1161360"/>
                <a:ext cx="23544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42360" y="1117440"/>
                <a:ext cx="235440" cy="950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2496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99840" y="1219680"/>
                <a:ext cx="23580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99840" y="1161360"/>
                <a:ext cx="23580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99840" y="1117440"/>
                <a:ext cx="235800" cy="950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98280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057680" y="121968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057680" y="116136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057680" y="1117440"/>
                <a:ext cx="236880" cy="950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340640" y="12470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415160" y="1219680"/>
                <a:ext cx="236880" cy="9468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415160" y="1161360"/>
                <a:ext cx="236880" cy="1090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415160" y="1117440"/>
                <a:ext cx="236880" cy="950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557360" y="1194120"/>
                <a:ext cx="267480" cy="9151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520" y="1543320"/>
                <a:ext cx="1510920" cy="56592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29960" y="1432440"/>
                <a:ext cx="31392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04840" y="1405440"/>
                <a:ext cx="23580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4840" y="1347120"/>
                <a:ext cx="23580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4840" y="1302840"/>
                <a:ext cx="235800" cy="9468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48780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2680" y="140544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62680" y="134712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62680" y="1302840"/>
                <a:ext cx="236880" cy="9468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4564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920160" y="1405440"/>
                <a:ext cx="23688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920160" y="1347120"/>
                <a:ext cx="23688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920160" y="1302840"/>
                <a:ext cx="236880" cy="9468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203120" y="1432440"/>
                <a:ext cx="315000" cy="8496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9240" bIns="39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279080" y="1405440"/>
                <a:ext cx="235440" cy="957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279080" y="1347120"/>
                <a:ext cx="235440" cy="10980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279080" y="1302840"/>
                <a:ext cx="235440" cy="9468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2" name=""/>
            <p:cNvGrpSpPr/>
            <p:nvPr/>
          </p:nvGrpSpPr>
          <p:grpSpPr>
            <a:xfrm>
              <a:off x="1523880" y="1118880"/>
              <a:ext cx="1887480" cy="980640"/>
              <a:chOff x="1523880" y="1118880"/>
              <a:chExt cx="1887480" cy="980640"/>
            </a:xfrm>
          </p:grpSpPr>
          <p:sp>
            <p:nvSpPr>
              <p:cNvPr id="833" name=""/>
              <p:cNvSpPr/>
              <p:nvPr/>
            </p:nvSpPr>
            <p:spPr>
              <a:xfrm>
                <a:off x="1523880" y="1191240"/>
                <a:ext cx="1887480" cy="34956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5608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836000" y="121968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836000" y="116244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836000" y="1118880"/>
                <a:ext cx="249840" cy="9360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13624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15080" y="1219680"/>
                <a:ext cx="24984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15080" y="1162440"/>
                <a:ext cx="24984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215080" y="1118880"/>
                <a:ext cx="249840" cy="9360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51532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594160" y="121968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594160" y="1162440"/>
                <a:ext cx="25092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594160" y="1118880"/>
                <a:ext cx="250920" cy="9360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894040" y="124632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973240" y="1219680"/>
                <a:ext cx="250560" cy="9360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973240" y="1162440"/>
                <a:ext cx="250560" cy="1072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973240" y="1118880"/>
                <a:ext cx="250560" cy="9360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19760" y="1196280"/>
                <a:ext cx="284760" cy="9032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523880" y="1539000"/>
                <a:ext cx="1600920" cy="55836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611720" y="1429200"/>
                <a:ext cx="33264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690920" y="1402560"/>
                <a:ext cx="24948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690920" y="1345320"/>
                <a:ext cx="24948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690920" y="1301760"/>
                <a:ext cx="249480" cy="9360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9080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69640" y="1402560"/>
                <a:ext cx="25056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069640" y="134532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069640" y="1301760"/>
                <a:ext cx="250560" cy="9360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36952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48720" y="1402560"/>
                <a:ext cx="25092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448720" y="134532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448720" y="1301760"/>
                <a:ext cx="250920" cy="9360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748600" y="1429200"/>
                <a:ext cx="3337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828880" y="1402560"/>
                <a:ext cx="249840" cy="9468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828880" y="1345320"/>
                <a:ext cx="249840" cy="10836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828880" y="1301760"/>
                <a:ext cx="249840" cy="9360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68" name=""/>
            <p:cNvGrpSpPr/>
            <p:nvPr/>
          </p:nvGrpSpPr>
          <p:grpSpPr>
            <a:xfrm>
              <a:off x="3124080" y="1118880"/>
              <a:ext cx="1971720" cy="988920"/>
              <a:chOff x="3124080" y="1118880"/>
              <a:chExt cx="1971720" cy="988920"/>
            </a:xfrm>
          </p:grpSpPr>
          <p:sp>
            <p:nvSpPr>
              <p:cNvPr id="869" name=""/>
              <p:cNvSpPr/>
              <p:nvPr/>
            </p:nvSpPr>
            <p:spPr>
              <a:xfrm>
                <a:off x="3124080" y="1191600"/>
                <a:ext cx="1971720" cy="352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70" name=""/>
              <p:cNvGrpSpPr/>
              <p:nvPr/>
            </p:nvGrpSpPr>
            <p:grpSpPr>
              <a:xfrm>
                <a:off x="3367080" y="1118880"/>
                <a:ext cx="348120" cy="212760"/>
                <a:chOff x="3367080" y="1118880"/>
                <a:chExt cx="348120" cy="21276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3367080" y="1247760"/>
                  <a:ext cx="34812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2" name=""/>
                <p:cNvGrpSpPr/>
                <p:nvPr/>
              </p:nvGrpSpPr>
              <p:grpSpPr>
                <a:xfrm>
                  <a:off x="3450240" y="1118880"/>
                  <a:ext cx="261360" cy="196200"/>
                  <a:chOff x="3450240" y="1118880"/>
                  <a:chExt cx="261360" cy="196200"/>
                </a:xfrm>
              </p:grpSpPr>
              <p:sp>
                <p:nvSpPr>
                  <p:cNvPr id="873" name=""/>
                  <p:cNvSpPr/>
                  <p:nvPr/>
                </p:nvSpPr>
                <p:spPr>
                  <a:xfrm>
                    <a:off x="3450240" y="1220400"/>
                    <a:ext cx="26136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"/>
                  <p:cNvSpPr/>
                  <p:nvPr/>
                </p:nvSpPr>
                <p:spPr>
                  <a:xfrm>
                    <a:off x="3450240" y="1162440"/>
                    <a:ext cx="26136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3450240" y="1118880"/>
                    <a:ext cx="26136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"/>
              <p:cNvGrpSpPr/>
              <p:nvPr/>
            </p:nvGrpSpPr>
            <p:grpSpPr>
              <a:xfrm>
                <a:off x="3763440" y="1118880"/>
                <a:ext cx="348480" cy="212760"/>
                <a:chOff x="3763440" y="1118880"/>
                <a:chExt cx="348480" cy="212760"/>
              </a:xfrm>
            </p:grpSpPr>
            <p:sp>
              <p:nvSpPr>
                <p:cNvPr id="877" name=""/>
                <p:cNvSpPr/>
                <p:nvPr/>
              </p:nvSpPr>
              <p:spPr>
                <a:xfrm>
                  <a:off x="3763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"/>
                <p:cNvGrpSpPr/>
                <p:nvPr/>
              </p:nvGrpSpPr>
              <p:grpSpPr>
                <a:xfrm>
                  <a:off x="3846600" y="1118880"/>
                  <a:ext cx="261720" cy="196200"/>
                  <a:chOff x="3846600" y="1118880"/>
                  <a:chExt cx="261720" cy="196200"/>
                </a:xfrm>
              </p:grpSpPr>
              <p:sp>
                <p:nvSpPr>
                  <p:cNvPr id="879" name=""/>
                  <p:cNvSpPr/>
                  <p:nvPr/>
                </p:nvSpPr>
                <p:spPr>
                  <a:xfrm>
                    <a:off x="3846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"/>
                  <p:cNvSpPr/>
                  <p:nvPr/>
                </p:nvSpPr>
                <p:spPr>
                  <a:xfrm>
                    <a:off x="3846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1" name=""/>
                  <p:cNvSpPr/>
                  <p:nvPr/>
                </p:nvSpPr>
                <p:spPr>
                  <a:xfrm>
                    <a:off x="3846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2" name=""/>
              <p:cNvGrpSpPr/>
              <p:nvPr/>
            </p:nvGrpSpPr>
            <p:grpSpPr>
              <a:xfrm>
                <a:off x="4159440" y="1118880"/>
                <a:ext cx="348480" cy="212760"/>
                <a:chOff x="4159440" y="1118880"/>
                <a:chExt cx="348480" cy="212760"/>
              </a:xfrm>
            </p:grpSpPr>
            <p:sp>
              <p:nvSpPr>
                <p:cNvPr id="883" name=""/>
                <p:cNvSpPr/>
                <p:nvPr/>
              </p:nvSpPr>
              <p:spPr>
                <a:xfrm>
                  <a:off x="4159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4" name=""/>
                <p:cNvGrpSpPr/>
                <p:nvPr/>
              </p:nvGrpSpPr>
              <p:grpSpPr>
                <a:xfrm>
                  <a:off x="4242600" y="1118880"/>
                  <a:ext cx="261720" cy="196200"/>
                  <a:chOff x="4242600" y="1118880"/>
                  <a:chExt cx="261720" cy="196200"/>
                </a:xfrm>
              </p:grpSpPr>
              <p:sp>
                <p:nvSpPr>
                  <p:cNvPr id="885" name=""/>
                  <p:cNvSpPr/>
                  <p:nvPr/>
                </p:nvSpPr>
                <p:spPr>
                  <a:xfrm>
                    <a:off x="4242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/>
                  <p:nvPr/>
                </p:nvSpPr>
                <p:spPr>
                  <a:xfrm>
                    <a:off x="4242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7" name=""/>
                  <p:cNvSpPr/>
                  <p:nvPr/>
                </p:nvSpPr>
                <p:spPr>
                  <a:xfrm>
                    <a:off x="4242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8" name=""/>
              <p:cNvGrpSpPr/>
              <p:nvPr/>
            </p:nvGrpSpPr>
            <p:grpSpPr>
              <a:xfrm>
                <a:off x="4555440" y="1118880"/>
                <a:ext cx="348480" cy="212760"/>
                <a:chOff x="4555440" y="1118880"/>
                <a:chExt cx="348480" cy="21276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4555440" y="124776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90" name=""/>
                <p:cNvGrpSpPr/>
                <p:nvPr/>
              </p:nvGrpSpPr>
              <p:grpSpPr>
                <a:xfrm>
                  <a:off x="4638600" y="1118880"/>
                  <a:ext cx="261720" cy="196200"/>
                  <a:chOff x="4638600" y="1118880"/>
                  <a:chExt cx="261720" cy="196200"/>
                </a:xfrm>
              </p:grpSpPr>
              <p:sp>
                <p:nvSpPr>
                  <p:cNvPr id="891" name=""/>
                  <p:cNvSpPr/>
                  <p:nvPr/>
                </p:nvSpPr>
                <p:spPr>
                  <a:xfrm>
                    <a:off x="4638600" y="122040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/>
                  <p:nvPr/>
                </p:nvSpPr>
                <p:spPr>
                  <a:xfrm>
                    <a:off x="4638600" y="116244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4638600" y="111888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94" name=""/>
              <p:cNvSpPr/>
              <p:nvPr/>
            </p:nvSpPr>
            <p:spPr>
              <a:xfrm>
                <a:off x="4791600" y="1196640"/>
                <a:ext cx="297720" cy="9111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124080" y="1542240"/>
                <a:ext cx="1672920" cy="5626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6" name=""/>
              <p:cNvGrpSpPr/>
              <p:nvPr/>
            </p:nvGrpSpPr>
            <p:grpSpPr>
              <a:xfrm>
                <a:off x="3215160" y="1303560"/>
                <a:ext cx="348480" cy="212760"/>
                <a:chOff x="3215160" y="1303560"/>
                <a:chExt cx="348480" cy="212760"/>
              </a:xfrm>
            </p:grpSpPr>
            <p:sp>
              <p:nvSpPr>
                <p:cNvPr id="897" name=""/>
                <p:cNvSpPr/>
                <p:nvPr/>
              </p:nvSpPr>
              <p:spPr>
                <a:xfrm>
                  <a:off x="321516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98" name=""/>
                <p:cNvGrpSpPr/>
                <p:nvPr/>
              </p:nvGrpSpPr>
              <p:grpSpPr>
                <a:xfrm>
                  <a:off x="3298320" y="1303560"/>
                  <a:ext cx="261720" cy="196200"/>
                  <a:chOff x="3298320" y="1303560"/>
                  <a:chExt cx="261720" cy="196200"/>
                </a:xfrm>
              </p:grpSpPr>
              <p:sp>
                <p:nvSpPr>
                  <p:cNvPr id="899" name=""/>
                  <p:cNvSpPr/>
                  <p:nvPr/>
                </p:nvSpPr>
                <p:spPr>
                  <a:xfrm>
                    <a:off x="329832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"/>
                  <p:cNvSpPr/>
                  <p:nvPr/>
                </p:nvSpPr>
                <p:spPr>
                  <a:xfrm>
                    <a:off x="329832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"/>
                  <p:cNvSpPr/>
                  <p:nvPr/>
                </p:nvSpPr>
                <p:spPr>
                  <a:xfrm>
                    <a:off x="329832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2" name=""/>
              <p:cNvGrpSpPr/>
              <p:nvPr/>
            </p:nvGrpSpPr>
            <p:grpSpPr>
              <a:xfrm>
                <a:off x="3611160" y="1303560"/>
                <a:ext cx="348480" cy="212760"/>
                <a:chOff x="3611160" y="1303560"/>
                <a:chExt cx="348480" cy="21276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361116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4" name=""/>
                <p:cNvGrpSpPr/>
                <p:nvPr/>
              </p:nvGrpSpPr>
              <p:grpSpPr>
                <a:xfrm>
                  <a:off x="3694320" y="1303560"/>
                  <a:ext cx="261720" cy="196200"/>
                  <a:chOff x="3694320" y="1303560"/>
                  <a:chExt cx="261720" cy="196200"/>
                </a:xfrm>
              </p:grpSpPr>
              <p:sp>
                <p:nvSpPr>
                  <p:cNvPr id="905" name=""/>
                  <p:cNvSpPr/>
                  <p:nvPr/>
                </p:nvSpPr>
                <p:spPr>
                  <a:xfrm>
                    <a:off x="369432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369432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369432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8" name=""/>
              <p:cNvGrpSpPr/>
              <p:nvPr/>
            </p:nvGrpSpPr>
            <p:grpSpPr>
              <a:xfrm>
                <a:off x="4007520" y="1303560"/>
                <a:ext cx="348480" cy="212760"/>
                <a:chOff x="4007520" y="1303560"/>
                <a:chExt cx="348480" cy="212760"/>
              </a:xfrm>
            </p:grpSpPr>
            <p:sp>
              <p:nvSpPr>
                <p:cNvPr id="909" name=""/>
                <p:cNvSpPr/>
                <p:nvPr/>
              </p:nvSpPr>
              <p:spPr>
                <a:xfrm>
                  <a:off x="400752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0" name=""/>
                <p:cNvGrpSpPr/>
                <p:nvPr/>
              </p:nvGrpSpPr>
              <p:grpSpPr>
                <a:xfrm>
                  <a:off x="4090680" y="1303560"/>
                  <a:ext cx="261720" cy="196200"/>
                  <a:chOff x="4090680" y="1303560"/>
                  <a:chExt cx="261720" cy="196200"/>
                </a:xfrm>
              </p:grpSpPr>
              <p:sp>
                <p:nvSpPr>
                  <p:cNvPr id="911" name=""/>
                  <p:cNvSpPr/>
                  <p:nvPr/>
                </p:nvSpPr>
                <p:spPr>
                  <a:xfrm>
                    <a:off x="409068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409068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409068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4" name=""/>
              <p:cNvGrpSpPr/>
              <p:nvPr/>
            </p:nvGrpSpPr>
            <p:grpSpPr>
              <a:xfrm>
                <a:off x="4403520" y="1303560"/>
                <a:ext cx="348480" cy="212760"/>
                <a:chOff x="4403520" y="1303560"/>
                <a:chExt cx="348480" cy="21276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4403520" y="1432440"/>
                  <a:ext cx="348480" cy="838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6" name=""/>
                <p:cNvGrpSpPr/>
                <p:nvPr/>
              </p:nvGrpSpPr>
              <p:grpSpPr>
                <a:xfrm>
                  <a:off x="4486680" y="1303560"/>
                  <a:ext cx="261720" cy="196200"/>
                  <a:chOff x="4486680" y="1303560"/>
                  <a:chExt cx="261720" cy="196200"/>
                </a:xfrm>
              </p:grpSpPr>
              <p:sp>
                <p:nvSpPr>
                  <p:cNvPr id="917" name=""/>
                  <p:cNvSpPr/>
                  <p:nvPr/>
                </p:nvSpPr>
                <p:spPr>
                  <a:xfrm>
                    <a:off x="4486680" y="1405080"/>
                    <a:ext cx="261720" cy="9468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>
                    <a:off x="4486680" y="1347120"/>
                    <a:ext cx="261720" cy="10872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4486680" y="1303560"/>
                    <a:ext cx="261720" cy="9468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20" name=""/>
            <p:cNvGrpSpPr/>
            <p:nvPr/>
          </p:nvGrpSpPr>
          <p:grpSpPr>
            <a:xfrm>
              <a:off x="4800600" y="1128240"/>
              <a:ext cx="1897200" cy="981360"/>
              <a:chOff x="4800600" y="1128240"/>
              <a:chExt cx="1897200" cy="981360"/>
            </a:xfrm>
          </p:grpSpPr>
          <p:sp>
            <p:nvSpPr>
              <p:cNvPr id="921" name=""/>
              <p:cNvSpPr/>
              <p:nvPr/>
            </p:nvSpPr>
            <p:spPr>
              <a:xfrm>
                <a:off x="4800600" y="1200240"/>
                <a:ext cx="1897200" cy="35028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03388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114520" y="122904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114520" y="117144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14520" y="1128240"/>
                <a:ext cx="250920" cy="9360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41584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495400" y="1229040"/>
                <a:ext cx="25092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495400" y="1171440"/>
                <a:ext cx="25092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495400" y="1128240"/>
                <a:ext cx="250920" cy="9360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9708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76640" y="12290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76640" y="117144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76640" y="1128240"/>
                <a:ext cx="252000" cy="9360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177960" y="1255680"/>
                <a:ext cx="3351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257520" y="1229040"/>
                <a:ext cx="252000" cy="9360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57520" y="1171440"/>
                <a:ext cx="252000" cy="1076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257520" y="1128240"/>
                <a:ext cx="252000" cy="9360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405120" y="1205640"/>
                <a:ext cx="286200" cy="90396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800600" y="1548360"/>
                <a:ext cx="1609200" cy="55872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888800" y="1438920"/>
                <a:ext cx="33408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968360" y="1412280"/>
                <a:ext cx="25056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968360" y="1354680"/>
                <a:ext cx="25056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68360" y="1311120"/>
                <a:ext cx="250560" cy="9360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26968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349240" y="141228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49240" y="13546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49240" y="1311120"/>
                <a:ext cx="252000" cy="9360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65056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30120" y="1412280"/>
                <a:ext cx="25200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730120" y="1354680"/>
                <a:ext cx="25200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730120" y="1311120"/>
                <a:ext cx="252000" cy="9360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6031440" y="1438920"/>
                <a:ext cx="3351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112080" y="1412280"/>
                <a:ext cx="250920" cy="943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112080" y="1354680"/>
                <a:ext cx="250920" cy="10836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112080" y="1311120"/>
                <a:ext cx="250920" cy="9360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1523160" y="1626840"/>
              <a:ext cx="15433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373200" y="1626840"/>
              <a:ext cx="104328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955040" y="1626840"/>
              <a:ext cx="129492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0" y="1587240"/>
              <a:ext cx="15462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6400800" y="1128240"/>
              <a:ext cx="1752480" cy="981000"/>
              <a:chOff x="6400800" y="1128240"/>
              <a:chExt cx="1752480" cy="981000"/>
            </a:xfrm>
          </p:grpSpPr>
          <p:sp>
            <p:nvSpPr>
              <p:cNvPr id="961" name=""/>
              <p:cNvSpPr/>
              <p:nvPr/>
            </p:nvSpPr>
            <p:spPr>
              <a:xfrm>
                <a:off x="6400800" y="1200600"/>
                <a:ext cx="1752480" cy="35172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661608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6690600" y="122940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6690600" y="117180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690600" y="1128240"/>
                <a:ext cx="231480" cy="9360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96924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042680" y="1229400"/>
                <a:ext cx="23148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042680" y="1171800"/>
                <a:ext cx="23148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042680" y="1128240"/>
                <a:ext cx="231480" cy="9360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32132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394400" y="122940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394400" y="117180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394400" y="1128240"/>
                <a:ext cx="232920" cy="9360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73040" y="1256040"/>
                <a:ext cx="309960" cy="8424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520" bIns="38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746480" y="1229400"/>
                <a:ext cx="232920" cy="9360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746480" y="1171800"/>
                <a:ext cx="232920" cy="1076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46480" y="1128240"/>
                <a:ext cx="232920" cy="9360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886160" y="1203840"/>
                <a:ext cx="263160" cy="90540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400800" y="1549440"/>
                <a:ext cx="1486800" cy="55980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482160" y="1439640"/>
                <a:ext cx="30852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555600" y="1413000"/>
                <a:ext cx="23184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555600" y="1355400"/>
                <a:ext cx="23184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555600" y="1311840"/>
                <a:ext cx="231840" cy="9360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83388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6907320" y="141300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6907320" y="135540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6907320" y="1311840"/>
                <a:ext cx="232920" cy="9360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18596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259400" y="1413000"/>
                <a:ext cx="23292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259400" y="1355400"/>
                <a:ext cx="23292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259400" y="1311840"/>
                <a:ext cx="232920" cy="9360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538040" y="1439640"/>
                <a:ext cx="309960" cy="838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8160" bIns="38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612560" y="1413000"/>
                <a:ext cx="231480" cy="9468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612560" y="1355400"/>
                <a:ext cx="231480" cy="10836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612560" y="1311840"/>
                <a:ext cx="231480" cy="9360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6477120" y="1603080"/>
              <a:ext cx="119376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7" name=""/>
          <p:cNvSpPr/>
          <p:nvPr/>
        </p:nvSpPr>
        <p:spPr>
          <a:xfrm>
            <a:off x="7848720" y="2209680"/>
            <a:ext cx="137160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</a:rPr>
              <a:t>CB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ffffff"/>
                </a:solidFill>
                <a:latin typeface="Arial"/>
              </a:rPr>
              <a:t>Introduct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8eb6e"/>
                </a:solidFill>
                <a:latin typeface="Arial"/>
              </a:rPr>
              <a:t>Eli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752480" y="2286000"/>
            <a:ext cx="48769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33cc33"/>
                </a:solidFill>
                <a:latin typeface="Arial"/>
              </a:rPr>
              <a:t>1 Sales Advantage. Estrategias Ganadoras(IL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6320" y="266688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924680" y="2666880"/>
            <a:ext cx="121932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686800" cy="1981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Especial de Desarrollo de Canales por Línea de Negocio de Producto</a:t>
            </a: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    Argentina</a:t>
            </a:r>
            <a:br>
              <a:rPr sz="3200"/>
            </a:b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762120" y="3886200"/>
            <a:ext cx="3124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Alpha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3" name="checkmark" descr=""/>
          <p:cNvPicPr/>
          <p:nvPr/>
        </p:nvPicPr>
        <p:blipFill>
          <a:blip r:embed="rId2"/>
          <a:stretch/>
        </p:blipFill>
        <p:spPr>
          <a:xfrm>
            <a:off x="609480" y="2610000"/>
            <a:ext cx="45720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endParaRPr b="1" lang="en-US" sz="32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76320" y="2666880"/>
          <a:ext cx="7924680" cy="403884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2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6" name=""/>
          <p:cNvGrpSpPr/>
          <p:nvPr/>
        </p:nvGrpSpPr>
        <p:grpSpPr>
          <a:xfrm>
            <a:off x="7924680" y="2954160"/>
            <a:ext cx="1447560" cy="3390120"/>
            <a:chOff x="7924680" y="2954160"/>
            <a:chExt cx="1447560" cy="3390120"/>
          </a:xfrm>
        </p:grpSpPr>
        <p:sp>
          <p:nvSpPr>
            <p:cNvPr id="1007" name=""/>
            <p:cNvSpPr/>
            <p:nvPr/>
          </p:nvSpPr>
          <p:spPr>
            <a:xfrm>
              <a:off x="8000640" y="29541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000640" y="418932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24680" y="56973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8000640" y="5317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000640" y="402264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0" y="1523880"/>
            <a:ext cx="8305560" cy="930600"/>
            <a:chOff x="0" y="1523880"/>
            <a:chExt cx="8305560" cy="930600"/>
          </a:xfrm>
        </p:grpSpPr>
        <p:grpSp>
          <p:nvGrpSpPr>
            <p:cNvPr id="1015" name=""/>
            <p:cNvGrpSpPr/>
            <p:nvPr/>
          </p:nvGrpSpPr>
          <p:grpSpPr>
            <a:xfrm>
              <a:off x="48240" y="1523880"/>
              <a:ext cx="1828800" cy="693360"/>
              <a:chOff x="48240" y="1523880"/>
              <a:chExt cx="1828800" cy="693360"/>
            </a:xfrm>
          </p:grpSpPr>
          <p:sp>
            <p:nvSpPr>
              <p:cNvPr id="1016" name=""/>
              <p:cNvSpPr/>
              <p:nvPr/>
            </p:nvSpPr>
            <p:spPr>
              <a:xfrm>
                <a:off x="48240" y="157500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7288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351000" y="159516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351000" y="155448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51000" y="152388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4116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17840" y="159516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17840" y="155448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17840" y="152388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00872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085040" y="159516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1085040" y="155448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085040" y="152388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375920" y="16142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452600" y="159516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452600" y="155448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452600" y="152388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598400" y="157752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8240" y="182160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32840" y="174384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09520" y="172512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9520" y="168444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09520" y="165348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004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77080" y="172512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77080" y="168444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77080" y="165348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8676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943920" y="172512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943920" y="168444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943920" y="165348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234800" y="174384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312560" y="172512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312560" y="168444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312560" y="165348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1563840" y="1530360"/>
              <a:ext cx="1936800" cy="685440"/>
              <a:chOff x="1563840" y="1530360"/>
              <a:chExt cx="1936800" cy="685440"/>
            </a:xfrm>
          </p:grpSpPr>
          <p:sp>
            <p:nvSpPr>
              <p:cNvPr id="1052" name=""/>
              <p:cNvSpPr/>
              <p:nvPr/>
            </p:nvSpPr>
            <p:spPr>
              <a:xfrm>
                <a:off x="1563840" y="158076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80180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884240" y="160092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884240" y="156060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84240" y="153036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19204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273400" y="160092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273400" y="156060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273400" y="153036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58084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662200" y="160092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662200" y="156060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662200" y="153036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970000" y="16192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3051000" y="160092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3051000" y="156060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3051000" y="153036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201480" y="158436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563840" y="182412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653840" y="174744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735200" y="172872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35200" y="168876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35200" y="165816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04300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124000" y="172872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124000" y="168876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124000" y="165816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43144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512800" y="172872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512800" y="168876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512800" y="165816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820600" y="174744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902680" y="172872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902680" y="168876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902680" y="165816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3205440" y="1523880"/>
              <a:ext cx="2023920" cy="691200"/>
              <a:chOff x="3205440" y="1523880"/>
              <a:chExt cx="2023920" cy="691200"/>
            </a:xfrm>
          </p:grpSpPr>
          <p:sp>
            <p:nvSpPr>
              <p:cNvPr id="1088" name=""/>
              <p:cNvSpPr/>
              <p:nvPr/>
            </p:nvSpPr>
            <p:spPr>
              <a:xfrm>
                <a:off x="3205440" y="157464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3454920" y="1523880"/>
                <a:ext cx="357480" cy="148680"/>
                <a:chOff x="3454920" y="1523880"/>
                <a:chExt cx="357480" cy="14868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345492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3540240" y="1523880"/>
                  <a:ext cx="268560" cy="137520"/>
                  <a:chOff x="3540240" y="1523880"/>
                  <a:chExt cx="268560" cy="137520"/>
                </a:xfrm>
              </p:grpSpPr>
              <p:sp>
                <p:nvSpPr>
                  <p:cNvPr id="1092" name=""/>
                  <p:cNvSpPr/>
                  <p:nvPr/>
                </p:nvSpPr>
                <p:spPr>
                  <a:xfrm>
                    <a:off x="354024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"/>
                  <p:cNvSpPr/>
                  <p:nvPr/>
                </p:nvSpPr>
                <p:spPr>
                  <a:xfrm>
                    <a:off x="354024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"/>
                  <p:cNvSpPr/>
                  <p:nvPr/>
                </p:nvSpPr>
                <p:spPr>
                  <a:xfrm>
                    <a:off x="354024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5" name=""/>
              <p:cNvGrpSpPr/>
              <p:nvPr/>
            </p:nvGrpSpPr>
            <p:grpSpPr>
              <a:xfrm>
                <a:off x="3861720" y="1523880"/>
                <a:ext cx="357480" cy="148680"/>
                <a:chOff x="3861720" y="1523880"/>
                <a:chExt cx="357480" cy="14868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386172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97" name=""/>
                <p:cNvGrpSpPr/>
                <p:nvPr/>
              </p:nvGrpSpPr>
              <p:grpSpPr>
                <a:xfrm>
                  <a:off x="3947040" y="1523880"/>
                  <a:ext cx="268560" cy="137520"/>
                  <a:chOff x="3947040" y="1523880"/>
                  <a:chExt cx="268560" cy="137520"/>
                </a:xfrm>
              </p:grpSpPr>
              <p:sp>
                <p:nvSpPr>
                  <p:cNvPr id="1098" name=""/>
                  <p:cNvSpPr/>
                  <p:nvPr/>
                </p:nvSpPr>
                <p:spPr>
                  <a:xfrm>
                    <a:off x="394704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4704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394704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1" name=""/>
              <p:cNvGrpSpPr/>
              <p:nvPr/>
            </p:nvGrpSpPr>
            <p:grpSpPr>
              <a:xfrm>
                <a:off x="4268160" y="1523880"/>
                <a:ext cx="357480" cy="148680"/>
                <a:chOff x="4268160" y="1523880"/>
                <a:chExt cx="357480" cy="14868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426816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3" name=""/>
                <p:cNvGrpSpPr/>
                <p:nvPr/>
              </p:nvGrpSpPr>
              <p:grpSpPr>
                <a:xfrm>
                  <a:off x="4353480" y="1523880"/>
                  <a:ext cx="268560" cy="137520"/>
                  <a:chOff x="4353480" y="1523880"/>
                  <a:chExt cx="268560" cy="137520"/>
                </a:xfrm>
              </p:grpSpPr>
              <p:sp>
                <p:nvSpPr>
                  <p:cNvPr id="1104" name=""/>
                  <p:cNvSpPr/>
                  <p:nvPr/>
                </p:nvSpPr>
                <p:spPr>
                  <a:xfrm>
                    <a:off x="435348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435348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"/>
                  <p:cNvSpPr/>
                  <p:nvPr/>
                </p:nvSpPr>
                <p:spPr>
                  <a:xfrm>
                    <a:off x="435348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7" name=""/>
              <p:cNvGrpSpPr/>
              <p:nvPr/>
            </p:nvGrpSpPr>
            <p:grpSpPr>
              <a:xfrm>
                <a:off x="4674960" y="1523880"/>
                <a:ext cx="357480" cy="148680"/>
                <a:chOff x="4674960" y="1523880"/>
                <a:chExt cx="357480" cy="14868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4674960" y="161388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09" name=""/>
                <p:cNvGrpSpPr/>
                <p:nvPr/>
              </p:nvGrpSpPr>
              <p:grpSpPr>
                <a:xfrm>
                  <a:off x="4760280" y="1523880"/>
                  <a:ext cx="268560" cy="137520"/>
                  <a:chOff x="4760280" y="1523880"/>
                  <a:chExt cx="268560" cy="13752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>
                    <a:off x="4760280" y="159516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760280" y="155448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>
                    <a:off x="4760280" y="152388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13" name=""/>
              <p:cNvSpPr/>
              <p:nvPr/>
            </p:nvSpPr>
            <p:spPr>
              <a:xfrm>
                <a:off x="4917240" y="157824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05440" y="181980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3299040" y="1652760"/>
                <a:ext cx="357480" cy="148680"/>
                <a:chOff x="3299040" y="1652760"/>
                <a:chExt cx="357480" cy="14868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329904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17" name=""/>
                <p:cNvGrpSpPr/>
                <p:nvPr/>
              </p:nvGrpSpPr>
              <p:grpSpPr>
                <a:xfrm>
                  <a:off x="3384360" y="1652760"/>
                  <a:ext cx="268560" cy="137520"/>
                  <a:chOff x="3384360" y="1652760"/>
                  <a:chExt cx="268560" cy="13752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>
                    <a:off x="338436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38436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"/>
                  <p:cNvSpPr/>
                  <p:nvPr/>
                </p:nvSpPr>
                <p:spPr>
                  <a:xfrm>
                    <a:off x="338436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1" name=""/>
              <p:cNvGrpSpPr/>
              <p:nvPr/>
            </p:nvGrpSpPr>
            <p:grpSpPr>
              <a:xfrm>
                <a:off x="3705480" y="1652760"/>
                <a:ext cx="357480" cy="148680"/>
                <a:chOff x="3705480" y="1652760"/>
                <a:chExt cx="357480" cy="14868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370548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3" name=""/>
                <p:cNvGrpSpPr/>
                <p:nvPr/>
              </p:nvGrpSpPr>
              <p:grpSpPr>
                <a:xfrm>
                  <a:off x="3790800" y="1652760"/>
                  <a:ext cx="268560" cy="137520"/>
                  <a:chOff x="3790800" y="1652760"/>
                  <a:chExt cx="268560" cy="137520"/>
                </a:xfrm>
              </p:grpSpPr>
              <p:sp>
                <p:nvSpPr>
                  <p:cNvPr id="1124" name=""/>
                  <p:cNvSpPr/>
                  <p:nvPr/>
                </p:nvSpPr>
                <p:spPr>
                  <a:xfrm>
                    <a:off x="379080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79080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"/>
                  <p:cNvSpPr/>
                  <p:nvPr/>
                </p:nvSpPr>
                <p:spPr>
                  <a:xfrm>
                    <a:off x="379080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7" name=""/>
              <p:cNvGrpSpPr/>
              <p:nvPr/>
            </p:nvGrpSpPr>
            <p:grpSpPr>
              <a:xfrm>
                <a:off x="4111920" y="1652760"/>
                <a:ext cx="357480" cy="148680"/>
                <a:chOff x="4111920" y="1652760"/>
                <a:chExt cx="357480" cy="1486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411192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29" name=""/>
                <p:cNvGrpSpPr/>
                <p:nvPr/>
              </p:nvGrpSpPr>
              <p:grpSpPr>
                <a:xfrm>
                  <a:off x="4197240" y="1652760"/>
                  <a:ext cx="268560" cy="137520"/>
                  <a:chOff x="4197240" y="1652760"/>
                  <a:chExt cx="268560" cy="13752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>
                    <a:off x="419724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19724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19724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3" name=""/>
              <p:cNvGrpSpPr/>
              <p:nvPr/>
            </p:nvGrpSpPr>
            <p:grpSpPr>
              <a:xfrm>
                <a:off x="4519080" y="1652760"/>
                <a:ext cx="357480" cy="148680"/>
                <a:chOff x="4519080" y="1652760"/>
                <a:chExt cx="357480" cy="14868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4519080" y="1742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35" name=""/>
                <p:cNvGrpSpPr/>
                <p:nvPr/>
              </p:nvGrpSpPr>
              <p:grpSpPr>
                <a:xfrm>
                  <a:off x="4604400" y="1652760"/>
                  <a:ext cx="268560" cy="137520"/>
                  <a:chOff x="4604400" y="1652760"/>
                  <a:chExt cx="268560" cy="13752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4604400" y="1724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4604400" y="1683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604400" y="1652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39" name=""/>
            <p:cNvGrpSpPr/>
            <p:nvPr/>
          </p:nvGrpSpPr>
          <p:grpSpPr>
            <a:xfrm>
              <a:off x="4880880" y="1531440"/>
              <a:ext cx="1946520" cy="685800"/>
              <a:chOff x="4880880" y="1531440"/>
              <a:chExt cx="1946520" cy="685800"/>
            </a:xfrm>
          </p:grpSpPr>
          <p:sp>
            <p:nvSpPr>
              <p:cNvPr id="1140" name=""/>
              <p:cNvSpPr/>
              <p:nvPr/>
            </p:nvSpPr>
            <p:spPr>
              <a:xfrm>
                <a:off x="4880880" y="158184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1202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203080" y="160164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203080" y="156168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203080" y="153144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51232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593680" y="160164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593680" y="156168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593680" y="153144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9032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984640" y="160164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984640" y="156168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984640" y="153144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293880" y="162036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375600" y="160164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375600" y="156168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375600" y="153144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527160" y="158544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880880" y="182520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4971240" y="174852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052960" y="172980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052960" y="168984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052960" y="165924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36220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443920" y="172980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443920" y="168984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443920" y="165924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75280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34520" y="172980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34520" y="168984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34520" y="165924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143760" y="174852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6226560" y="172980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6226560" y="168984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226560" y="165924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5" name=""/>
            <p:cNvSpPr/>
            <p:nvPr/>
          </p:nvSpPr>
          <p:spPr>
            <a:xfrm>
              <a:off x="1839240" y="192888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37800" y="192888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307840" y="192888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0" y="185220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79" name=""/>
            <p:cNvGrpSpPr/>
            <p:nvPr/>
          </p:nvGrpSpPr>
          <p:grpSpPr>
            <a:xfrm>
              <a:off x="6507720" y="1531440"/>
              <a:ext cx="1797840" cy="685800"/>
              <a:chOff x="6507720" y="1531440"/>
              <a:chExt cx="1797840" cy="685800"/>
            </a:xfrm>
          </p:grpSpPr>
          <p:sp>
            <p:nvSpPr>
              <p:cNvPr id="1180" name=""/>
              <p:cNvSpPr/>
              <p:nvPr/>
            </p:nvSpPr>
            <p:spPr>
              <a:xfrm>
                <a:off x="6507720" y="158184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672876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805080" y="160200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805080" y="156204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805080" y="153144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09092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166160" y="160200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166160" y="156204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166160" y="153144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45200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27240" y="160200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27240" y="156204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527240" y="153144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812720" y="16207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888320" y="160200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888320" y="156204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888320" y="153144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031600" y="158436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507720" y="182592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591240" y="174888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666480" y="173052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66480" y="169020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666480" y="165960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95232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027560" y="173052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027560" y="169020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027560" y="165960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31340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388640" y="173052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388640" y="169020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388640" y="165960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674480" y="174888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750800" y="173052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750800" y="169020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750800" y="165960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5" name=""/>
            <p:cNvSpPr/>
            <p:nvPr/>
          </p:nvSpPr>
          <p:spPr>
            <a:xfrm>
              <a:off x="6646680" y="186336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6" name=""/>
          <p:cNvSpPr/>
          <p:nvPr/>
        </p:nvSpPr>
        <p:spPr>
          <a:xfrm>
            <a:off x="2666880" y="304812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85800" y="350532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666880" y="434340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685800" y="480060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666880" y="5715000"/>
            <a:ext cx="487692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ebb11f"/>
                </a:solidFill>
                <a:latin typeface="Arial"/>
              </a:rPr>
              <a:t>Technical  &amp;  Services  Certificatio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85800" y="6172200"/>
            <a:ext cx="6858000" cy="3808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3300"/>
                </a:solidFill>
                <a:latin typeface="Arial"/>
              </a:rPr>
              <a:t>Product  Sales 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04920" y="3200400"/>
            <a:ext cx="1371600" cy="5335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dbdb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roducto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04920" y="4495680"/>
            <a:ext cx="1371600" cy="5335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Intermed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04920" y="5800680"/>
            <a:ext cx="1371600" cy="600120"/>
          </a:xfrm>
          <a:prstGeom prst="downArrow">
            <a:avLst>
              <a:gd name="adj1" fmla="val 69963"/>
              <a:gd name="adj2" fmla="val 50833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777777"/>
                </a:solidFill>
                <a:latin typeface="Arial"/>
              </a:rPr>
              <a:t>Avanza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76320" y="2286000"/>
            <a:ext cx="8000640" cy="533520"/>
            <a:chOff x="76320" y="2286000"/>
            <a:chExt cx="8000640" cy="533520"/>
          </a:xfrm>
        </p:grpSpPr>
        <p:sp>
          <p:nvSpPr>
            <p:cNvPr id="1226" name=""/>
            <p:cNvSpPr/>
            <p:nvPr/>
          </p:nvSpPr>
          <p:spPr>
            <a:xfrm>
              <a:off x="7632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716920" y="228600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35824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9" name=""/>
          <p:cNvSpPr/>
          <p:nvPr/>
        </p:nvSpPr>
        <p:spPr>
          <a:xfrm>
            <a:off x="0" y="23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334120" y="2286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75960" y="3805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br>
              <a:rPr sz="3200"/>
            </a:br>
            <a:r>
              <a:rPr b="1" lang="es-AR" sz="2400" spc="-1" strike="noStrike">
                <a:solidFill>
                  <a:srgbClr val="ebb11f"/>
                </a:solidFill>
                <a:latin typeface="Arial"/>
              </a:rPr>
              <a:t>Technicals Certifications</a:t>
            </a:r>
            <a:endParaRPr b="1" lang="en-US" sz="24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76320" y="2666880"/>
          <a:ext cx="7924680" cy="4191120"/>
        </p:xfrm>
        <a:graphic>
          <a:graphicData uri="http://schemas.openxmlformats.org/drawingml/2006/table">
            <a:tbl>
              <a:tblPr/>
              <a:tblGrid>
                <a:gridCol w="792468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0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34" name=""/>
          <p:cNvGrpSpPr/>
          <p:nvPr/>
        </p:nvGrpSpPr>
        <p:grpSpPr>
          <a:xfrm>
            <a:off x="7924680" y="2954160"/>
            <a:ext cx="1447560" cy="3390120"/>
            <a:chOff x="7924680" y="2954160"/>
            <a:chExt cx="1447560" cy="3390120"/>
          </a:xfrm>
        </p:grpSpPr>
        <p:sp>
          <p:nvSpPr>
            <p:cNvPr id="1235" name=""/>
            <p:cNvSpPr/>
            <p:nvPr/>
          </p:nvSpPr>
          <p:spPr>
            <a:xfrm>
              <a:off x="8000640" y="29541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8000640" y="4189320"/>
              <a:ext cx="137160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924680" y="5697360"/>
              <a:ext cx="1371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8000640" y="531792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8000640" y="4022640"/>
              <a:ext cx="121932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828800" y="7632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1523880" y="2362320"/>
            <a:ext cx="5029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0" y="1528920"/>
            <a:ext cx="8305560" cy="930600"/>
            <a:chOff x="0" y="1528920"/>
            <a:chExt cx="8305560" cy="930600"/>
          </a:xfrm>
        </p:grpSpPr>
        <p:grpSp>
          <p:nvGrpSpPr>
            <p:cNvPr id="1243" name=""/>
            <p:cNvGrpSpPr/>
            <p:nvPr/>
          </p:nvGrpSpPr>
          <p:grpSpPr>
            <a:xfrm>
              <a:off x="48240" y="1528920"/>
              <a:ext cx="1828800" cy="693000"/>
              <a:chOff x="48240" y="1528920"/>
              <a:chExt cx="1828800" cy="693000"/>
            </a:xfrm>
          </p:grpSpPr>
          <p:sp>
            <p:nvSpPr>
              <p:cNvPr id="1244" name=""/>
              <p:cNvSpPr/>
              <p:nvPr/>
            </p:nvSpPr>
            <p:spPr>
              <a:xfrm>
                <a:off x="48240" y="158004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7288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351000" y="160020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51000" y="155952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351000" y="152892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64116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17840" y="160020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17840" y="155952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17840" y="152892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10087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08504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108504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1085040" y="152892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1375920" y="16192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452600" y="160020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1452600" y="155952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452600" y="152892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598400" y="1582560"/>
                <a:ext cx="274680" cy="63936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48240" y="1826280"/>
                <a:ext cx="1551240" cy="39528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32840" y="174888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09520" y="173016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09520" y="168948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09520" y="165852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5004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7708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7708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77080" y="165852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676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943920" y="173016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943920" y="168948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943920" y="165852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1234800" y="174888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1312560" y="173016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1312560" y="168948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1312560" y="165852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9" name=""/>
            <p:cNvGrpSpPr/>
            <p:nvPr/>
          </p:nvGrpSpPr>
          <p:grpSpPr>
            <a:xfrm>
              <a:off x="1563840" y="1535400"/>
              <a:ext cx="1936800" cy="685440"/>
              <a:chOff x="1563840" y="1535400"/>
              <a:chExt cx="1936800" cy="685440"/>
            </a:xfrm>
          </p:grpSpPr>
          <p:sp>
            <p:nvSpPr>
              <p:cNvPr id="1280" name=""/>
              <p:cNvSpPr/>
              <p:nvPr/>
            </p:nvSpPr>
            <p:spPr>
              <a:xfrm>
                <a:off x="1563840" y="158580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18018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188424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88424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884240" y="153540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1920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273400" y="160596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273400" y="156564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273400" y="153540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58084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662200" y="160596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662200" y="156564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662200" y="153540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970000" y="1624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051000" y="160596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051000" y="156564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051000" y="153540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201480" y="158940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1563840" y="182916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1653840" y="175248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1735200" y="173376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1735200" y="169380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1735200" y="166320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20430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2124000" y="173376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124000" y="169380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124000" y="166320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43144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2512800" y="173376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2512800" y="169380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512800" y="166320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2820600" y="175248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2902680" y="173376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902680" y="169380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902680" y="166320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5" name=""/>
            <p:cNvGrpSpPr/>
            <p:nvPr/>
          </p:nvGrpSpPr>
          <p:grpSpPr>
            <a:xfrm>
              <a:off x="3205440" y="1528920"/>
              <a:ext cx="2023920" cy="690840"/>
              <a:chOff x="3205440" y="1528920"/>
              <a:chExt cx="2023920" cy="690840"/>
            </a:xfrm>
          </p:grpSpPr>
          <p:sp>
            <p:nvSpPr>
              <p:cNvPr id="1316" name=""/>
              <p:cNvSpPr/>
              <p:nvPr/>
            </p:nvSpPr>
            <p:spPr>
              <a:xfrm>
                <a:off x="3205440" y="157968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17" name=""/>
              <p:cNvGrpSpPr/>
              <p:nvPr/>
            </p:nvGrpSpPr>
            <p:grpSpPr>
              <a:xfrm>
                <a:off x="3454920" y="1528920"/>
                <a:ext cx="357480" cy="148680"/>
                <a:chOff x="3454920" y="1528920"/>
                <a:chExt cx="357480" cy="14868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34549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19" name=""/>
                <p:cNvGrpSpPr/>
                <p:nvPr/>
              </p:nvGrpSpPr>
              <p:grpSpPr>
                <a:xfrm>
                  <a:off x="3540240" y="1528920"/>
                  <a:ext cx="268560" cy="137520"/>
                  <a:chOff x="3540240" y="1528920"/>
                  <a:chExt cx="268560" cy="137520"/>
                </a:xfrm>
              </p:grpSpPr>
              <p:sp>
                <p:nvSpPr>
                  <p:cNvPr id="1320" name=""/>
                  <p:cNvSpPr/>
                  <p:nvPr/>
                </p:nvSpPr>
                <p:spPr>
                  <a:xfrm>
                    <a:off x="35402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35402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35402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3" name=""/>
              <p:cNvGrpSpPr/>
              <p:nvPr/>
            </p:nvGrpSpPr>
            <p:grpSpPr>
              <a:xfrm>
                <a:off x="3861720" y="1528920"/>
                <a:ext cx="357480" cy="148680"/>
                <a:chOff x="3861720" y="1528920"/>
                <a:chExt cx="357480" cy="14868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386172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5" name=""/>
                <p:cNvGrpSpPr/>
                <p:nvPr/>
              </p:nvGrpSpPr>
              <p:grpSpPr>
                <a:xfrm>
                  <a:off x="3947040" y="1528920"/>
                  <a:ext cx="268560" cy="137520"/>
                  <a:chOff x="3947040" y="1528920"/>
                  <a:chExt cx="268560" cy="137520"/>
                </a:xfrm>
              </p:grpSpPr>
              <p:sp>
                <p:nvSpPr>
                  <p:cNvPr id="1326" name=""/>
                  <p:cNvSpPr/>
                  <p:nvPr/>
                </p:nvSpPr>
                <p:spPr>
                  <a:xfrm>
                    <a:off x="394704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394704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8" name=""/>
                  <p:cNvSpPr/>
                  <p:nvPr/>
                </p:nvSpPr>
                <p:spPr>
                  <a:xfrm>
                    <a:off x="394704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9" name=""/>
              <p:cNvGrpSpPr/>
              <p:nvPr/>
            </p:nvGrpSpPr>
            <p:grpSpPr>
              <a:xfrm>
                <a:off x="4268160" y="1528920"/>
                <a:ext cx="357480" cy="148680"/>
                <a:chOff x="4268160" y="1528920"/>
                <a:chExt cx="357480" cy="14868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42681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1" name=""/>
                <p:cNvGrpSpPr/>
                <p:nvPr/>
              </p:nvGrpSpPr>
              <p:grpSpPr>
                <a:xfrm>
                  <a:off x="4353480" y="1528920"/>
                  <a:ext cx="268560" cy="137520"/>
                  <a:chOff x="4353480" y="1528920"/>
                  <a:chExt cx="268560" cy="137520"/>
                </a:xfrm>
              </p:grpSpPr>
              <p:sp>
                <p:nvSpPr>
                  <p:cNvPr id="1332" name=""/>
                  <p:cNvSpPr/>
                  <p:nvPr/>
                </p:nvSpPr>
                <p:spPr>
                  <a:xfrm>
                    <a:off x="43534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"/>
                  <p:cNvSpPr/>
                  <p:nvPr/>
                </p:nvSpPr>
                <p:spPr>
                  <a:xfrm>
                    <a:off x="43534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"/>
                  <p:cNvSpPr/>
                  <p:nvPr/>
                </p:nvSpPr>
                <p:spPr>
                  <a:xfrm>
                    <a:off x="43534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5" name=""/>
              <p:cNvGrpSpPr/>
              <p:nvPr/>
            </p:nvGrpSpPr>
            <p:grpSpPr>
              <a:xfrm>
                <a:off x="4674960" y="1528920"/>
                <a:ext cx="357480" cy="148680"/>
                <a:chOff x="4674960" y="1528920"/>
                <a:chExt cx="357480" cy="14868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4674960" y="161892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37" name=""/>
                <p:cNvGrpSpPr/>
                <p:nvPr/>
              </p:nvGrpSpPr>
              <p:grpSpPr>
                <a:xfrm>
                  <a:off x="4760280" y="1528920"/>
                  <a:ext cx="268560" cy="137520"/>
                  <a:chOff x="4760280" y="1528920"/>
                  <a:chExt cx="268560" cy="137520"/>
                </a:xfrm>
              </p:grpSpPr>
              <p:sp>
                <p:nvSpPr>
                  <p:cNvPr id="1338" name=""/>
                  <p:cNvSpPr/>
                  <p:nvPr/>
                </p:nvSpPr>
                <p:spPr>
                  <a:xfrm>
                    <a:off x="4760280" y="160020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760280" y="155952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4760280" y="152892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41" name=""/>
              <p:cNvSpPr/>
              <p:nvPr/>
            </p:nvSpPr>
            <p:spPr>
              <a:xfrm>
                <a:off x="4917240" y="1583280"/>
                <a:ext cx="305640" cy="63648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205440" y="1824840"/>
                <a:ext cx="1717200" cy="39312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3299040" y="1657800"/>
                <a:ext cx="357480" cy="148680"/>
                <a:chOff x="3299040" y="1657800"/>
                <a:chExt cx="357480" cy="14868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29904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45" name=""/>
                <p:cNvGrpSpPr/>
                <p:nvPr/>
              </p:nvGrpSpPr>
              <p:grpSpPr>
                <a:xfrm>
                  <a:off x="3384360" y="1657800"/>
                  <a:ext cx="268560" cy="137520"/>
                  <a:chOff x="3384360" y="1657800"/>
                  <a:chExt cx="268560" cy="137520"/>
                </a:xfrm>
              </p:grpSpPr>
              <p:sp>
                <p:nvSpPr>
                  <p:cNvPr id="1346" name=""/>
                  <p:cNvSpPr/>
                  <p:nvPr/>
                </p:nvSpPr>
                <p:spPr>
                  <a:xfrm>
                    <a:off x="338436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338436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338436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9" name=""/>
              <p:cNvGrpSpPr/>
              <p:nvPr/>
            </p:nvGrpSpPr>
            <p:grpSpPr>
              <a:xfrm>
                <a:off x="3705480" y="1657800"/>
                <a:ext cx="357480" cy="148680"/>
                <a:chOff x="3705480" y="1657800"/>
                <a:chExt cx="357480" cy="14868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37054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1" name=""/>
                <p:cNvGrpSpPr/>
                <p:nvPr/>
              </p:nvGrpSpPr>
              <p:grpSpPr>
                <a:xfrm>
                  <a:off x="3790800" y="1657800"/>
                  <a:ext cx="268560" cy="137520"/>
                  <a:chOff x="3790800" y="1657800"/>
                  <a:chExt cx="268560" cy="137520"/>
                </a:xfrm>
              </p:grpSpPr>
              <p:sp>
                <p:nvSpPr>
                  <p:cNvPr id="1352" name=""/>
                  <p:cNvSpPr/>
                  <p:nvPr/>
                </p:nvSpPr>
                <p:spPr>
                  <a:xfrm>
                    <a:off x="37908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"/>
                  <p:cNvSpPr/>
                  <p:nvPr/>
                </p:nvSpPr>
                <p:spPr>
                  <a:xfrm>
                    <a:off x="37908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"/>
                  <p:cNvSpPr/>
                  <p:nvPr/>
                </p:nvSpPr>
                <p:spPr>
                  <a:xfrm>
                    <a:off x="37908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5" name=""/>
              <p:cNvGrpSpPr/>
              <p:nvPr/>
            </p:nvGrpSpPr>
            <p:grpSpPr>
              <a:xfrm>
                <a:off x="4111920" y="1657800"/>
                <a:ext cx="357480" cy="148680"/>
                <a:chOff x="4111920" y="1657800"/>
                <a:chExt cx="357480" cy="14868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411192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57" name=""/>
                <p:cNvGrpSpPr/>
                <p:nvPr/>
              </p:nvGrpSpPr>
              <p:grpSpPr>
                <a:xfrm>
                  <a:off x="4197240" y="1657800"/>
                  <a:ext cx="268560" cy="137520"/>
                  <a:chOff x="4197240" y="1657800"/>
                  <a:chExt cx="268560" cy="137520"/>
                </a:xfrm>
              </p:grpSpPr>
              <p:sp>
                <p:nvSpPr>
                  <p:cNvPr id="1358" name=""/>
                  <p:cNvSpPr/>
                  <p:nvPr/>
                </p:nvSpPr>
                <p:spPr>
                  <a:xfrm>
                    <a:off x="419724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"/>
                  <p:cNvSpPr/>
                  <p:nvPr/>
                </p:nvSpPr>
                <p:spPr>
                  <a:xfrm>
                    <a:off x="419724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"/>
                  <p:cNvSpPr/>
                  <p:nvPr/>
                </p:nvSpPr>
                <p:spPr>
                  <a:xfrm>
                    <a:off x="419724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1" name=""/>
              <p:cNvGrpSpPr/>
              <p:nvPr/>
            </p:nvGrpSpPr>
            <p:grpSpPr>
              <a:xfrm>
                <a:off x="4519080" y="1657800"/>
                <a:ext cx="357480" cy="148680"/>
                <a:chOff x="4519080" y="1657800"/>
                <a:chExt cx="357480" cy="14868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4519080" y="174780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63" name=""/>
                <p:cNvGrpSpPr/>
                <p:nvPr/>
              </p:nvGrpSpPr>
              <p:grpSpPr>
                <a:xfrm>
                  <a:off x="4604400" y="1657800"/>
                  <a:ext cx="268560" cy="137520"/>
                  <a:chOff x="4604400" y="1657800"/>
                  <a:chExt cx="268560" cy="137520"/>
                </a:xfrm>
              </p:grpSpPr>
              <p:sp>
                <p:nvSpPr>
                  <p:cNvPr id="1364" name=""/>
                  <p:cNvSpPr/>
                  <p:nvPr/>
                </p:nvSpPr>
                <p:spPr>
                  <a:xfrm>
                    <a:off x="4604400" y="172908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4604400" y="168840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"/>
                  <p:cNvSpPr/>
                  <p:nvPr/>
                </p:nvSpPr>
                <p:spPr>
                  <a:xfrm>
                    <a:off x="4604400" y="165780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67" name=""/>
            <p:cNvGrpSpPr/>
            <p:nvPr/>
          </p:nvGrpSpPr>
          <p:grpSpPr>
            <a:xfrm>
              <a:off x="4880880" y="1536480"/>
              <a:ext cx="1946520" cy="685440"/>
              <a:chOff x="4880880" y="1536480"/>
              <a:chExt cx="1946520" cy="685440"/>
            </a:xfrm>
          </p:grpSpPr>
          <p:sp>
            <p:nvSpPr>
              <p:cNvPr id="1368" name=""/>
              <p:cNvSpPr/>
              <p:nvPr/>
            </p:nvSpPr>
            <p:spPr>
              <a:xfrm>
                <a:off x="4880880" y="1586880"/>
                <a:ext cx="194652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120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2030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2030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203080" y="153648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51232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5593680" y="160668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5593680" y="156672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5593680" y="153648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9032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98464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98464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984640" y="153648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293880" y="1625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375600" y="160668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375600" y="1566720"/>
                <a:ext cx="258840" cy="7488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375600" y="153648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527160" y="1590480"/>
                <a:ext cx="2937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4880880" y="1829880"/>
                <a:ext cx="1651320" cy="39024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971240" y="17532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052960" y="173484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052960" y="16945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052960" y="166428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3622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4439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4439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443920" y="166428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75280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834520" y="173484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834520" y="16945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834520" y="166428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143760" y="17532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226560" y="173484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226560" y="16945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226560" y="166428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3" name=""/>
            <p:cNvSpPr/>
            <p:nvPr/>
          </p:nvSpPr>
          <p:spPr>
            <a:xfrm>
              <a:off x="1839240" y="193392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37800" y="193392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307840" y="193392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0" y="18568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07" name=""/>
            <p:cNvGrpSpPr/>
            <p:nvPr/>
          </p:nvGrpSpPr>
          <p:grpSpPr>
            <a:xfrm>
              <a:off x="6507720" y="1536480"/>
              <a:ext cx="1797840" cy="685080"/>
              <a:chOff x="6507720" y="1536480"/>
              <a:chExt cx="1797840" cy="685080"/>
            </a:xfrm>
          </p:grpSpPr>
          <p:sp>
            <p:nvSpPr>
              <p:cNvPr id="1408" name=""/>
              <p:cNvSpPr/>
              <p:nvPr/>
            </p:nvSpPr>
            <p:spPr>
              <a:xfrm>
                <a:off x="6507720" y="158688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72876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80508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80508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805080" y="153648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70909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7166160" y="160704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166160" y="1566720"/>
                <a:ext cx="23760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166160" y="153648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745200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752724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52724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527240" y="153648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812720" y="1625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888320" y="160704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888320" y="1566720"/>
                <a:ext cx="239040" cy="7488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888320" y="153648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8031600" y="1589040"/>
                <a:ext cx="270000" cy="6325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507720" y="1830600"/>
                <a:ext cx="1525320" cy="39096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591240" y="175392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666480" y="173556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666480" y="169524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666480" y="166464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95232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2756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2756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27560" y="166464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31340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388640" y="173556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388640" y="169524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388640" y="166464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674480" y="175392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750800" y="173556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750800" y="169524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750800" y="166464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43" name=""/>
            <p:cNvSpPr/>
            <p:nvPr/>
          </p:nvSpPr>
          <p:spPr>
            <a:xfrm>
              <a:off x="6646680" y="18680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76320" y="2286000"/>
            <a:ext cx="8000640" cy="533520"/>
            <a:chOff x="76320" y="2286000"/>
            <a:chExt cx="8000640" cy="533520"/>
          </a:xfrm>
        </p:grpSpPr>
        <p:sp>
          <p:nvSpPr>
            <p:cNvPr id="1445" name=""/>
            <p:cNvSpPr/>
            <p:nvPr/>
          </p:nvSpPr>
          <p:spPr>
            <a:xfrm>
              <a:off x="7632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16920" y="228600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58240" y="228600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0" y="23004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666880" y="22860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5334120" y="22860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5638680" y="320040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 ASE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3048120" y="449568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.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638680" y="4495680"/>
            <a:ext cx="198144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E Full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3048120" y="5486400"/>
            <a:ext cx="198108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2 Ass. 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(319) Multivend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StorageWorks UNi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5638680" y="5486400"/>
            <a:ext cx="198144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ASE Ful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/ Win 2000 o Net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Intel + Stora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1 Master A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High Avail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ebb11f"/>
                </a:solidFill>
                <a:latin typeface="Arial"/>
              </a:rPr>
              <a:t>SAN 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048120" y="3200400"/>
            <a:ext cx="19810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400" spc="-1" strike="noStrike">
                <a:solidFill>
                  <a:srgbClr val="ebb11f"/>
                </a:solidFill>
                <a:latin typeface="Arial"/>
              </a:rPr>
              <a:t>1 Ass. ASE</a:t>
            </a:r>
            <a:r>
              <a:rPr b="1" lang="es-AR" sz="1600" spc="-1" strike="noStrike">
                <a:solidFill>
                  <a:srgbClr val="ebb11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26"/>
              </a:spcBef>
              <a:buClr>
                <a:srgbClr val="91b3f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300" spc="-1" strike="noStrike">
                <a:solidFill>
                  <a:srgbClr val="ebb11f"/>
                </a:solidFill>
                <a:latin typeface="Arial"/>
              </a:rPr>
              <a:t>AlphaServer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685800" y="320976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85800" y="451008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636480" y="5881680"/>
            <a:ext cx="1573200" cy="38916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1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AR" sz="1300" spc="-1" strike="noStrike">
                <a:solidFill>
                  <a:srgbClr val="ffffff"/>
                </a:solidFill>
                <a:latin typeface="Arial"/>
              </a:rPr>
              <a:t>Requisit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8686800" y="1752480"/>
            <a:ext cx="304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1" name=""/>
          <p:cNvGrpSpPr/>
          <p:nvPr/>
        </p:nvGrpSpPr>
        <p:grpSpPr>
          <a:xfrm>
            <a:off x="8001000" y="2666880"/>
            <a:ext cx="1371240" cy="3390120"/>
            <a:chOff x="8001000" y="2666880"/>
            <a:chExt cx="1371240" cy="3390120"/>
          </a:xfrm>
        </p:grpSpPr>
        <p:sp>
          <p:nvSpPr>
            <p:cNvPr id="1462" name=""/>
            <p:cNvSpPr/>
            <p:nvPr/>
          </p:nvSpPr>
          <p:spPr>
            <a:xfrm>
              <a:off x="8072640" y="2666880"/>
              <a:ext cx="1299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roductor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AR" sz="1600" spc="-1" strike="noStrike">
                  <a:solidFill>
                    <a:srgbClr val="f8eb6e"/>
                  </a:solidFill>
                  <a:latin typeface="Arial"/>
                </a:rPr>
                <a:t>Eli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072640" y="3902040"/>
              <a:ext cx="1299600" cy="92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Intermediat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f8eb6e"/>
                  </a:solidFill>
                  <a:latin typeface="Arial"/>
                </a:rPr>
                <a:t>Premi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001000" y="5410080"/>
              <a:ext cx="1299600" cy="64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AR" sz="1200" spc="-1" strike="noStrike">
                  <a:solidFill>
                    <a:srgbClr val="ffffff"/>
                  </a:solidFill>
                  <a:latin typeface="Arial"/>
                </a:rPr>
                <a:t>Advan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1600" spc="-1" strike="noStrike">
                  <a:solidFill>
                    <a:srgbClr val="ebb11f"/>
                  </a:solidFill>
                  <a:latin typeface="Arial"/>
                </a:rPr>
                <a:t>Strateg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072640" y="5030640"/>
              <a:ext cx="115524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072640" y="3735360"/>
              <a:ext cx="1155240" cy="0"/>
            </a:xfrm>
            <a:prstGeom prst="line">
              <a:avLst/>
            </a:prstGeom>
            <a:ln w="38160">
              <a:solidFill>
                <a:srgbClr val="ebb1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7" name=""/>
          <p:cNvSpPr/>
          <p:nvPr/>
        </p:nvSpPr>
        <p:spPr>
          <a:xfrm>
            <a:off x="8077320" y="2590920"/>
            <a:ext cx="11430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410080" y="6400800"/>
            <a:ext cx="228600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329 StorageWorks Solut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on Win NT &amp; NetWa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3124080" y="6172200"/>
            <a:ext cx="18288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8e3a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319 Multivend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StorageWor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 </a:t>
            </a:r>
            <a:r>
              <a:rPr b="1" lang="es-AR" sz="1400" spc="-1" strike="noStrike">
                <a:solidFill>
                  <a:srgbClr val="ebb11f"/>
                </a:solidFill>
                <a:latin typeface="Arial"/>
              </a:rPr>
              <a:t>UNIX Platfo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9372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Programa de Desarrollo de Canales</a:t>
            </a:r>
            <a:br>
              <a:rPr sz="3200"/>
            </a:br>
            <a:r>
              <a:rPr b="1" lang="es-AR" sz="2400" spc="-1" strike="noStrike">
                <a:solidFill>
                  <a:srgbClr val="ff0000"/>
                </a:solidFill>
                <a:latin typeface="Arial"/>
              </a:rPr>
              <a:t>Product Sales Knowledge</a:t>
            </a:r>
            <a:endParaRPr b="1" lang="en-US" sz="2400" spc="-1" strike="noStrike">
              <a:solidFill>
                <a:srgbClr val="91b3f7"/>
              </a:solidFill>
              <a:latin typeface="Arial"/>
            </a:endParaRPr>
          </a:p>
        </p:txBody>
      </p:sp>
      <p:graphicFrame>
        <p:nvGraphicFramePr>
          <p:cNvPr id="1471" name=""/>
          <p:cNvGraphicFramePr/>
          <p:nvPr/>
        </p:nvGraphicFramePr>
        <p:xfrm>
          <a:off x="76320" y="2590920"/>
          <a:ext cx="8001000" cy="42670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07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2" name=""/>
          <p:cNvSpPr/>
          <p:nvPr/>
        </p:nvSpPr>
        <p:spPr>
          <a:xfrm>
            <a:off x="1828800" y="0"/>
            <a:ext cx="2438280" cy="457200"/>
          </a:xfrm>
          <a:prstGeom prst="rect">
            <a:avLst/>
          </a:prstGeom>
          <a:solidFill>
            <a:srgbClr val="c842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0" y="1436760"/>
            <a:ext cx="8305560" cy="930600"/>
            <a:chOff x="0" y="1436760"/>
            <a:chExt cx="8305560" cy="930600"/>
          </a:xfrm>
        </p:grpSpPr>
        <p:grpSp>
          <p:nvGrpSpPr>
            <p:cNvPr id="1474" name=""/>
            <p:cNvGrpSpPr/>
            <p:nvPr/>
          </p:nvGrpSpPr>
          <p:grpSpPr>
            <a:xfrm>
              <a:off x="48240" y="1436760"/>
              <a:ext cx="1828800" cy="693360"/>
              <a:chOff x="48240" y="1436760"/>
              <a:chExt cx="1828800" cy="693360"/>
            </a:xfrm>
          </p:grpSpPr>
          <p:sp>
            <p:nvSpPr>
              <p:cNvPr id="1475" name=""/>
              <p:cNvSpPr/>
              <p:nvPr/>
            </p:nvSpPr>
            <p:spPr>
              <a:xfrm>
                <a:off x="48240" y="1487880"/>
                <a:ext cx="1828800" cy="24876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e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27288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51000" y="1508040"/>
                <a:ext cx="24156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51000" y="1467360"/>
                <a:ext cx="24156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51000" y="1436760"/>
                <a:ext cx="241560" cy="66240"/>
              </a:xfrm>
              <a:prstGeom prst="ellips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4116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17840" y="1508040"/>
                <a:ext cx="24192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17840" y="1467360"/>
                <a:ext cx="24192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717840" y="1436760"/>
                <a:ext cx="241920" cy="66240"/>
              </a:xfrm>
              <a:prstGeom prst="ellips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00872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085040" y="150804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085040" y="146736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085040" y="1436760"/>
                <a:ext cx="243000" cy="66240"/>
              </a:xfrm>
              <a:prstGeom prst="ellips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375920" y="15271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452600" y="1508040"/>
                <a:ext cx="243000" cy="6624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452600" y="1467360"/>
                <a:ext cx="243000" cy="7596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452600" y="1436760"/>
                <a:ext cx="243000" cy="6624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598400" y="1490400"/>
                <a:ext cx="274680" cy="63972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8240" y="1734480"/>
                <a:ext cx="1551240" cy="395640"/>
              </a:xfrm>
              <a:prstGeom prst="rect">
                <a:avLst/>
              </a:pr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32840" y="1656720"/>
                <a:ext cx="32220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209520" y="1638000"/>
                <a:ext cx="24192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209520" y="1597320"/>
                <a:ext cx="24192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209520" y="1566360"/>
                <a:ext cx="241920" cy="66240"/>
              </a:xfrm>
              <a:prstGeom prst="ellips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004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77080" y="163800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77080" y="159732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77080" y="1566360"/>
                <a:ext cx="243000" cy="6624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8676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943920" y="1638000"/>
                <a:ext cx="24300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943920" y="1597320"/>
                <a:ext cx="24300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943920" y="1566360"/>
                <a:ext cx="243000" cy="66240"/>
              </a:xfrm>
              <a:prstGeom prst="ellips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234800" y="1656720"/>
                <a:ext cx="323280" cy="5940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b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312560" y="1638000"/>
                <a:ext cx="241560" cy="6696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312560" y="1597320"/>
                <a:ext cx="241560" cy="76680"/>
              </a:xfrm>
              <a:prstGeom prst="rect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b1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312560" y="1566360"/>
                <a:ext cx="241560" cy="66240"/>
              </a:xfrm>
              <a:prstGeom prst="ellipse">
                <a:avLst/>
              </a:prstGeom>
              <a:blipFill rotWithShape="0">
                <a:blip r:embed="rId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0" name=""/>
            <p:cNvGrpSpPr/>
            <p:nvPr/>
          </p:nvGrpSpPr>
          <p:grpSpPr>
            <a:xfrm>
              <a:off x="1563840" y="1443240"/>
              <a:ext cx="1936800" cy="685440"/>
              <a:chOff x="1563840" y="1443240"/>
              <a:chExt cx="1936800" cy="685440"/>
            </a:xfrm>
          </p:grpSpPr>
          <p:sp>
            <p:nvSpPr>
              <p:cNvPr id="1511" name=""/>
              <p:cNvSpPr/>
              <p:nvPr/>
            </p:nvSpPr>
            <p:spPr>
              <a:xfrm>
                <a:off x="1563840" y="1493640"/>
                <a:ext cx="1936800" cy="24444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eae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80180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884240" y="151380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884240" y="147348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884240" y="1443240"/>
                <a:ext cx="256320" cy="65160"/>
              </a:xfrm>
              <a:prstGeom prst="ellipse">
                <a:avLst/>
              </a:prstGeom>
              <a:blipFill rotWithShape="0">
                <a:blip r:embed="rId1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19204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273400" y="1513800"/>
                <a:ext cx="25632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273400" y="1473480"/>
                <a:ext cx="25632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273400" y="1443240"/>
                <a:ext cx="256320" cy="65160"/>
              </a:xfrm>
              <a:prstGeom prst="ellipse">
                <a:avLst/>
              </a:prstGeom>
              <a:blipFill rotWithShape="0">
                <a:blip r:embed="rId1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58084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662200" y="1513800"/>
                <a:ext cx="25740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2662200" y="1473480"/>
                <a:ext cx="25740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2662200" y="1443240"/>
                <a:ext cx="257400" cy="65160"/>
              </a:xfrm>
              <a:prstGeom prst="ellipse">
                <a:avLst/>
              </a:prstGeom>
              <a:blipFill rotWithShape="0">
                <a:blip r:embed="rId1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970000" y="153216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3051000" y="1513800"/>
                <a:ext cx="257040" cy="6516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3051000" y="1473480"/>
                <a:ext cx="257040" cy="7488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051000" y="1443240"/>
                <a:ext cx="257040" cy="65160"/>
              </a:xfrm>
              <a:prstGeom prst="ellipse">
                <a:avLst/>
              </a:prstGeom>
              <a:blipFill rotWithShape="0">
                <a:blip r:embed="rId1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3201480" y="1497240"/>
                <a:ext cx="291960" cy="6314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563840" y="1737000"/>
                <a:ext cx="1643040" cy="390240"/>
              </a:xfrm>
              <a:prstGeom prst="rect">
                <a:avLst/>
              </a:prstGeom>
              <a:solidFill>
                <a:srgbClr val="d4d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653840" y="1660320"/>
                <a:ext cx="3412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735200" y="1641600"/>
                <a:ext cx="25596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735200" y="1601640"/>
                <a:ext cx="25596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735200" y="1571040"/>
                <a:ext cx="255960" cy="65160"/>
              </a:xfrm>
              <a:prstGeom prst="ellipse">
                <a:avLst/>
              </a:prstGeom>
              <a:blipFill rotWithShape="0">
                <a:blip r:embed="rId1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04300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2124000" y="1641600"/>
                <a:ext cx="25704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2124000" y="160164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124000" y="1571040"/>
                <a:ext cx="257040" cy="65160"/>
              </a:xfrm>
              <a:prstGeom prst="ellipse">
                <a:avLst/>
              </a:prstGeom>
              <a:blipFill rotWithShape="0">
                <a:blip r:embed="rId1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43144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512800" y="1641600"/>
                <a:ext cx="25740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512800" y="160164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512800" y="1571040"/>
                <a:ext cx="257400" cy="65160"/>
              </a:xfrm>
              <a:prstGeom prst="ellipse">
                <a:avLst/>
              </a:prstGeom>
              <a:blipFill rotWithShape="0">
                <a:blip r:embed="rId1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820600" y="1660320"/>
                <a:ext cx="3423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cfc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902680" y="1641600"/>
                <a:ext cx="256320" cy="66240"/>
              </a:xfrm>
              <a:prstGeom prst="ellipse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902680" y="1601640"/>
                <a:ext cx="256320" cy="75600"/>
              </a:xfrm>
              <a:prstGeom prst="rect">
                <a:avLst/>
              </a:prstGeom>
              <a:gradFill rotWithShape="0">
                <a:gsLst>
                  <a:gs pos="0">
                    <a:srgbClr val="ffff00"/>
                  </a:gs>
                  <a:gs pos="100000">
                    <a:srgbClr val="b1b1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902680" y="1571040"/>
                <a:ext cx="256320" cy="65160"/>
              </a:xfrm>
              <a:prstGeom prst="ellipse">
                <a:avLst/>
              </a:prstGeom>
              <a:blipFill rotWithShape="0">
                <a:blip r:embed="rId1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46" name=""/>
            <p:cNvGrpSpPr/>
            <p:nvPr/>
          </p:nvGrpSpPr>
          <p:grpSpPr>
            <a:xfrm>
              <a:off x="3205440" y="1436760"/>
              <a:ext cx="2023920" cy="691200"/>
              <a:chOff x="3205440" y="1436760"/>
              <a:chExt cx="2023920" cy="691200"/>
            </a:xfrm>
          </p:grpSpPr>
          <p:sp>
            <p:nvSpPr>
              <p:cNvPr id="1547" name=""/>
              <p:cNvSpPr/>
              <p:nvPr/>
            </p:nvSpPr>
            <p:spPr>
              <a:xfrm>
                <a:off x="3205440" y="1487520"/>
                <a:ext cx="2023920" cy="2466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b1be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48" name=""/>
              <p:cNvGrpSpPr/>
              <p:nvPr/>
            </p:nvGrpSpPr>
            <p:grpSpPr>
              <a:xfrm>
                <a:off x="3454920" y="1436760"/>
                <a:ext cx="357480" cy="148680"/>
                <a:chOff x="3454920" y="1436760"/>
                <a:chExt cx="357480" cy="148680"/>
              </a:xfrm>
            </p:grpSpPr>
            <p:sp>
              <p:nvSpPr>
                <p:cNvPr id="1549" name=""/>
                <p:cNvSpPr/>
                <p:nvPr/>
              </p:nvSpPr>
              <p:spPr>
                <a:xfrm>
                  <a:off x="345492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"/>
                <p:cNvGrpSpPr/>
                <p:nvPr/>
              </p:nvGrpSpPr>
              <p:grpSpPr>
                <a:xfrm>
                  <a:off x="3540240" y="1436760"/>
                  <a:ext cx="268560" cy="137520"/>
                  <a:chOff x="3540240" y="1436760"/>
                  <a:chExt cx="268560" cy="137520"/>
                </a:xfrm>
              </p:grpSpPr>
              <p:sp>
                <p:nvSpPr>
                  <p:cNvPr id="1551" name=""/>
                  <p:cNvSpPr/>
                  <p:nvPr/>
                </p:nvSpPr>
                <p:spPr>
                  <a:xfrm>
                    <a:off x="354024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>
                    <a:off x="354024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3" name=""/>
                  <p:cNvSpPr/>
                  <p:nvPr/>
                </p:nvSpPr>
                <p:spPr>
                  <a:xfrm>
                    <a:off x="354024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4" name=""/>
              <p:cNvGrpSpPr/>
              <p:nvPr/>
            </p:nvGrpSpPr>
            <p:grpSpPr>
              <a:xfrm>
                <a:off x="3861720" y="1436760"/>
                <a:ext cx="357480" cy="148680"/>
                <a:chOff x="3861720" y="1436760"/>
                <a:chExt cx="357480" cy="148680"/>
              </a:xfrm>
            </p:grpSpPr>
            <p:sp>
              <p:nvSpPr>
                <p:cNvPr id="1555" name=""/>
                <p:cNvSpPr/>
                <p:nvPr/>
              </p:nvSpPr>
              <p:spPr>
                <a:xfrm>
                  <a:off x="386172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56" name=""/>
                <p:cNvGrpSpPr/>
                <p:nvPr/>
              </p:nvGrpSpPr>
              <p:grpSpPr>
                <a:xfrm>
                  <a:off x="3947040" y="1436760"/>
                  <a:ext cx="268560" cy="137520"/>
                  <a:chOff x="3947040" y="1436760"/>
                  <a:chExt cx="268560" cy="137520"/>
                </a:xfrm>
              </p:grpSpPr>
              <p:sp>
                <p:nvSpPr>
                  <p:cNvPr id="1557" name=""/>
                  <p:cNvSpPr/>
                  <p:nvPr/>
                </p:nvSpPr>
                <p:spPr>
                  <a:xfrm>
                    <a:off x="394704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394704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394704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0" name=""/>
              <p:cNvGrpSpPr/>
              <p:nvPr/>
            </p:nvGrpSpPr>
            <p:grpSpPr>
              <a:xfrm>
                <a:off x="4268160" y="1436760"/>
                <a:ext cx="357480" cy="148680"/>
                <a:chOff x="4268160" y="1436760"/>
                <a:chExt cx="357480" cy="1486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426816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2" name=""/>
                <p:cNvGrpSpPr/>
                <p:nvPr/>
              </p:nvGrpSpPr>
              <p:grpSpPr>
                <a:xfrm>
                  <a:off x="4353480" y="1436760"/>
                  <a:ext cx="268560" cy="137520"/>
                  <a:chOff x="4353480" y="1436760"/>
                  <a:chExt cx="268560" cy="13752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>
                    <a:off x="435348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435348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435348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6" name=""/>
              <p:cNvGrpSpPr/>
              <p:nvPr/>
            </p:nvGrpSpPr>
            <p:grpSpPr>
              <a:xfrm>
                <a:off x="4674960" y="1436760"/>
                <a:ext cx="357480" cy="148680"/>
                <a:chOff x="4674960" y="1436760"/>
                <a:chExt cx="357480" cy="1486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674960" y="152676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68" name=""/>
                <p:cNvGrpSpPr/>
                <p:nvPr/>
              </p:nvGrpSpPr>
              <p:grpSpPr>
                <a:xfrm>
                  <a:off x="4760280" y="1436760"/>
                  <a:ext cx="268560" cy="137520"/>
                  <a:chOff x="4760280" y="1436760"/>
                  <a:chExt cx="268560" cy="137520"/>
                </a:xfrm>
              </p:grpSpPr>
              <p:sp>
                <p:nvSpPr>
                  <p:cNvPr id="1569" name=""/>
                  <p:cNvSpPr/>
                  <p:nvPr/>
                </p:nvSpPr>
                <p:spPr>
                  <a:xfrm>
                    <a:off x="4760280" y="150804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4760280" y="146736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4760280" y="143676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72" name=""/>
              <p:cNvSpPr/>
              <p:nvPr/>
            </p:nvSpPr>
            <p:spPr>
              <a:xfrm>
                <a:off x="4917240" y="1491120"/>
                <a:ext cx="305640" cy="63684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cbd4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205440" y="1732680"/>
                <a:ext cx="1717200" cy="393480"/>
              </a:xfrm>
              <a:prstGeom prst="rect">
                <a:avLst/>
              </a:prstGeom>
              <a:solidFill>
                <a:srgbClr val="a5b4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3299040" y="1565640"/>
                <a:ext cx="357480" cy="148680"/>
                <a:chOff x="3299040" y="1565640"/>
                <a:chExt cx="357480" cy="14868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329904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3384360" y="1565640"/>
                  <a:ext cx="268560" cy="137520"/>
                  <a:chOff x="3384360" y="1565640"/>
                  <a:chExt cx="268560" cy="13752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338436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338436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338436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0" name=""/>
              <p:cNvGrpSpPr/>
              <p:nvPr/>
            </p:nvGrpSpPr>
            <p:grpSpPr>
              <a:xfrm>
                <a:off x="3705480" y="1565640"/>
                <a:ext cx="357480" cy="148680"/>
                <a:chOff x="3705480" y="1565640"/>
                <a:chExt cx="357480" cy="14868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370548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2" name=""/>
                <p:cNvGrpSpPr/>
                <p:nvPr/>
              </p:nvGrpSpPr>
              <p:grpSpPr>
                <a:xfrm>
                  <a:off x="3790800" y="1565640"/>
                  <a:ext cx="268560" cy="137520"/>
                  <a:chOff x="3790800" y="1565640"/>
                  <a:chExt cx="268560" cy="137520"/>
                </a:xfrm>
              </p:grpSpPr>
              <p:sp>
                <p:nvSpPr>
                  <p:cNvPr id="1583" name=""/>
                  <p:cNvSpPr/>
                  <p:nvPr/>
                </p:nvSpPr>
                <p:spPr>
                  <a:xfrm>
                    <a:off x="379080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379080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379080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6" name=""/>
              <p:cNvGrpSpPr/>
              <p:nvPr/>
            </p:nvGrpSpPr>
            <p:grpSpPr>
              <a:xfrm>
                <a:off x="4111920" y="1565640"/>
                <a:ext cx="357480" cy="148680"/>
                <a:chOff x="4111920" y="1565640"/>
                <a:chExt cx="357480" cy="14868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411192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88" name=""/>
                <p:cNvGrpSpPr/>
                <p:nvPr/>
              </p:nvGrpSpPr>
              <p:grpSpPr>
                <a:xfrm>
                  <a:off x="4197240" y="1565640"/>
                  <a:ext cx="268560" cy="137520"/>
                  <a:chOff x="4197240" y="1565640"/>
                  <a:chExt cx="268560" cy="137520"/>
                </a:xfrm>
              </p:grpSpPr>
              <p:sp>
                <p:nvSpPr>
                  <p:cNvPr id="1589" name=""/>
                  <p:cNvSpPr/>
                  <p:nvPr/>
                </p:nvSpPr>
                <p:spPr>
                  <a:xfrm>
                    <a:off x="419724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>
                    <a:off x="419724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419724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"/>
              <p:cNvGrpSpPr/>
              <p:nvPr/>
            </p:nvGrpSpPr>
            <p:grpSpPr>
              <a:xfrm>
                <a:off x="4519080" y="1565640"/>
                <a:ext cx="357480" cy="148680"/>
                <a:chOff x="4519080" y="1565640"/>
                <a:chExt cx="357480" cy="148680"/>
              </a:xfrm>
            </p:grpSpPr>
            <p:sp>
              <p:nvSpPr>
                <p:cNvPr id="1593" name=""/>
                <p:cNvSpPr/>
                <p:nvPr/>
              </p:nvSpPr>
              <p:spPr>
                <a:xfrm>
                  <a:off x="4519080" y="1655640"/>
                  <a:ext cx="357480" cy="58680"/>
                </a:xfrm>
                <a:custGeom>
                  <a:avLst/>
                  <a:gdLst/>
                  <a:ahLst/>
                  <a:rect l="l" t="t" r="r" b="b"/>
                  <a:pathLst>
                    <a:path w="959" h="283">
                      <a:moveTo>
                        <a:pt x="243" y="0"/>
                      </a:moveTo>
                      <a:cubicBezTo>
                        <a:pt x="207" y="3"/>
                        <a:pt x="168" y="21"/>
                        <a:pt x="107" y="56"/>
                      </a:cubicBezTo>
                      <a:cubicBezTo>
                        <a:pt x="46" y="91"/>
                        <a:pt x="0" y="125"/>
                        <a:pt x="6" y="168"/>
                      </a:cubicBezTo>
                      <a:cubicBezTo>
                        <a:pt x="72" y="276"/>
                        <a:pt x="264" y="276"/>
                        <a:pt x="357" y="279"/>
                      </a:cubicBezTo>
                      <a:cubicBezTo>
                        <a:pt x="450" y="282"/>
                        <a:pt x="478" y="283"/>
                        <a:pt x="552" y="279"/>
                      </a:cubicBezTo>
                      <a:cubicBezTo>
                        <a:pt x="626" y="274"/>
                        <a:pt x="702" y="258"/>
                        <a:pt x="740" y="248"/>
                      </a:cubicBezTo>
                      <a:cubicBezTo>
                        <a:pt x="796" y="232"/>
                        <a:pt x="848" y="216"/>
                        <a:pt x="890" y="182"/>
                      </a:cubicBezTo>
                      <a:cubicBezTo>
                        <a:pt x="932" y="148"/>
                        <a:pt x="959" y="103"/>
                        <a:pt x="944" y="90"/>
                      </a:cubicBezTo>
                      <a:lnTo>
                        <a:pt x="801" y="102"/>
                      </a:lnTo>
                      <a:lnTo>
                        <a:pt x="546" y="65"/>
                      </a:lnTo>
                      <a:lnTo>
                        <a:pt x="324" y="3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solidFill>
                  <a:srgbClr val="9faf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"/>
                <p:cNvGrpSpPr/>
                <p:nvPr/>
              </p:nvGrpSpPr>
              <p:grpSpPr>
                <a:xfrm>
                  <a:off x="4604400" y="1565640"/>
                  <a:ext cx="268560" cy="137520"/>
                  <a:chOff x="4604400" y="1565640"/>
                  <a:chExt cx="268560" cy="137520"/>
                </a:xfrm>
              </p:grpSpPr>
              <p:sp>
                <p:nvSpPr>
                  <p:cNvPr id="1595" name=""/>
                  <p:cNvSpPr/>
                  <p:nvPr/>
                </p:nvSpPr>
                <p:spPr>
                  <a:xfrm>
                    <a:off x="4604400" y="1636920"/>
                    <a:ext cx="268560" cy="66240"/>
                  </a:xfrm>
                  <a:prstGeom prst="ellipse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4604400" y="1596240"/>
                    <a:ext cx="268560" cy="75960"/>
                  </a:xfrm>
                  <a:prstGeom prst="rect">
                    <a:avLst/>
                  </a:prstGeom>
                  <a:solidFill>
                    <a:srgbClr val="bfc9e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4604400" y="1565640"/>
                    <a:ext cx="268560" cy="66240"/>
                  </a:xfrm>
                  <a:prstGeom prst="ellipse">
                    <a:avLst/>
                  </a:prstGeom>
                  <a:solidFill>
                    <a:srgbClr val="b1be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98" name=""/>
            <p:cNvGrpSpPr/>
            <p:nvPr/>
          </p:nvGrpSpPr>
          <p:grpSpPr>
            <a:xfrm>
              <a:off x="4880880" y="1444320"/>
              <a:ext cx="1946520" cy="685800"/>
              <a:chOff x="4880880" y="1444320"/>
              <a:chExt cx="1946520" cy="685800"/>
            </a:xfrm>
          </p:grpSpPr>
          <p:sp>
            <p:nvSpPr>
              <p:cNvPr id="1599" name=""/>
              <p:cNvSpPr/>
              <p:nvPr/>
            </p:nvSpPr>
            <p:spPr>
              <a:xfrm>
                <a:off x="4880880" y="1494720"/>
                <a:ext cx="1946520" cy="244800"/>
              </a:xfrm>
              <a:custGeom>
                <a:avLst/>
                <a:gdLst/>
                <a:ahLst/>
                <a:rect l="l" t="t" r="r" b="b"/>
                <a:pathLst>
                  <a:path w="5425" h="1188">
                    <a:moveTo>
                      <a:pt x="0" y="1182"/>
                    </a:moveTo>
                    <a:lnTo>
                      <a:pt x="4601" y="1188"/>
                    </a:lnTo>
                    <a:lnTo>
                      <a:pt x="5425" y="6"/>
                    </a:lnTo>
                    <a:lnTo>
                      <a:pt x="815" y="0"/>
                    </a:lnTo>
                    <a:lnTo>
                      <a:pt x="0" y="1182"/>
                    </a:lnTo>
                  </a:path>
                </a:pathLst>
              </a:custGeom>
              <a:solidFill>
                <a:srgbClr val="27c4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1202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203080" y="151452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203080" y="147456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203080" y="1444320"/>
                <a:ext cx="257400" cy="65160"/>
              </a:xfrm>
              <a:prstGeom prst="ellipse">
                <a:avLst/>
              </a:prstGeom>
              <a:blipFill rotWithShape="0">
                <a:blip r:embed="rId1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51232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593680" y="1514520"/>
                <a:ext cx="25740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593680" y="1474560"/>
                <a:ext cx="25740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593680" y="1444320"/>
                <a:ext cx="257400" cy="65160"/>
              </a:xfrm>
              <a:prstGeom prst="ellipse">
                <a:avLst/>
              </a:prstGeom>
              <a:blipFill rotWithShape="0">
                <a:blip r:embed="rId1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9032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984640" y="151452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984640" y="147456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984640" y="1444320"/>
                <a:ext cx="258840" cy="65160"/>
              </a:xfrm>
              <a:prstGeom prst="ellipse">
                <a:avLst/>
              </a:prstGeom>
              <a:blipFill rotWithShape="0">
                <a:blip r:embed="rId2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293880" y="153324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6375600" y="1514520"/>
                <a:ext cx="258840" cy="6552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375600" y="1474560"/>
                <a:ext cx="258840" cy="7524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375600" y="1444320"/>
                <a:ext cx="258840" cy="65160"/>
              </a:xfrm>
              <a:prstGeom prst="ellipse">
                <a:avLst/>
              </a:prstGeom>
              <a:blipFill rotWithShape="0">
                <a:blip r:embed="rId2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527160" y="1498320"/>
                <a:ext cx="293760" cy="631800"/>
              </a:xfrm>
              <a:custGeom>
                <a:avLst/>
                <a:gdLst/>
                <a:ahLst/>
                <a:rect l="l" t="t" r="r" b="b"/>
                <a:pathLst>
                  <a:path w="821" h="3063">
                    <a:moveTo>
                      <a:pt x="821" y="0"/>
                    </a:moveTo>
                    <a:lnTo>
                      <a:pt x="821" y="1882"/>
                    </a:lnTo>
                    <a:lnTo>
                      <a:pt x="7" y="3063"/>
                    </a:lnTo>
                    <a:lnTo>
                      <a:pt x="0" y="1163"/>
                    </a:lnTo>
                  </a:path>
                </a:pathLst>
              </a:custGeom>
              <a:solidFill>
                <a:srgbClr val="45e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880880" y="1738080"/>
                <a:ext cx="1651320" cy="390600"/>
              </a:xfrm>
              <a:prstGeom prst="rect">
                <a:avLst/>
              </a:prstGeom>
              <a:solidFill>
                <a:srgbClr val="00a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4971240" y="1661400"/>
                <a:ext cx="34272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052960" y="1642680"/>
                <a:ext cx="2570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052960" y="1602720"/>
                <a:ext cx="2570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052960" y="1572120"/>
                <a:ext cx="257040" cy="65160"/>
              </a:xfrm>
              <a:prstGeom prst="ellipse">
                <a:avLst/>
              </a:prstGeom>
              <a:blipFill rotWithShape="0">
                <a:blip r:embed="rId2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36220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443920" y="164268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443920" y="16027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443920" y="1572120"/>
                <a:ext cx="258840" cy="65160"/>
              </a:xfrm>
              <a:prstGeom prst="ellipse">
                <a:avLst/>
              </a:prstGeom>
              <a:blipFill rotWithShape="0">
                <a:blip r:embed="rId2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75280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834520" y="1642680"/>
                <a:ext cx="25884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834520" y="1602720"/>
                <a:ext cx="25884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834520" y="1572120"/>
                <a:ext cx="258840" cy="65160"/>
              </a:xfrm>
              <a:prstGeom prst="ellipse">
                <a:avLst/>
              </a:prstGeom>
              <a:blipFill rotWithShape="0">
                <a:blip r:embed="rId2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143760" y="1661400"/>
                <a:ext cx="34416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a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226560" y="1642680"/>
                <a:ext cx="257400" cy="65880"/>
              </a:xfrm>
              <a:prstGeom prst="ellipse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226560" y="1602720"/>
                <a:ext cx="257400" cy="75600"/>
              </a:xfrm>
              <a:prstGeom prst="rect">
                <a:avLst/>
              </a:prstGeom>
              <a:gradFill rotWithShape="0">
                <a:gsLst>
                  <a:gs pos="0">
                    <a:srgbClr val="45e700"/>
                  </a:gs>
                  <a:gs pos="100000">
                    <a:srgbClr val="2889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226560" y="1572120"/>
                <a:ext cx="257400" cy="65160"/>
              </a:xfrm>
              <a:prstGeom prst="ellipse">
                <a:avLst/>
              </a:prstGeom>
              <a:blipFill rotWithShape="0">
                <a:blip r:embed="rId2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4" name=""/>
            <p:cNvSpPr/>
            <p:nvPr/>
          </p:nvSpPr>
          <p:spPr>
            <a:xfrm>
              <a:off x="1839240" y="1841760"/>
              <a:ext cx="1029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W/HW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velopme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37800" y="1841760"/>
              <a:ext cx="71856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vider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307840" y="1841760"/>
              <a:ext cx="87732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Consultan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.I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0" y="1765080"/>
              <a:ext cx="158652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Product &amp;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 Sale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8" name=""/>
            <p:cNvGrpSpPr/>
            <p:nvPr/>
          </p:nvGrpSpPr>
          <p:grpSpPr>
            <a:xfrm>
              <a:off x="6507720" y="1444320"/>
              <a:ext cx="1797840" cy="685800"/>
              <a:chOff x="6507720" y="1444320"/>
              <a:chExt cx="1797840" cy="685800"/>
            </a:xfrm>
          </p:grpSpPr>
          <p:sp>
            <p:nvSpPr>
              <p:cNvPr id="1639" name=""/>
              <p:cNvSpPr/>
              <p:nvPr/>
            </p:nvSpPr>
            <p:spPr>
              <a:xfrm>
                <a:off x="6507720" y="1494720"/>
                <a:ext cx="1797840" cy="245880"/>
              </a:xfrm>
              <a:custGeom>
                <a:avLst/>
                <a:gdLst/>
                <a:ahLst/>
                <a:rect l="l" t="t" r="r" b="b"/>
                <a:pathLst>
                  <a:path w="1504" h="330">
                    <a:moveTo>
                      <a:pt x="0" y="327"/>
                    </a:moveTo>
                    <a:lnTo>
                      <a:pt x="1277" y="330"/>
                    </a:lnTo>
                    <a:lnTo>
                      <a:pt x="1504" y="2"/>
                    </a:lnTo>
                    <a:lnTo>
                      <a:pt x="226" y="0"/>
                    </a:lnTo>
                    <a:lnTo>
                      <a:pt x="0" y="327"/>
                    </a:lnTo>
                  </a:path>
                </a:pathLst>
              </a:custGeom>
              <a:solidFill>
                <a:srgbClr val="3a3a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72876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805080" y="151488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805080" y="147492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805080" y="1444320"/>
                <a:ext cx="237600" cy="65520"/>
              </a:xfrm>
              <a:prstGeom prst="ellipse">
                <a:avLst/>
              </a:prstGeom>
              <a:blipFill rotWithShape="0">
                <a:blip r:embed="rId2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09092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7166160" y="1514880"/>
                <a:ext cx="23760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7166160" y="1474920"/>
                <a:ext cx="23760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166160" y="1444320"/>
                <a:ext cx="237600" cy="65520"/>
              </a:xfrm>
              <a:prstGeom prst="ellipse">
                <a:avLst/>
              </a:prstGeom>
              <a:blipFill rotWithShape="0">
                <a:blip r:embed="rId2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45200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527240" y="151488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527240" y="147492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527240" y="1444320"/>
                <a:ext cx="239040" cy="65520"/>
              </a:xfrm>
              <a:prstGeom prst="ellipse">
                <a:avLst/>
              </a:prstGeom>
              <a:blipFill rotWithShape="0">
                <a:blip r:embed="rId2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812720" y="153360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888320" y="1514880"/>
                <a:ext cx="239040" cy="6552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7888320" y="1474920"/>
                <a:ext cx="239040" cy="7524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888320" y="1444320"/>
                <a:ext cx="239040" cy="65520"/>
              </a:xfrm>
              <a:prstGeom prst="ellipse">
                <a:avLst/>
              </a:prstGeom>
              <a:blipFill rotWithShape="0">
                <a:blip r:embed="rId29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031600" y="1497240"/>
                <a:ext cx="270000" cy="632880"/>
              </a:xfrm>
              <a:custGeom>
                <a:avLst/>
                <a:gdLst/>
                <a:ahLst/>
                <a:rect l="l" t="t" r="r" b="b"/>
                <a:pathLst>
                  <a:path w="226" h="849">
                    <a:moveTo>
                      <a:pt x="226" y="0"/>
                    </a:moveTo>
                    <a:lnTo>
                      <a:pt x="226" y="522"/>
                    </a:lnTo>
                    <a:lnTo>
                      <a:pt x="1" y="849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4d4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507720" y="1738800"/>
                <a:ext cx="1525320" cy="391320"/>
              </a:xfrm>
              <a:prstGeom prst="rect">
                <a:avLst/>
              </a:prstGeom>
              <a:solidFill>
                <a:srgbClr val="0000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591240" y="1661760"/>
                <a:ext cx="31644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666480" y="1643400"/>
                <a:ext cx="23796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666480" y="1603080"/>
                <a:ext cx="23796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666480" y="1572480"/>
                <a:ext cx="237960" cy="65520"/>
              </a:xfrm>
              <a:prstGeom prst="ellipse">
                <a:avLst/>
              </a:prstGeom>
              <a:blipFill rotWithShape="0">
                <a:blip r:embed="rId30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95232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7027560" y="164340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7027560" y="160308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027560" y="1572480"/>
                <a:ext cx="239040" cy="65520"/>
              </a:xfrm>
              <a:prstGeom prst="ellipse">
                <a:avLst/>
              </a:prstGeom>
              <a:blipFill rotWithShape="0">
                <a:blip r:embed="rId3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31340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7388640" y="1643400"/>
                <a:ext cx="23904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388640" y="1603080"/>
                <a:ext cx="23904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388640" y="1572480"/>
                <a:ext cx="239040" cy="65520"/>
              </a:xfrm>
              <a:prstGeom prst="ellipse">
                <a:avLst/>
              </a:prstGeom>
              <a:blipFill rotWithShape="0">
                <a:blip r:embed="rId3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674480" y="1661760"/>
                <a:ext cx="317880" cy="58680"/>
              </a:xfrm>
              <a:custGeom>
                <a:avLst/>
                <a:gdLst/>
                <a:ahLst/>
                <a:rect l="l" t="t" r="r" b="b"/>
                <a:pathLst>
                  <a:path w="959" h="283">
                    <a:moveTo>
                      <a:pt x="243" y="0"/>
                    </a:moveTo>
                    <a:cubicBezTo>
                      <a:pt x="207" y="3"/>
                      <a:pt x="168" y="21"/>
                      <a:pt x="107" y="56"/>
                    </a:cubicBezTo>
                    <a:cubicBezTo>
                      <a:pt x="46" y="91"/>
                      <a:pt x="0" y="125"/>
                      <a:pt x="6" y="168"/>
                    </a:cubicBezTo>
                    <a:cubicBezTo>
                      <a:pt x="72" y="276"/>
                      <a:pt x="264" y="276"/>
                      <a:pt x="357" y="279"/>
                    </a:cubicBezTo>
                    <a:cubicBezTo>
                      <a:pt x="450" y="282"/>
                      <a:pt x="478" y="283"/>
                      <a:pt x="552" y="279"/>
                    </a:cubicBezTo>
                    <a:cubicBezTo>
                      <a:pt x="626" y="274"/>
                      <a:pt x="702" y="258"/>
                      <a:pt x="740" y="248"/>
                    </a:cubicBezTo>
                    <a:cubicBezTo>
                      <a:pt x="796" y="232"/>
                      <a:pt x="848" y="216"/>
                      <a:pt x="890" y="182"/>
                    </a:cubicBezTo>
                    <a:cubicBezTo>
                      <a:pt x="932" y="148"/>
                      <a:pt x="959" y="103"/>
                      <a:pt x="944" y="90"/>
                    </a:cubicBezTo>
                    <a:lnTo>
                      <a:pt x="801" y="102"/>
                    </a:lnTo>
                    <a:lnTo>
                      <a:pt x="546" y="65"/>
                    </a:lnTo>
                    <a:lnTo>
                      <a:pt x="324" y="35"/>
                    </a:lnTo>
                    <a:lnTo>
                      <a:pt x="243" y="0"/>
                    </a:lnTo>
                    <a:close/>
                  </a:path>
                </a:pathLst>
              </a:custGeom>
              <a:solidFill>
                <a:srgbClr val="0000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2960" bIns="12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750800" y="1643400"/>
                <a:ext cx="237600" cy="66240"/>
              </a:xfrm>
              <a:prstGeom prst="ellipse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750800" y="1603080"/>
                <a:ext cx="237600" cy="75600"/>
              </a:xfrm>
              <a:prstGeom prst="rect">
                <a:avLst/>
              </a:prstGeom>
              <a:gradFill rotWithShape="0">
                <a:gsLst>
                  <a:gs pos="0">
                    <a:srgbClr val="4d4dff"/>
                  </a:gs>
                  <a:gs pos="100000">
                    <a:srgbClr val="3535b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7750800" y="1572480"/>
                <a:ext cx="237600" cy="65520"/>
              </a:xfrm>
              <a:prstGeom prst="ellipse">
                <a:avLst/>
              </a:prstGeom>
              <a:blipFill rotWithShape="0">
                <a:blip r:embed="rId3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74" name=""/>
            <p:cNvSpPr/>
            <p:nvPr/>
          </p:nvSpPr>
          <p:spPr>
            <a:xfrm>
              <a:off x="6646680" y="1776240"/>
              <a:ext cx="12250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ervic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Deliver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5" name=""/>
          <p:cNvSpPr/>
          <p:nvPr/>
        </p:nvSpPr>
        <p:spPr>
          <a:xfrm>
            <a:off x="8077320" y="6858000"/>
            <a:ext cx="1143000" cy="0"/>
          </a:xfrm>
          <a:prstGeom prst="line">
            <a:avLst/>
          </a:prstGeom>
          <a:ln w="38160">
            <a:solidFill>
              <a:srgbClr val="ebb1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457200" y="327672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76320" y="2209680"/>
            <a:ext cx="8000640" cy="533520"/>
            <a:chOff x="76320" y="2209680"/>
            <a:chExt cx="8000640" cy="533520"/>
          </a:xfrm>
        </p:grpSpPr>
        <p:sp>
          <p:nvSpPr>
            <p:cNvPr id="1678" name=""/>
            <p:cNvSpPr/>
            <p:nvPr/>
          </p:nvSpPr>
          <p:spPr>
            <a:xfrm>
              <a:off x="76320" y="220968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716920" y="2209680"/>
              <a:ext cx="2719080" cy="533520"/>
            </a:xfrm>
            <a:prstGeom prst="downArrowCallout">
              <a:avLst>
                <a:gd name="adj1" fmla="val 127424"/>
                <a:gd name="adj2" fmla="val 127412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358240" y="2209680"/>
              <a:ext cx="2718720" cy="533520"/>
            </a:xfrm>
            <a:prstGeom prst="downArrowCallout">
              <a:avLst>
                <a:gd name="adj1" fmla="val 127407"/>
                <a:gd name="adj2" fmla="val 127395"/>
                <a:gd name="adj3" fmla="val 16667"/>
                <a:gd name="adj4" fmla="val 66667"/>
              </a:avLst>
            </a:prstGeom>
            <a:gradFill rotWithShape="0">
              <a:gsLst>
                <a:gs pos="0">
                  <a:srgbClr val="d05a3a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1" name=""/>
          <p:cNvSpPr/>
          <p:nvPr/>
        </p:nvSpPr>
        <p:spPr>
          <a:xfrm>
            <a:off x="-76320" y="22240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ccess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259092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AlphaServer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5257800" y="22096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ff"/>
                </a:solidFill>
                <a:latin typeface="Arial"/>
              </a:rPr>
              <a:t>Storage Chan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019920" y="3048120"/>
            <a:ext cx="129528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>
            <a:off x="5486400" y="4343400"/>
            <a:ext cx="220968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ast Trac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EBS (441) Full Line (559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3200400" y="411480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457200" y="449568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457200" y="6019920"/>
            <a:ext cx="19051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Access Product I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3200400" y="5562720"/>
            <a:ext cx="167652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509 Alph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ales Training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6019920" y="3809880"/>
            <a:ext cx="129528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Proliant (IL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5410080" y="5943600"/>
            <a:ext cx="2210040" cy="380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SAN Solution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Fast Trak (560--56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410080" y="5486400"/>
            <a:ext cx="22860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Storage FTrack</a:t>
            </a: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 (559) (441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5410080" y="5105520"/>
            <a:ext cx="228600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3300"/>
                </a:solidFill>
                <a:latin typeface="Arial"/>
              </a:rPr>
              <a:t>Clusters en Prolia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990720" y="28954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990720" y="403848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990720" y="5486400"/>
            <a:ext cx="83808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400" spc="-1" strike="noStrike">
                <a:solidFill>
                  <a:srgbClr val="ff5050"/>
                </a:solidFill>
                <a:latin typeface="Arial"/>
              </a:rPr>
              <a:t>(WB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7" name="Blue%20template%20segue%20bar" descr=""/>
          <p:cNvPicPr/>
          <p:nvPr/>
        </p:nvPicPr>
        <p:blipFill>
          <a:blip r:embed="rId2"/>
          <a:srcRect l="0" t="34099" r="0" b="32756"/>
          <a:stretch/>
        </p:blipFill>
        <p:spPr>
          <a:xfrm>
            <a:off x="0" y="2338560"/>
            <a:ext cx="9144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7T00:27:56Z</dcterms:created>
  <dc:creator/>
  <dc:description/>
  <dc:language>en-US</dc:language>
  <cp:lastModifiedBy>gustavo</cp:lastModifiedBy>
  <cp:lastPrinted>2000-08-21T15:23:38Z</cp:lastPrinted>
  <dcterms:modified xsi:type="dcterms:W3CDTF">2001-11-20T13:06:57Z</dcterms:modified>
  <cp:revision>559</cp:revision>
  <dc:subject/>
  <dc:title>Michael Capellas</dc:title>
</cp:coreProperties>
</file>