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C131-7A0F-4157-9195-87C4CA197C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EEFA8-12DA-4AFB-9E09-5B77A1EC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41DC-3CB3-4051-BF62-278F7079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EA19-5B1D-4757-99B1-8B50024BB7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E7FF9-3B89-4424-92AC-4C52D80E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07BEF-2873-44AF-82E3-9882AA73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EACBC-151B-4CD1-A53E-53D655E4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F7B5F-C4ED-4310-BD7B-729C1769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4A518-E5FE-4958-A968-1E1056B4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21DBF-C158-4D37-9ABD-D4B00D79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50643-C724-4290-BDBA-3820B702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DB0A-1A25-4076-BC2D-BEE5EA0B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55D33-E1B0-4045-97F9-BB522E8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74B8C-E63F-496D-A5DA-7315518C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BC5BC-BD6C-4BE7-AA65-D4997041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F6CCC-F1E9-4966-9B4E-8F08F355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3B084-30D8-47F5-9E01-48B9DCA8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5CDB-4FEA-4F62-9D8B-A9626ABE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30DC-A41E-4388-B1AB-22A29CC1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D9F7-29CC-4BEF-86B8-93C2E67E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37DA-04F8-47AF-9916-99EE1FB8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3E05-1605-4C92-998E-3597BE98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34BE-C18A-47CE-B5F2-FAD1F600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2E2D-ABEF-44A8-A4C4-56480909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7E61-A76D-4678-9F3F-430A128CC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28F9-5CA9-43ED-AC2C-61127B88F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Paraguay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259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7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0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1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6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7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3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4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6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2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6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8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2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4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8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0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2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3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6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8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69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2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4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8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0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1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4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5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5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1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3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4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5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79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6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2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5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9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1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5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7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8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1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3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4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7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9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1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2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5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7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8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1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2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3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7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9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0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3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4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9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3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4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9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0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1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5334120"/>
            <a:ext cx="17524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9718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7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0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7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3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6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0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2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6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8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89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2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8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0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2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6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8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2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4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8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4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5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5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0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1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3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4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5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8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09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5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2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8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0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1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4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6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0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2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6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8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0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4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6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0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2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2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3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3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8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9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2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6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29Z</dcterms:modified>
  <cp:revision>565</cp:revision>
  <dc:subject/>
  <dc:title>Michael Capellas</dc:title>
</cp:coreProperties>
</file>