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03F3-9CBD-4E2A-AC5F-F9CFFA66C0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BED6-2EEC-4714-8D40-3F065FBA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A8C8-5080-4414-9AB6-AF0CBC55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9845-8992-4850-B940-7D68A32C82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FEA5F-F7E4-446B-A723-6CE5571C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6C09F-C776-4227-AC88-C4BB0B9D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4C079-5AFE-4557-8319-2F8F8CDE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977CD-2827-496E-989A-E3213DA6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784BA-2BEC-4A56-9879-BDD87AD3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E12D5-DF96-4FA3-A4FC-33F5BC3B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97425-B82F-42A5-A244-1AFC0FB0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0D2B4-4CDC-4496-99CD-20DCA7DD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54387-A18C-4CC2-84E6-231BB5E4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4EA1F-981F-4063-8057-BFBA981D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74D51-AC92-4F9F-B4E5-0B697FC2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D07BE-3D32-4207-8C9C-BCF43F73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C42D9-6088-4D1F-8A30-7A7DB9BB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9117-EB3D-4EAE-80C0-3006DD1D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A187-3BF5-4AF4-BE73-5727BB51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C25D3-7450-4DA6-A534-E8DBA75E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C620-C697-44A8-B25A-D2952AD8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A6BE-6255-49E6-8228-93003A2A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B998-EDB7-4ADA-B015-7C653CB1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FC51-7739-46BF-9704-E4D9DED9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4ADC-B212-4BAF-A3DF-A4D16726E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E5FE-7D4E-447F-AF14-2B57D9311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ruguay</a:t>
            </a:r>
            <a:endParaRPr b="1" lang="en-US" sz="36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023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7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8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1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2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8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4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7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1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3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7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9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50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3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5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9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1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7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3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5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9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1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5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6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6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4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5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6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80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7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3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4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6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0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2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3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6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8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9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2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4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8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0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2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3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6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8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2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4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8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00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1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4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5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4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5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1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2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5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95680" y="5334120"/>
            <a:ext cx="17528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3716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876920" y="43434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8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4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2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5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6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1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02Z</dcterms:modified>
  <cp:revision>563</cp:revision>
  <dc:subject/>
  <dc:title>Michael Capellas</dc:title>
</cp:coreProperties>
</file>