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gif" ContentType="image/gif"/>
  <Override PartName="/ppt/media/image4.png" ContentType="image/png"/>
  <Override PartName="/ppt/media/image5.png" ContentType="image/png"/>
  <Override PartName="/ppt/embeddings/oleObject1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439D9-A528-4542-AE80-1038C7169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0812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458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80520" y="4130640"/>
            <a:ext cx="8458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EC8CC-D8EF-459D-AF30-C68C18BC7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0812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14560" y="19810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41306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714560" y="41306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46FE0-3C27-4276-86E6-D1C474279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0812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240360" y="198108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100560" y="198108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380520" y="413064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240360" y="413064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100560" y="413064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DBE4B-6E1F-40AC-94B2-918E8592E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9C169-B40F-4713-837A-A307DEA16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0812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38052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004DF-CA89-4EEC-B96B-BC1B9912F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70812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D178C-6CEB-454B-B1D0-0B031BB4F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0812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14560" y="19810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2DBC4-263E-414C-A689-34BB34C85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70812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A14A5-80E2-4C74-9F7F-9E630C431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685800" y="708120"/>
            <a:ext cx="7772400" cy="43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BDCE1-85E5-43B5-9F59-C05F7467E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70812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714560" y="19810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380520" y="41306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1B3F7-05E8-4500-A0BB-69B97B70F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70812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38052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A5499-3841-4241-BF58-D109D407B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70812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714560" y="19810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714560" y="41306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7C6F7-4D4F-4CB9-9D4C-96F2351E2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70812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714560" y="19810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380520" y="4130640"/>
            <a:ext cx="8458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F85A5-87B7-4A4E-A58D-E9EC56AB5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70812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458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80520" y="4130640"/>
            <a:ext cx="8458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81D7D-EA90-450F-A05A-B2F2B173B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70812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714560" y="19810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380520" y="41306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714560" y="41306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B6332-B4D7-4192-8F2C-1E7999E8F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70812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40360" y="198108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100560" y="198108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380520" y="413064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40360" y="413064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100560" y="413064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CA044-3685-422D-96C8-248491C9D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0812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1EBAD-C4A1-418C-BE13-0968E0E17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0812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714560" y="19810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EBE88-239C-4F78-BC93-6B1454386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70812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8259C-E1EC-4A90-94DC-416774956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685800" y="708120"/>
            <a:ext cx="7772400" cy="43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0F43C-60ED-4FE3-9248-CA959A80B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70812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714560" y="19810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380520" y="41306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00AD5-26EF-4B4C-ACC5-156BAC0C6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70812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14560" y="19810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14560" y="41306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02121-915D-4B1E-A995-5D9ACFAAD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0812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14560" y="19810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520" y="4130640"/>
            <a:ext cx="8458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F82F7-9673-418A-BEBD-4B0A78F0A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gif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70812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38052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B216C-812D-4459-BFF8-6173B0EA0F93}" type="datetime">
              <a:rPr b="0" lang="es-ES" sz="1400" spc="-1" strike="noStrike">
                <a:solidFill>
                  <a:srgbClr val="ffffff"/>
                </a:solidFill>
                <a:latin typeface="Arial"/>
              </a:rPr>
              <a:t>30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B1C79-E141-4877-9065-9323DE10AE12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3" name=""/>
          <p:cNvGrpSpPr/>
          <p:nvPr/>
        </p:nvGrpSpPr>
        <p:grpSpPr>
          <a:xfrm>
            <a:off x="76320" y="76320"/>
            <a:ext cx="3124080" cy="609480"/>
            <a:chOff x="76320" y="76320"/>
            <a:chExt cx="3124080" cy="609480"/>
          </a:xfrm>
        </p:grpSpPr>
        <p:graphicFrame>
          <p:nvGraphicFramePr>
            <p:cNvPr id="34" name=""/>
            <p:cNvGraphicFramePr/>
            <p:nvPr/>
          </p:nvGraphicFramePr>
          <p:xfrm>
            <a:off x="76320" y="76320"/>
            <a:ext cx="563400" cy="6094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5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6320" y="76320"/>
                      <a:ext cx="563400" cy="609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6" name=""/>
            <p:cNvSpPr/>
            <p:nvPr/>
          </p:nvSpPr>
          <p:spPr>
            <a:xfrm>
              <a:off x="533520" y="152280"/>
              <a:ext cx="2666880" cy="43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ffffff"/>
                  </a:solidFill>
                  <a:latin typeface="Times New Roman"/>
                </a:rPr>
                <a:t>Ministerio Secretaría General de la Presidencia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ffffff"/>
                  </a:solidFill>
                  <a:latin typeface="Times New Roman"/>
                </a:rPr>
                <a:t>Proyecto de Reforma y Modernización del Estado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4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03" name="BTZBUL1A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CC827-0827-4075-9807-CB1ED48FE943}" type="datetime">
              <a:rPr b="0" lang="es-ES" sz="1400" spc="-1" strike="noStrike">
                <a:solidFill>
                  <a:srgbClr val="ffffff"/>
                </a:solidFill>
                <a:latin typeface="Arial"/>
              </a:rPr>
              <a:t>30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70258-0148-48D8-816C-E7B094257D6E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76320" y="76320"/>
            <a:ext cx="2895480" cy="609480"/>
            <a:chOff x="76320" y="76320"/>
            <a:chExt cx="2895480" cy="609480"/>
          </a:xfrm>
        </p:grpSpPr>
        <p:graphicFrame>
          <p:nvGraphicFramePr>
            <p:cNvPr id="109" name=""/>
            <p:cNvGraphicFramePr/>
            <p:nvPr/>
          </p:nvGraphicFramePr>
          <p:xfrm>
            <a:off x="76320" y="76320"/>
            <a:ext cx="563400" cy="6094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1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6320" y="76320"/>
                      <a:ext cx="563400" cy="609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1" name=""/>
            <p:cNvSpPr/>
            <p:nvPr/>
          </p:nvSpPr>
          <p:spPr>
            <a:xfrm>
              <a:off x="533520" y="152640"/>
              <a:ext cx="243828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800" spc="-1" strike="noStrike">
                  <a:solidFill>
                    <a:srgbClr val="ffffff"/>
                  </a:solidFill>
                  <a:latin typeface="Times New Roman"/>
                </a:rPr>
                <a:t>Ministerio Secretaría General de la Presidencia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800" spc="-1" strike="noStrike">
                  <a:solidFill>
                    <a:srgbClr val="ffffff"/>
                  </a:solidFill>
                  <a:latin typeface="Times New Roman"/>
                </a:rPr>
                <a:t>Proyecto de Reforma y Modernización del Estado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34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hyperlink" Target="http://www.chilecompras.cl/" TargetMode="External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tramitefacil.gob.cl/" TargetMode="External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 Black"/>
              </a:rPr>
              <a:t>Gobierno Electrónico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685440" y="4419360"/>
            <a:ext cx="74674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yecto de Reforma y Modernización del Estad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inisterio Secretaría General de la Presidenc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12208-12E2-44DD-83C7-0A22C9CFB967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8A25B192-1F17-4DE9-8ABB-60ED1FA59496}" type="datetime1">
              <a:rPr lang="en-US"/>
              <a:t>07/30/26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Instrucciones Presidenciales</a:t>
            </a:r>
            <a:br>
              <a:rPr sz="2800"/>
            </a:b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- Buen Gobierno -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7631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SzPct val="10481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Rediseño y simplificación de procesos apoyados por las NTIC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SzPct val="10481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Programas continuos de enseñanza y entrenamient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SzPct val="10481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Disponer de sistemas de información que apoyen funciones internas. Permitir, facilitar y promover comunicaciones mediante uso NTIC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SzPct val="10481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Prestar servicios a otras reparticiones. Conexión y utilización de red del Ministerio del Interio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SzPct val="10481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Introducir indicador de gestión de porcentaje de trámites brindados electrónica y presencialment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SzPct val="104816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Incluir impacto en la organización producido por el desarrollo de los proyectos que usen NTICs. Enfasis en impacto en funcionari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SzPct val="104816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Adopción de estándares de la industria NTICs. Imagén común en Internet, uso progresivo de .gov.cl y .gob.c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SzPct val="104816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Agregación de demanda para conseguir eficiencia en recursos financieros. Contratación conjunta de desarrollo de proyect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3E965-C4A3-443B-B049-D4DA39550B93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C83A48-7508-4CD1-A7CD-7FB462BF72F3}" type="datetime1">
              <a:rPr lang="en-US"/>
              <a:t>07/30/26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Instrucciones Presidenciales</a:t>
            </a:r>
            <a:br>
              <a:rPr sz="2800"/>
            </a:b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- Desarrollo de la Democracia -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2133360"/>
            <a:ext cx="876312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buSzPct val="10481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Adoptar medidas para facilitar a la ciudadanía información pertinente, la consideración de sus opiniones y sugerencias, e instancias de participación ciudadana y la transparenci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SzPct val="10481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Desarrollar páginas web informativas de fácil acceso y comprensivas, vinculando esta información a portales de búsqueda generales, tanto públicos como privad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SzPct val="10481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La Secretaría General de Gobierno velará por estándares de contenido de las páginas web de los diversos Servicios y Ministerios, asegurando el acceso a los ciudadanos a la información general y específica sobre la acción del Gobiern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DE172-C309-4B82-BE47-6F1A6CBA744D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B65F34-8F11-4639-B3FF-00AD91DB963B}" type="datetime1">
              <a:rPr lang="en-US"/>
              <a:t>07/30/26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07760"/>
            <a:ext cx="777240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cc00"/>
                </a:solidFill>
                <a:latin typeface="Arial Black"/>
              </a:rPr>
              <a:t>Instrucciones Presidenciales</a:t>
            </a:r>
            <a:br>
              <a:rPr sz="2800"/>
            </a:br>
            <a:r>
              <a:rPr b="0" lang="it-IT" sz="2800" spc="-1" strike="noStrike">
                <a:solidFill>
                  <a:srgbClr val="ffcc00"/>
                </a:solidFill>
                <a:latin typeface="Arial Black"/>
              </a:rPr>
              <a:t>- Generales -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80520" y="2209320"/>
            <a:ext cx="84582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Seguimiento y Coordinación del cumplimiento de las instrucciones en SEGPRES a cargo del PRM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Generación de antecedentes de inversión y gasto anuales en NTICs, a cargo de la Dirección de Presupuest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Plan que señale cómo se aplicará Instructivo en los Servicios, a cargo de cada Jefe de Servicio. Agosto próxim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BF0BD-55EF-4DD9-9361-14A520A90324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AED192-DD64-4DF1-8D35-4D671522C323}" type="datetime1">
              <a:rPr lang="en-US"/>
              <a:t>07/30/26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8508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cc00"/>
                </a:solidFill>
                <a:latin typeface="Arial Black"/>
              </a:rPr>
              <a:t>Trámites en línea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"/>
          <p:cNvSpPr/>
          <p:nvPr/>
        </p:nvSpPr>
        <p:spPr>
          <a:xfrm>
            <a:off x="380880" y="1371600"/>
            <a:ext cx="2057400" cy="457200"/>
          </a:xfrm>
          <a:prstGeom prst="beve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imes New Roman"/>
              </a:rPr>
              <a:t>Portal de Trámit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276720" y="1371600"/>
            <a:ext cx="2057400" cy="457200"/>
          </a:xfrm>
          <a:prstGeom prst="beve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imes New Roman"/>
              </a:rPr>
              <a:t>Portal de Empres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248520" y="1371600"/>
            <a:ext cx="2057400" cy="457200"/>
          </a:xfrm>
          <a:prstGeom prst="beve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imes New Roman"/>
              </a:rPr>
              <a:t>GobiernodeCh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80880" y="1981080"/>
            <a:ext cx="2057400" cy="457200"/>
          </a:xfrm>
          <a:prstGeom prst="beve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imes New Roman"/>
              </a:rPr>
              <a:t>Impuestos Intern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276720" y="1981080"/>
            <a:ext cx="2057400" cy="457200"/>
          </a:xfrm>
          <a:prstGeom prst="beve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imes New Roman"/>
              </a:rPr>
              <a:t>Aduan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248520" y="1981080"/>
            <a:ext cx="2057400" cy="457200"/>
          </a:xfrm>
          <a:prstGeom prst="beve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imes New Roman"/>
              </a:rPr>
              <a:t>Tesorerí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2590920"/>
            <a:ext cx="2057400" cy="457200"/>
          </a:xfrm>
          <a:prstGeom prst="beve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imes New Roman"/>
              </a:rPr>
              <a:t>Registro Civi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276720" y="2590920"/>
            <a:ext cx="2057400" cy="457200"/>
          </a:xfrm>
          <a:prstGeom prst="beve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imes New Roman"/>
              </a:rPr>
              <a:t>IN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248520" y="2590920"/>
            <a:ext cx="2057400" cy="457200"/>
          </a:xfrm>
          <a:prstGeom prst="beve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imes New Roman"/>
              </a:rPr>
              <a:t>Fonas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80880" y="3200400"/>
            <a:ext cx="2057400" cy="457200"/>
          </a:xfrm>
          <a:prstGeom prst="beve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imes New Roman"/>
              </a:rPr>
              <a:t>ChileCompr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276720" y="3200400"/>
            <a:ext cx="2057400" cy="457200"/>
          </a:xfrm>
          <a:prstGeom prst="beve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imes New Roman"/>
              </a:rPr>
              <a:t>SERNA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248520" y="3200400"/>
            <a:ext cx="2057400" cy="457200"/>
          </a:xfrm>
          <a:prstGeom prst="beve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imes New Roman"/>
              </a:rPr>
              <a:t>SUBT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80880" y="3809880"/>
            <a:ext cx="2057400" cy="457200"/>
          </a:xfrm>
          <a:prstGeom prst="beve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imes New Roman"/>
              </a:rPr>
              <a:t>Min.Viviend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276720" y="3809880"/>
            <a:ext cx="2057400" cy="457200"/>
          </a:xfrm>
          <a:prstGeom prst="beve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imes New Roman"/>
              </a:rPr>
              <a:t>Min.Educa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248520" y="3809880"/>
            <a:ext cx="2057400" cy="457200"/>
          </a:xfrm>
          <a:prstGeom prst="beve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imes New Roman"/>
              </a:rPr>
              <a:t>Min.Obras Públic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80880" y="4495680"/>
            <a:ext cx="2057400" cy="457200"/>
          </a:xfrm>
          <a:prstGeom prst="beve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imes New Roman"/>
              </a:rPr>
              <a:t>Dirección Vialida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276720" y="4495680"/>
            <a:ext cx="2057400" cy="457200"/>
          </a:xfrm>
          <a:prstGeom prst="beve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imes New Roman"/>
              </a:rPr>
              <a:t>SEN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248520" y="4495680"/>
            <a:ext cx="2057400" cy="457200"/>
          </a:xfrm>
          <a:prstGeom prst="beve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imes New Roman"/>
              </a:rPr>
              <a:t>Super Isapr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80880" y="5105520"/>
            <a:ext cx="2057400" cy="457200"/>
          </a:xfrm>
          <a:prstGeom prst="beve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imes New Roman"/>
              </a:rPr>
              <a:t>Dipre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276720" y="5105520"/>
            <a:ext cx="2057400" cy="457200"/>
          </a:xfrm>
          <a:prstGeom prst="beve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imes New Roman"/>
              </a:rPr>
              <a:t>Dir.Mov.Nacion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248520" y="5105520"/>
            <a:ext cx="2057400" cy="457200"/>
          </a:xfrm>
          <a:prstGeom prst="beve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imes New Roman"/>
              </a:rPr>
              <a:t>Directem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80880" y="5715000"/>
            <a:ext cx="7925040" cy="457200"/>
          </a:xfrm>
          <a:prstGeom prst="beve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imes New Roman"/>
              </a:rPr>
              <a:t>Intranet del Estado ( Min. Interior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3F8BA-AD9E-4251-8E89-E0E2EFC454FE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5ED460-A1C3-411D-963A-2095B1D4D54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Instrumentos </a:t>
            </a:r>
            <a:br>
              <a:rPr sz="2800"/>
            </a:b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para el Gobierno Electrónico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C710C-DFDF-4CAF-A589-30040E04593E}" type="slidenum">
              <a:t>1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5B48DA78-38DA-4972-AF38-B266C12C355F}" type="datetime1">
              <a:rPr lang="en-US"/>
              <a:t>07/30/26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92016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cc00"/>
                </a:solidFill>
                <a:latin typeface="Arial Black"/>
              </a:rPr>
              <a:t>Legales y Administrativo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80520" y="167616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SzPct val="10481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Proyecto de Ley de Firma Digital, presentado en Agosto 2000 y aprobado por unanimidad en la Cámara de Diputad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SzPct val="10481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Proyecto de Ley de Dirección de Compras Públicas, se firmó indicación sustitutiva el 11 de May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SzPct val="10481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Instructivo Presidencial de Gobierno Electrónico, suscrito el 11 de May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SzPct val="10481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D.S. 81 – 1999 de la SEGPRES, que regula el uso de la firma digital en el Estad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SzPct val="10481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D.S. 1.312 – 1999, establece sistema de información compras y contrataciones públicas – </a:t>
            </a:r>
            <a:r>
              <a:rPr b="0" lang="es-CL" sz="2000" spc="-1" strike="noStrike" u="sng">
                <a:solidFill>
                  <a:srgbClr val="f98d43"/>
                </a:solidFill>
                <a:uFillTx/>
                <a:latin typeface="Arial"/>
                <a:hlinkClick r:id="rId6"/>
              </a:rPr>
              <a:t>www.chilecompras.cl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, D.S. 54 –2001 que permite la suscripción de acuerdos marc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SzPct val="104816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PMG 2001, obligación de incorporación de parte los Servicios al Sistema de Compra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8FF69-4064-41D3-83CF-EFEB81E3617A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6F0C3D-0C7E-443F-9E9A-B4C48235C6B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92016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cc00"/>
                </a:solidFill>
                <a:latin typeface="Arial Black"/>
              </a:rPr>
              <a:t>Fomento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Concesionamiento de Infraestructura Tecnológica: se ha evaluado técnica y jurídicamente la factibilidad de concesionar Ventanillas Unicas, bajo el marco de Concesionamiento del Ministerio de Obras Públic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Patrocinio a eventos de empresas tecnológicas privadas orientados a mostrar soluciones a Instituciones Públicas – Oracle, elvoucher.com, ACT, empatia, Metrodigital, separende.com 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8CD84-841A-45F9-8327-92D8E0B7AA6F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6EDBD4-8974-4517-9A1E-632DDAF813D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52280" y="578160"/>
            <a:ext cx="876312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Proyectos Transversales</a:t>
            </a:r>
            <a:br>
              <a:rPr sz="2400"/>
            </a:b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- Atención al Ciudadano -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-360" y="1676520"/>
            <a:ext cx="8915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cc00"/>
                </a:solidFill>
                <a:latin typeface="Arial"/>
              </a:rPr>
              <a:t>Portal del Trámites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1" lang="es-ES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(</a:t>
            </a:r>
            <a:r>
              <a:rPr b="0" lang="es-ES" sz="2000" spc="-1" strike="noStrike" u="sng">
                <a:solidFill>
                  <a:srgbClr val="f98d43"/>
                </a:solidFill>
                <a:uFillTx/>
                <a:latin typeface="Trebuchet MS"/>
                <a:ea typeface="Times New Roman"/>
                <a:hlinkClick r:id="rId2"/>
              </a:rPr>
              <a:t>www.tramitefacil.gob.cl</a:t>
            </a:r>
            <a:r>
              <a:rPr b="1" lang="es-ES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), </a:t>
            </a:r>
            <a:r>
              <a:rPr b="0" lang="es-ES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Cont</a:t>
            </a:r>
            <a:r>
              <a:rPr b="0" lang="es-ES_tradnl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iene la</a:t>
            </a:r>
            <a:r>
              <a:rPr b="0" lang="es-ES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información sobre trámites de los Servicios Públicos, con sistemas de búsqueda orientados al usuario. Se inicia con 675 trámites.</a:t>
            </a:r>
            <a:r>
              <a:rPr b="0" lang="es-ES_tradnl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Incluye </a:t>
            </a:r>
            <a:r>
              <a:rPr b="0" lang="es-ES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los formularios </a:t>
            </a:r>
            <a:r>
              <a:rPr b="0" lang="es-ES_tradnl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digitalizados </a:t>
            </a:r>
            <a:r>
              <a:rPr b="0" lang="es-ES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más utilizados en cada Servicio</a:t>
            </a:r>
            <a:r>
              <a:rPr b="0" lang="es-ES_tradnl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. Además, considera c</a:t>
            </a:r>
            <a:r>
              <a:rPr b="0" lang="es-ES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onexión a las transacciones en línea que actualmente tienen los Servici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cc00"/>
                </a:solidFill>
                <a:latin typeface="Arial"/>
              </a:rPr>
              <a:t>Ventanilla Única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 : </a:t>
            </a:r>
            <a:r>
              <a:rPr b="0" lang="es-ES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Su objetivo es realizar en una transacción una colección de trámites en forma electrónica (llamado “requerimiento”), que involucra a más de una repartición pública y puede involucrar a organismos privados, a fin de atender requerimientos de los ciudadanos. Se han identificado y estudiado más de 40 requerimientos y se decidirá prontamente con cuáles comenza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 algn="just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cc00"/>
                </a:solidFill>
                <a:latin typeface="Arial"/>
              </a:rPr>
              <a:t>Infraestructura de Acceso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se han habilitado alrededor de 200 Infocentros -públicos y privados- a lo largo del paí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6FC63-07A3-4DC9-8EA3-57127908EFE1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D51DCE-8732-430F-A348-763F0A4D368F}" type="datetime1">
              <a:rPr lang="en-US"/>
              <a:t>07/30/26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38052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575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ffffff"/>
                </a:solidFill>
                <a:latin typeface="Arial"/>
              </a:rPr>
              <a:t>Programa de Formación de los Recursos Humanos para el Gobierno Electrónico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57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ffffff"/>
                </a:solidFill>
                <a:latin typeface="Arial"/>
              </a:rPr>
              <a:t>Fortalecimiento de las Unidades de Gestión Electrónica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57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ffffff"/>
                </a:solidFill>
                <a:latin typeface="Arial"/>
              </a:rPr>
              <a:t>Intranet del Estado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ffffff"/>
                </a:solidFill>
                <a:latin typeface="Arial"/>
              </a:rPr>
              <a:t>Uso de las TI en IntraEstado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ffffff"/>
                </a:solidFill>
                <a:latin typeface="Arial"/>
              </a:rPr>
              <a:t>Sistema de Información para la Gestión Financiera (SIGFE)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575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ffffff"/>
                </a:solidFill>
                <a:latin typeface="Arial"/>
              </a:rPr>
              <a:t>Sistema Nacional de Información Territorial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57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ffffff"/>
                </a:solidFill>
                <a:latin typeface="Arial"/>
              </a:rPr>
              <a:t>ChileCompras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578160"/>
            <a:ext cx="876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Proyectos Transversa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– 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Gestión Interna 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15EAF-A03E-483B-8CEC-C8779692DF4E}" type="slidenum">
              <a:t>1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2CF884-CF5E-4A1D-A62E-D5B16AB1C549}" type="datetime1">
              <a:rPr lang="en-US"/>
              <a:t>07/30/26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38052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9080" indent="-289080" algn="just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rtales Gobiernodechi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9080" indent="-289080" algn="just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áginas web de los Servicios Públic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-228600" y="578160"/>
            <a:ext cx="9524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Proyectos Transversa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– 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Desarrollo de la Democracia 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E6FD7-A3BB-44BD-BF76-5B25733704B1}" type="slidenum">
              <a:t>1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846D1E-8748-41A4-A95B-5BB0D0CB5908}" type="datetime1">
              <a:rPr lang="en-US"/>
              <a:t>07/30/2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92016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7 Reformas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0481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l Proyecto de Reforma y Modernización del Estado es parte del amplio proceso de cambios impulsado por el Presidente Lagos, que incluy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Reforma Tecnológic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Reforma de la Ciuda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Reforma Fisc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Reformas Polític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Reforma del Trabaj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Reforma de la Salu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210000"/>
              </a:lnSpc>
              <a:spcBef>
                <a:spcPts val="499"/>
              </a:spcBef>
              <a:buSzPct val="10481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tinuación de las Reformas Judicial y Educacion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2A2E4-FE87-4D6F-9CCA-00F5C07E4137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3E5BE7-C3C8-4674-B54B-D5961C47318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92016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 Black"/>
              </a:rPr>
              <a:t>Objetivo de la Reforma del Estado: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763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ffffff"/>
                </a:solidFill>
                <a:latin typeface="Arial"/>
              </a:rPr>
              <a:t>El proyecto de Reforma y Modernización del Estado tiene como objetivo generar durante el mandato del Presidente Lagos, un Estado de servicio a los ciudadanos, debiendo contar para ello con una estructura flexible y con una gestión eficiente, participativa y transparente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incipios orientador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25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Estado democrático y participativo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Estado transparente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Estado unitario descentralizado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2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Estado solidario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25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Estado flexible para enfrentar requerimientos presentes y futuros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25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Estado fuerte, eficiente y eficaz que asegure calidad de vida y desarrollo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sustentable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Estado normativo y subsidiario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D25CD-5610-4196-9D11-7F30773B3E6D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F21F5E-310F-43A9-994E-7E2816FA8E0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876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Componentes del Proyecto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1.- Reformas Políticas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2.- Rediseño Institucional: áreas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Area Política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: Ministerios Coordinadores, Interior, Justic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Area Económica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: Triministerio, regulación, fomento productivo, empresas públicas, institucionalidad agrícola, ciencia y tecnología, medio ambient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Area Infraestructura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: MOPTT y Biministerio Vivienda y Urbanismo y Bienes Nacional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Area Social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: Institucionalidad Salud, Educación, Asuntos Sociales, Mujer y Cultura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3.- Descentralización: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spectos institucionales y planes regionales de modernizació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4.- Modernización de la Gestión Pública y Gobierno Electrónic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Recursos Humano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: Nuevo Trato y Dirección Públic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Calidad de servicio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: Programa de Trámites, Cartas de Derechos, OIRS, Premi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Gestión de los servicio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: Unidad de sistematización de experiencias del sector públic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Gobierno Electrónico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: Buen gobierno, atención a los usuarios y más democrac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5.- Participación ciudadana y Transparencia en la Gest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ases institucionales para la participación y Defensor del Ciudada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olítica de transparencia y probida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6F2B8-1027-4868-A0C2-151E7CC563D1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4CA2CF-920A-427F-AD00-E2760828BC6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707760"/>
            <a:ext cx="777240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GOBIERNO ELECTRONICO</a:t>
            </a:r>
            <a:br>
              <a:rPr sz="2800"/>
            </a:b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- Definición  -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4582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o de las Tecnologías de Información y Comunicaciones para mejorar los servicios e información ofrecidos a los ciudadanos, aumentar la eficiencia y la eficacia de la gestión pública e incrementar sustantivamente la transparencia del sector público y la transparencia ciudadana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2211F-DC82-43CA-8354-E863BAFD9188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77BBCC-918B-4CE7-8687-0FE1C693A4D4}" type="datetime1">
              <a:rPr lang="en-US"/>
              <a:t>07/30/26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92016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VISION ORIENTADORA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4582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SzPct val="10481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Atención en cualquier oficina de un Servicio autorizado a brindarla. Independencia jurisdiccional y residenci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SzPct val="10481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Demanda de servicios sobre la base de necesidades en lugar de conocimiento de la estructura del Estado: mirada ciudadan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SzPct val="10481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Solo se exigirá presentación de cédula de identidad y de antecedentes que </a:t>
            </a:r>
            <a:r>
              <a:rPr b="0" lang="es-CL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obren en poder del Estad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SzPct val="10481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Los ciudadanos informarán al Estado sólo una vez que haya cambios relevantes de su situación de vid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SzPct val="10481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Ciudadanos son libres para acceder y consultar información de actos públicos del Estad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SzPct val="104816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Los sistemas de información del Estado deberán estar relacionados entre sí y orientados a atender al ciudadan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SzPct val="104816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Los ciudadanos tienen derecho a conocer y modificar la información que de ellos posee el Estad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10329-3809-41B4-8E5B-F2B0FA7DD811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77B064-CBE4-4D7E-BF33-E249889209E1}" type="datetime1">
              <a:rPr lang="en-US"/>
              <a:t>07/30/2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92016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Principios Orientadore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4582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Transformado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dificación sustantiva de los procedimientos actua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Al alcance de todo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 quién, dónde y cuánd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Fácil de usa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mples y sencill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Mayor Benefici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specto a forma presencia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eguridad, Privacidad y Registr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Rol del Sector privad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poyados en el sector privados mediante procesos competitiv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Desconcentració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ministración, mantención y actualización de las TI a cargo de los Servicios e interoperabilidad entre ell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Jurisdicción Electrónic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aptación de los Servicios para que las transacciones puedan ser efectuadas desde cualquier punto del paí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Evolutivo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s un proceso: (1) Presencia; (2) Interacción; (3) Transacción y; (4) Transformació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E8348-9A16-404C-8B77-5A0CCF9667CA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5B2FBE-8E8D-4C5A-AC55-942DDB132B7A}" type="datetime1">
              <a:rPr lang="en-US"/>
              <a:t>07/30/26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92016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Ámbito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104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9080" indent="-289080" algn="just">
              <a:spcBef>
                <a:spcPts val="4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cc00"/>
                </a:solidFill>
                <a:latin typeface="Arial"/>
              </a:rPr>
              <a:t>Atención al ciudadano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nuevas formas de relación Gobierno / ciudadano mediante el uso de TI, que permitan al Estado brindar sus servicios en forma más eficiente, eficaz y con independencia del lugar físic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7952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Estado al servicio del ciudadano, unitario, descentralizado, solidario y flexible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9080" indent="-289080" algn="just"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cc00"/>
                </a:solidFill>
                <a:latin typeface="Arial"/>
              </a:rPr>
              <a:t>Buen Gobierno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establecimiento e introducción de nuevas formas y procesos internos en la Administración del Estado que permitan la integración de los sistemas de diferentes Servicios, compartir recursos y el mejoramiento de la gestión interna de los mism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7952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Estado al servicio del ciudadano, flexible, transparente, unitario, descentralizad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9080" indent="-289080" algn="just"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cc00"/>
                </a:solidFill>
                <a:latin typeface="Arial"/>
              </a:rPr>
              <a:t>Desarrollo de la Democracia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creación de mecanismos que, usando TI, permitan al ciudadano jugar un rol activo en el quehacer del país, permitiendo abrir nuevos espacios y formas de participació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7952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Estado más participativo, transparente y democrátic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8C06E-8880-48F1-ABD2-DC66B68029F7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3FF3D6-4E91-4AF2-8C5B-B0066780C1C2}" type="datetime1">
              <a:rPr lang="en-US"/>
              <a:t>07/30/26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707760"/>
            <a:ext cx="777240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Instrucciones Presidenciales</a:t>
            </a:r>
            <a:br>
              <a:rPr sz="2800"/>
            </a:b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- Atención al Ciudadano -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4582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Uso progresivo e interrelacionado de las NTIC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Fomentar y promover acceso de los ciudadan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Integración entre Servici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Orientación hacia Ventanillas Unicas, preferentemente privadas y con estándares de calidad definid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Requisitos al desarrollar Ventanillas Unic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Identificación vía cédula de identidad o clave de acceso  basada en en ell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Autorizaciones electrónicas basadas en el nivel de seguridad que aspira o está obligado el ciudadan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CE304-FFEA-40B9-B4C1-4A09764F0EE8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8BA646-E70E-4252-897D-47911B96F58F}" type="datetime1">
              <a:rPr lang="en-US"/>
              <a:t>07/30/26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09T14:53:01Z</dcterms:created>
  <dc:creator>Felipe Goya</dc:creator>
  <dc:description/>
  <dc:language>en-US</dc:language>
  <cp:lastModifiedBy>MRiera</cp:lastModifiedBy>
  <cp:lastPrinted>2001-07-16T20:54:41Z</cp:lastPrinted>
  <dcterms:modified xsi:type="dcterms:W3CDTF">2001-07-24T20:30:32Z</dcterms:modified>
  <cp:revision>158</cp:revision>
  <dc:subject/>
  <dc:title>Proyecto de Reforma y Modernización del Estado</dc:title>
</cp:coreProperties>
</file>