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D8FF-15EA-4C11-B536-61494B3E65FA}"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4A12-F3A8-49BF-B22D-81EB0C097BD3}"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5ACB-8CE8-4D6C-A52F-53CD67316E40}"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28A2-8B09-45AC-9A4A-2C62BEFF5627}"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DF73-E81F-4C54-87AB-29E21A9121B8}"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5899-30E4-4CF6-86A6-24B2B688839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9718-7BFD-45A9-8128-8443DEFAD7F0}"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A127-7575-4E32-A72A-EE52EBA1B49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66C0-8686-4200-9696-DD52B96CBB76}"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03FE-9A64-4572-9499-11A9CCC80008}"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66AC2F2-8ECF-4035-819E-D0ACA39D3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C3A45B3-B519-4742-8D50-68F31B3D5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18257F1-46BC-423F-907E-8E31658E7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E8B9878-0F21-423C-BCE6-CD1B0F820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049CBBE-C4D9-4F99-A388-824268E04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AA745C-DC67-4324-A91D-9C810E83B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2640E47-2B53-4DC6-B9A5-114E452EF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6149D0-C6C6-4938-A745-A3FBB5A92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8B94CF-CD12-43FC-B373-AD927D8AC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28879BE-34A1-4927-8E34-32DAF8485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476773-E66F-4980-B818-C05D69C8D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ACF44E-C60F-42E7-839F-7A48EBC3F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A79D51-7EF4-4A6D-9172-C0D666B80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EC5B20-4171-4144-BE39-FCE53EA7D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E984A7F-D511-41AB-83A0-B4C8644D7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9669D60-D86A-4BAB-ACA6-22781E0C10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CE47A4F-0A48-4E97-8093-1D5044CEB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40AA49-6F3B-473B-B10F-7CD02F520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9BA89C-C8BE-4319-809A-8D0D38DBA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A7C946A-F375-44ED-9595-1E496C222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81B3C4-B975-46B1-BACF-B09958C34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A1B425-AC84-4E62-928A-19559DAF0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008996-F0B8-4929-B1B9-10A8CBE84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FE0078-1CFB-4A82-A537-011EE84BC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1B1F-8D95-4D61-8B64-64606FB4DE1A}" type="datetime">
              <a:rPr b="0" lang="es-ES_tradnl" sz="1000" spc="-1" strike="noStrike">
                <a:solidFill>
                  <a:srgbClr val="ffff66"/>
                </a:solidFill>
                <a:latin typeface="Arial"/>
              </a:rPr>
              <a:t>30/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25E5-82AD-43EA-8F11-68AEA75129CB}"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14C9-4269-4770-8DAD-50562C9AF21E}" type="datetime">
              <a:rPr b="0" lang="es-ES_tradnl"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E931-9243-4D6C-844B-13C606586F58}"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