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4.png" ContentType="image/png"/>
  <Override PartName="/ppt/media/image5.png" ContentType="image/png"/>
  <Override PartName="/ppt/media/image10.png" ContentType="image/png"/>
  <Override PartName="/ppt/media/image18.png" ContentType="image/png"/>
  <Override PartName="/ppt/media/image28.png" ContentType="image/png"/>
  <Override PartName="/ppt/media/image7.jpeg" ContentType="image/jpeg"/>
  <Override PartName="/ppt/media/image12.png" ContentType="image/png"/>
  <Override PartName="/ppt/media/image6.wmf" ContentType="image/x-wmf"/>
  <Override PartName="/ppt/media/image11.png" ContentType="image/png"/>
  <Override PartName="/ppt/media/image8.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2.jpeg" ContentType="image/jpeg"/>
  <Override PartName="/ppt/media/image1.png" ContentType="image/png"/>
  <Override PartName="/ppt/media/image14.png" ContentType="image/png"/>
  <Override PartName="/ppt/media/image16.png" ContentType="image/png"/>
  <Override PartName="/ppt/media/image17.png" ContentType="image/png"/>
  <Override PartName="/ppt/media/image20.jpeg" ContentType="image/jpeg"/>
  <Override PartName="/ppt/media/image19.png" ContentType="image/png"/>
  <Override PartName="/ppt/media/image21.png" ContentType="image/png"/>
  <Override PartName="/ppt/media/image9.png" ContentType="image/png"/>
  <Override PartName="/ppt/media/image22.jpeg" ContentType="image/jpeg"/>
  <Override PartName="/ppt/media/image23.wmf" ContentType="image/x-wmf"/>
  <Override PartName="/ppt/media/image24.wmf" ContentType="image/x-wmf"/>
  <Override PartName="/ppt/media/image25.png" ContentType="image/png"/>
  <Override PartName="/ppt/media/image2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85230-D15F-407F-8694-1FF12EA48350}"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370160" y="352440"/>
            <a:ext cx="4116240" cy="3087720"/>
          </a:xfrm>
          <a:prstGeom prst="rect">
            <a:avLst/>
          </a:prstGeom>
          <a:ln w="0">
            <a:noFill/>
          </a:ln>
        </p:spPr>
      </p:sp>
      <p:sp>
        <p:nvSpPr>
          <p:cNvPr id="678"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0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07" name="PlaceHolder 1"/>
          <p:cNvSpPr>
            <a:spLocks noGrp="1"/>
          </p:cNvSpPr>
          <p:nvPr>
            <p:ph type="sldImg"/>
          </p:nvPr>
        </p:nvSpPr>
        <p:spPr>
          <a:xfrm>
            <a:off x="1370160" y="352440"/>
            <a:ext cx="4116240" cy="3087720"/>
          </a:xfrm>
          <a:prstGeom prst="rect">
            <a:avLst/>
          </a:prstGeom>
          <a:ln w="0">
            <a:noFill/>
          </a:ln>
        </p:spPr>
      </p:sp>
      <p:sp>
        <p:nvSpPr>
          <p:cNvPr id="70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1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11" name="PlaceHolder 1"/>
          <p:cNvSpPr>
            <a:spLocks noGrp="1"/>
          </p:cNvSpPr>
          <p:nvPr>
            <p:ph type="sldImg"/>
          </p:nvPr>
        </p:nvSpPr>
        <p:spPr>
          <a:xfrm>
            <a:off x="1370160" y="352440"/>
            <a:ext cx="4116240" cy="3087720"/>
          </a:xfrm>
          <a:prstGeom prst="rect">
            <a:avLst/>
          </a:prstGeom>
          <a:ln w="0">
            <a:noFill/>
          </a:ln>
        </p:spPr>
      </p:sp>
      <p:sp>
        <p:nvSpPr>
          <p:cNvPr id="71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1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15" name="PlaceHolder 1"/>
          <p:cNvSpPr>
            <a:spLocks noGrp="1"/>
          </p:cNvSpPr>
          <p:nvPr>
            <p:ph type="sldImg"/>
          </p:nvPr>
        </p:nvSpPr>
        <p:spPr>
          <a:xfrm>
            <a:off x="1370160" y="352440"/>
            <a:ext cx="4116240" cy="3087720"/>
          </a:xfrm>
          <a:prstGeom prst="rect">
            <a:avLst/>
          </a:prstGeom>
          <a:ln w="0">
            <a:noFill/>
          </a:ln>
        </p:spPr>
      </p:sp>
      <p:sp>
        <p:nvSpPr>
          <p:cNvPr id="716" name="PlaceHolder 2"/>
          <p:cNvSpPr>
            <a:spLocks noGrp="1"/>
          </p:cNvSpPr>
          <p:nvPr>
            <p:ph type="body"/>
          </p:nvPr>
        </p:nvSpPr>
        <p:spPr>
          <a:xfrm>
            <a:off x="523440" y="3433680"/>
            <a:ext cx="5799240" cy="5446800"/>
          </a:xfrm>
          <a:prstGeom prst="rect">
            <a:avLst/>
          </a:prstGeom>
          <a:noFill/>
          <a:ln w="0">
            <a:noFill/>
          </a:ln>
        </p:spPr>
        <p:txBody>
          <a:bodyPr lIns="0" rIns="0" tIns="0" bIns="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Futura B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1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19" name="PlaceHolder 1"/>
          <p:cNvSpPr>
            <a:spLocks noGrp="1"/>
          </p:cNvSpPr>
          <p:nvPr>
            <p:ph type="sldImg"/>
          </p:nvPr>
        </p:nvSpPr>
        <p:spPr>
          <a:xfrm>
            <a:off x="1370160" y="352440"/>
            <a:ext cx="4116240" cy="3087720"/>
          </a:xfrm>
          <a:prstGeom prst="rect">
            <a:avLst/>
          </a:prstGeom>
          <a:ln w="0">
            <a:noFill/>
          </a:ln>
        </p:spPr>
      </p:sp>
      <p:sp>
        <p:nvSpPr>
          <p:cNvPr id="72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Internal 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internal components. For a complete description of the internal health LEDs, refer to the user guide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2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23" name="PlaceHolder 1"/>
          <p:cNvSpPr>
            <a:spLocks noGrp="1"/>
          </p:cNvSpPr>
          <p:nvPr>
            <p:ph type="sldImg"/>
          </p:nvPr>
        </p:nvSpPr>
        <p:spPr>
          <a:xfrm>
            <a:off x="1370160" y="352440"/>
            <a:ext cx="4116240" cy="3087720"/>
          </a:xfrm>
          <a:prstGeom prst="rect">
            <a:avLst/>
          </a:prstGeom>
          <a:ln w="0">
            <a:noFill/>
          </a:ln>
        </p:spPr>
      </p:sp>
      <p:sp>
        <p:nvSpPr>
          <p:cNvPr id="72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External view eight hard drive model (fro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external front view. For a complete description, refer to the user guide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2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27" name="PlaceHolder 1"/>
          <p:cNvSpPr>
            <a:spLocks noGrp="1"/>
          </p:cNvSpPr>
          <p:nvPr>
            <p:ph type="sldImg"/>
          </p:nvPr>
        </p:nvSpPr>
        <p:spPr>
          <a:xfrm>
            <a:off x="1370160" y="352440"/>
            <a:ext cx="4116240" cy="3087720"/>
          </a:xfrm>
          <a:prstGeom prst="rect">
            <a:avLst/>
          </a:prstGeom>
          <a:ln w="0">
            <a:noFill/>
          </a:ln>
        </p:spPr>
      </p:sp>
      <p:sp>
        <p:nvSpPr>
          <p:cNvPr id="72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External view 12 hard drive model (fro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external front view. For a complete description, refer to the user guide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3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31" name="PlaceHolder 1"/>
          <p:cNvSpPr>
            <a:spLocks noGrp="1"/>
          </p:cNvSpPr>
          <p:nvPr>
            <p:ph type="sldImg"/>
          </p:nvPr>
        </p:nvSpPr>
        <p:spPr>
          <a:xfrm>
            <a:off x="1370160" y="352440"/>
            <a:ext cx="4116240" cy="3087720"/>
          </a:xfrm>
          <a:prstGeom prst="rect">
            <a:avLst/>
          </a:prstGeom>
          <a:ln w="0">
            <a:noFill/>
          </a:ln>
        </p:spPr>
      </p:sp>
      <p:sp>
        <p:nvSpPr>
          <p:cNvPr id="73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External view (bac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external back view. For a complete description, refer to the user guide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3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35" name="PlaceHolder 1"/>
          <p:cNvSpPr>
            <a:spLocks noGrp="1"/>
          </p:cNvSpPr>
          <p:nvPr>
            <p:ph type="sldImg"/>
          </p:nvPr>
        </p:nvSpPr>
        <p:spPr>
          <a:xfrm>
            <a:off x="1370160" y="352440"/>
            <a:ext cx="4116240" cy="3087720"/>
          </a:xfrm>
          <a:prstGeom prst="rect">
            <a:avLst/>
          </a:prstGeom>
          <a:ln w="0">
            <a:noFill/>
          </a:ln>
        </p:spPr>
      </p:sp>
      <p:sp>
        <p:nvSpPr>
          <p:cNvPr id="73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Order, configuration, and licensing rul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Factory Express offers configuration, customization, integration and deployment services for HP servers and storage products. Customers can choose how their factory solutions are built, tested, integrated, shipped and deployed. </a:t>
            </a:r>
            <a:br>
              <a:rPr sz="1600"/>
            </a:br>
            <a:r>
              <a:rPr b="0" lang="en-US" sz="1600" spc="-1" strike="noStrike">
                <a:solidFill>
                  <a:srgbClr val="000000"/>
                </a:solidFill>
                <a:latin typeface="Futura Bk"/>
              </a:rPr>
              <a:t>Factory Express offers service packages for simple configuration, racking, installation, complex configuration and design services as well as individual factory services, such as image loading, asset tagging, and custom packaging. HP products supported through Factory Express include a wide array of servers and storage: HP Integrity, HP ProLiant, HP ProLiant Server Blades, HP BladeSystem, HP 9000 servers as well as the MSA1000, VA7xxx, EVA, XP, rackable tape libraries and configurable network switches.</a:t>
            </a:r>
            <a:br>
              <a:rPr sz="1600"/>
            </a:br>
            <a:r>
              <a:rPr b="0" lang="en-US" sz="1600" spc="-1" strike="noStrike">
                <a:solidFill>
                  <a:srgbClr val="000000"/>
                </a:solidFill>
                <a:latin typeface="Futura Bk"/>
              </a:rPr>
              <a:t>For more information on how to order including part numbers please contact your sales representative or go </a:t>
            </a:r>
            <a:r>
              <a:rPr b="0" lang="en-US" sz="1600" spc="-1" strike="noStrike">
                <a:solidFill>
                  <a:srgbClr val="000000"/>
                </a:solidFill>
                <a:latin typeface="Futura Hv"/>
              </a:rPr>
              <a:t>http://www.hp.com/go/factory-express</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complete description on ordering, configuration, and licensing rules of the D</a:t>
            </a:r>
            <a:r>
              <a:rPr b="0" lang="en-US" sz="1600" spc="-1" strike="noStrike">
                <a:solidFill>
                  <a:srgbClr val="000000"/>
                </a:solidFill>
                <a:latin typeface="Futura Bk"/>
                <a:ea typeface="ＭＳ Ｐゴシック"/>
              </a:rPr>
              <a:t>L180 G5 server review the </a:t>
            </a:r>
            <a:r>
              <a:rPr b="0" lang="en-US" sz="1600" spc="-1" strike="noStrike">
                <a:solidFill>
                  <a:srgbClr val="000000"/>
                </a:solidFill>
                <a:latin typeface="Futura Bk"/>
              </a:rPr>
              <a:t>QuickSpecs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3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39" name="PlaceHolder 1"/>
          <p:cNvSpPr>
            <a:spLocks noGrp="1"/>
          </p:cNvSpPr>
          <p:nvPr>
            <p:ph type="sldImg"/>
          </p:nvPr>
        </p:nvSpPr>
        <p:spPr>
          <a:xfrm>
            <a:off x="1370160" y="352440"/>
            <a:ext cx="4116240" cy="3087720"/>
          </a:xfrm>
          <a:prstGeom prst="rect">
            <a:avLst/>
          </a:prstGeom>
          <a:ln w="0">
            <a:noFill/>
          </a:ln>
        </p:spPr>
      </p:sp>
      <p:sp>
        <p:nvSpPr>
          <p:cNvPr id="74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ttach recommend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complete attach recommendations, refer to the QuickSpecs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a:p>
            <a:pPr lvl="2" marL="228600" indent="0">
              <a:lnSpc>
                <a:spcPct val="10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370160" y="352440"/>
            <a:ext cx="4116240" cy="3087720"/>
          </a:xfrm>
          <a:prstGeom prst="rect">
            <a:avLst/>
          </a:prstGeom>
          <a:ln w="0">
            <a:noFill/>
          </a:ln>
        </p:spPr>
      </p:sp>
      <p:sp>
        <p:nvSpPr>
          <p:cNvPr id="68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ProLiant DL180 G5 (DL180 G5) server is an Intel-based, 2U form factor, rack-mount server with up to two Intel Xeon 5400 sequence quad-core or up to two 5200 sequence dual-core processor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0 G5 is designed for performance applications and cost conscious customers. A key factor driving the release of this server is time to market with the high performance Harpertown quad-core processors. This product will also provide customers with best in class price, performance, flexibility, and storage capacity. This product will also increase HP market share through a low cost 2U/2P offering.</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erformance</a:t>
            </a:r>
            <a:r>
              <a:rPr b="0" lang="en-US" sz="1600" spc="-1" strike="noStrike">
                <a:solidFill>
                  <a:srgbClr val="000000"/>
                </a:solidFill>
                <a:latin typeface="Futura Bk"/>
              </a:rPr>
              <a:t> — The DL180 G5 supports up to two Intel Xeon quad-core (Harpertown) processors.</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Options</a:t>
            </a:r>
            <a:r>
              <a:rPr b="0" lang="en-US" sz="1600" spc="-1" strike="noStrike">
                <a:solidFill>
                  <a:srgbClr val="000000"/>
                </a:solidFill>
                <a:latin typeface="Futura Bk"/>
              </a:rPr>
              <a:t> — There is support for up to 12 (with controller hot plug serial ATA (SATA) 3.5“ hard drives or hot plug serial attached SCSI (SAS) 3.5“ hard drives.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anagement</a:t>
            </a:r>
            <a:r>
              <a:rPr b="0" lang="en-US" sz="1600" spc="-1" strike="noStrike">
                <a:solidFill>
                  <a:srgbClr val="000000"/>
                </a:solidFill>
                <a:latin typeface="Futura Bk"/>
              </a:rPr>
              <a:t> — HP Lights-Out 100c (optional) remote management with virtual KVM and virtual media support thru optional IPMI 2.0 riser upgrade is also supporte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tandard warranty includes (1-1-1) 1 year parts, 1 year labor, and 1 year on-site support.</a:t>
            </a:r>
            <a:endParaRPr b="0" lang="en-US" sz="1600" spc="-1" strike="noStrike">
              <a:solidFill>
                <a:srgbClr val="000000"/>
              </a:solidFill>
              <a:latin typeface="Futura B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370160" y="352440"/>
            <a:ext cx="4116240" cy="3087720"/>
          </a:xfrm>
          <a:prstGeom prst="rect">
            <a:avLst/>
          </a:prstGeom>
          <a:ln w="0">
            <a:noFill/>
          </a:ln>
        </p:spPr>
      </p:sp>
      <p:sp>
        <p:nvSpPr>
          <p:cNvPr id="74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dministration and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complete attach recommendations, refer to the QuickSpecs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a:p>
            <a:pPr lvl="2" marL="228600" indent="0">
              <a:lnSpc>
                <a:spcPct val="10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370160" y="352440"/>
            <a:ext cx="4116240" cy="3087720"/>
          </a:xfrm>
          <a:prstGeom prst="rect">
            <a:avLst/>
          </a:prstGeom>
          <a:ln w="0">
            <a:noFill/>
          </a:ln>
        </p:spPr>
      </p:sp>
      <p:sp>
        <p:nvSpPr>
          <p:cNvPr id="74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igration or upgrade issu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complete migration or upgrade issues, refer to the QuickSpecs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a:p>
            <a:pPr lvl="1" marL="114480" indent="0">
              <a:lnSpc>
                <a:spcPct val="10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Futura Bk"/>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4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47" name="PlaceHolder 1"/>
          <p:cNvSpPr>
            <a:spLocks noGrp="1"/>
          </p:cNvSpPr>
          <p:nvPr>
            <p:ph type="sldImg"/>
          </p:nvPr>
        </p:nvSpPr>
        <p:spPr>
          <a:xfrm>
            <a:off x="1370160" y="352440"/>
            <a:ext cx="4116240" cy="3087720"/>
          </a:xfrm>
          <a:prstGeom prst="rect">
            <a:avLst/>
          </a:prstGeom>
          <a:ln w="0">
            <a:noFill/>
          </a:ln>
        </p:spPr>
      </p:sp>
      <p:sp>
        <p:nvSpPr>
          <p:cNvPr id="74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a:t>
            </a:r>
            <a:endParaRPr b="0" lang="en-US" sz="1600" spc="-1" strike="noStrike">
              <a:solidFill>
                <a:srgbClr val="000000"/>
              </a:solidFill>
              <a:latin typeface="Futura Bk"/>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5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51" name="PlaceHolder 1"/>
          <p:cNvSpPr>
            <a:spLocks noGrp="1"/>
          </p:cNvSpPr>
          <p:nvPr>
            <p:ph type="sldImg"/>
          </p:nvPr>
        </p:nvSpPr>
        <p:spPr>
          <a:xfrm>
            <a:off x="1370160" y="352440"/>
            <a:ext cx="4116240" cy="3087720"/>
          </a:xfrm>
          <a:prstGeom prst="rect">
            <a:avLst/>
          </a:prstGeom>
          <a:ln w="0">
            <a:noFill/>
          </a:ln>
        </p:spPr>
      </p:sp>
      <p:sp>
        <p:nvSpPr>
          <p:cNvPr id="75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Learning review</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Intelligent Platform Management Interface (IPMI)</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________ is based on this standar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Virtual Keyboard Video Mouse (KV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is supported when adding the optional ________ car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Dual Core (DC)</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0 G5 can have up to ________ DC ________ series processor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Quad Core (QC)</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0 G5 can have up to ________ QC ________ series processor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Serial Advanced Technology Attachment (SATA)</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re is support for up to ________ (with controller) hot plug serial ATA (SATA) ________ “ hard drive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Serial Attached SCSI (SA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re is support for up to ________ (with controller) hot plug serial attached SCSI (SAS) ________ “ hard drives.</a:t>
            </a:r>
            <a:endParaRPr b="0" lang="en-US" sz="1600" spc="-1" strike="noStrike">
              <a:solidFill>
                <a:srgbClr val="000000"/>
              </a:solidFill>
              <a:latin typeface="Futura B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8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83" name="PlaceHolder 1"/>
          <p:cNvSpPr>
            <a:spLocks noGrp="1"/>
          </p:cNvSpPr>
          <p:nvPr>
            <p:ph type="sldImg"/>
          </p:nvPr>
        </p:nvSpPr>
        <p:spPr>
          <a:xfrm>
            <a:off x="1370160" y="352440"/>
            <a:ext cx="4116240" cy="3087720"/>
          </a:xfrm>
          <a:prstGeom prst="rect">
            <a:avLst/>
          </a:prstGeom>
          <a:ln w="0">
            <a:noFill/>
          </a:ln>
        </p:spPr>
      </p:sp>
      <p:sp>
        <p:nvSpPr>
          <p:cNvPr id="68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and modems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pplications, such as email,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onnectivity is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condly, the DL180 G5 was specifically designed for and rigorously tested with server applications in demanding server configurations. This testing cycle ensures optimal performance and dependability when deployed as a server.</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8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87" name="PlaceHolder 1"/>
          <p:cNvSpPr>
            <a:spLocks noGrp="1"/>
          </p:cNvSpPr>
          <p:nvPr>
            <p:ph type="sldImg"/>
          </p:nvPr>
        </p:nvSpPr>
        <p:spPr>
          <a:xfrm>
            <a:off x="1370160" y="352440"/>
            <a:ext cx="4116240" cy="3087720"/>
          </a:xfrm>
          <a:prstGeom prst="rect">
            <a:avLst/>
          </a:prstGeom>
          <a:ln w="0">
            <a:noFill/>
          </a:ln>
        </p:spPr>
      </p:sp>
      <p:sp>
        <p:nvSpPr>
          <p:cNvPr id="68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Quad-Core Intel Xeon processor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9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91" name="PlaceHolder 1"/>
          <p:cNvSpPr>
            <a:spLocks noGrp="1"/>
          </p:cNvSpPr>
          <p:nvPr>
            <p:ph type="sldImg"/>
          </p:nvPr>
        </p:nvSpPr>
        <p:spPr>
          <a:xfrm>
            <a:off x="1370160" y="352440"/>
            <a:ext cx="4116240" cy="3087720"/>
          </a:xfrm>
          <a:prstGeom prst="rect">
            <a:avLst/>
          </a:prstGeom>
          <a:ln w="0">
            <a:noFill/>
          </a:ln>
        </p:spPr>
      </p:sp>
      <p:sp>
        <p:nvSpPr>
          <p:cNvPr id="69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HP product family position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0 G5 server is a 64-bit server positioned to leverage the 180 series ProLiant portfolio. The DL180 G5 server offers great value and best in class price performance dual- and quad-core architecture which provides more than enough through put for data processing. The DL180 G5 server is also an affordable dual processor server with essential management and redundancy, and enough power to handle complex business requirement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arget marke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Growing businesses and emerging marke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Corporate scale ou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 </a:t>
            </a:r>
            <a:r>
              <a:rPr b="0" lang="en-US" sz="1600" spc="-1" strike="noStrike">
                <a:solidFill>
                  <a:srgbClr val="000000"/>
                </a:solidFill>
                <a:latin typeface="Futura Bk"/>
              </a:rPr>
              <a:t>Large-scale service provider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pplication or Usag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Gam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Mail and messag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 </a:t>
            </a:r>
            <a:r>
              <a:rPr b="0" lang="en-US" sz="1600" spc="-1" strike="noStrike">
                <a:solidFill>
                  <a:srgbClr val="000000"/>
                </a:solidFill>
                <a:latin typeface="Futura Bk"/>
              </a:rPr>
              <a:t>Network service provide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Video storage and stream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le/pr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hoto server</a:t>
            </a: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9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95" name="PlaceHolder 1"/>
          <p:cNvSpPr>
            <a:spLocks noGrp="1"/>
          </p:cNvSpPr>
          <p:nvPr>
            <p:ph type="sldImg"/>
          </p:nvPr>
        </p:nvSpPr>
        <p:spPr>
          <a:xfrm>
            <a:off x="1370160" y="352440"/>
            <a:ext cx="4116240" cy="3087720"/>
          </a:xfrm>
          <a:prstGeom prst="rect">
            <a:avLst/>
          </a:prstGeom>
          <a:ln w="0">
            <a:noFill/>
          </a:ln>
        </p:spPr>
      </p:sp>
      <p:sp>
        <p:nvSpPr>
          <p:cNvPr id="69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Businesses who need an affordable dual processor server with essential management and redundancy. Why?</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L180 G5 server can support up to two Quad-Core Intel Xeon processors (5400 sequence). Lights-Out management technology is also available.</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The DL180 G5 is an affordable dual processor server with enough power to handle complex business requiremen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Growing businesses with expandability requirements who need large internal storage capacity. Why?</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upports up to 12 (with controller) Hot Plug Serial ATA (SATA) 3.5“ hard drives or Hot Plug Serial Attached SCSI (SAS) 3.5“ hard drives which can provide an internal storage capacity of up to 9TB. </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Provides customers with the option to grow their hardware requirements as their business grows.</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9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99" name="PlaceHolder 1"/>
          <p:cNvSpPr>
            <a:spLocks noGrp="1"/>
          </p:cNvSpPr>
          <p:nvPr>
            <p:ph type="sldImg"/>
          </p:nvPr>
        </p:nvSpPr>
        <p:spPr>
          <a:xfrm>
            <a:off x="1370160" y="352440"/>
            <a:ext cx="4116240" cy="3087720"/>
          </a:xfrm>
          <a:prstGeom prst="rect">
            <a:avLst/>
          </a:prstGeom>
          <a:ln w="0">
            <a:noFill/>
          </a:ln>
        </p:spPr>
      </p:sp>
      <p:sp>
        <p:nvSpPr>
          <p:cNvPr id="70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Use case scenario 1 — Lights-Out 100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Using Lights-Out remote management the customer ca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motely control the system console and power as well as view the system environmental health and system event lo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ability to update software and firmware as well as to remotely control attached USB storag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motely administrate your OS and remotely control the system console</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customers are currently do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Currently, customers need to walk or drive to the site if something goes wrong with the server.</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Using Lights-Out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rovides standards based remote control that is consistent with the overall strategy for ProLiant 100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is based on the Intelligent Platform Management Interface (IPMI) standard</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0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03" name="PlaceHolder 1"/>
          <p:cNvSpPr>
            <a:spLocks noGrp="1"/>
          </p:cNvSpPr>
          <p:nvPr>
            <p:ph type="sldImg"/>
          </p:nvPr>
        </p:nvSpPr>
        <p:spPr>
          <a:xfrm>
            <a:off x="1370160" y="352440"/>
            <a:ext cx="4116240" cy="3087720"/>
          </a:xfrm>
          <a:prstGeom prst="rect">
            <a:avLst/>
          </a:prstGeom>
          <a:ln w="0">
            <a:noFill/>
          </a:ln>
        </p:spPr>
      </p:sp>
      <p:sp>
        <p:nvSpPr>
          <p:cNvPr id="70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werEdge 2950 Server Spec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Quad-Core Intel Xeon 5300 sequence processors at up to 3.0GHz</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Quad-Core Intel Low Volt Xeon 5300 sequence processors at up to 2.0 GHz</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Dual-Core Intel Xeon 5100 sequence processors at up to 3.0GHz</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Dual-Core Intel Low Volt Xeon 5100 sequence processors at 2.33GHz; o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Dual-Core Intel Xeon 5000 sequence processors at up to 3.0GHz</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Chipse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l 5000X</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Memory:</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32GB (8 FBD DIMM slots): 256MB/512MB/1GB/2GB/4GB Fully Buffered DIMMs (FBD) in matched pairs, 533MHz or 667MHz</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m Facto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ack mount (2U)</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ree PCI slots, either PCI-E riser with three PCI Express slots (one x4 (x8 connector) and two x8) or two PCI-X 64-bit/133MHz and one PCI Express x8 slo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Drive Controlle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ur port SAS 5/i integrated SAS controller (no RAID)</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RAID controlle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ptional PERC 5/i integrated SAS/SATA daughter card controller with 256MB cache, PERC 4e/DC, PERC 5/e adapter</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3F9C4E-29C2-4148-9E95-7A163963F5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6C48DE-D133-480A-949F-FA60C4AA15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E310CF-BD48-4DF6-89A7-14B5CAE66D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A8B7D23-7C61-4B01-B8D6-9DF3F8EF8D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A0EED2-C055-4144-9B2E-25D6604C6F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E4C72D-1151-471E-9E3D-2A0F87B6241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DF7565-2361-4798-8761-C6FE017E4A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43CE6D-FCF7-4BA5-B6E3-CEAE9B0AA4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09C973-6A16-421D-BDA2-845FE5B413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5870C0-57EC-4CEF-96E5-A1BABD1D6A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FB7E6A-1FD6-46AC-BF48-8C3E19FA63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B2CA6D-82CD-4A34-984A-3FD1A43679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D57E2-B8BC-4283-AB54-1988A92572C4}"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p.com/servers/proliantdl180" TargetMode="External"/><Relationship Id="rId2" Type="http://schemas.openxmlformats.org/officeDocument/2006/relationships/hyperlink" Target="http://h20000.www2.hp.com/bizsupport/TechSupport/Home.jsp?&amp;lang=en&amp;cc=us&amp;prodTypeId=15351&amp;prodSeriesId=3232017&amp;lang=en&amp;cc=us&amp;y=0DL180&amp;x=0" TargetMode="External"/><Relationship Id="rId3" Type="http://schemas.openxmlformats.org/officeDocument/2006/relationships/hyperlink" Target="http://www.hp.com/servers/proliantessentials" TargetMode="External"/><Relationship Id="rId4" Type="http://schemas.openxmlformats.org/officeDocument/2006/relationships/hyperlink" Target="http://h18004.www1.hp.com/products/servers/platforms/options.html" TargetMode="External"/><Relationship Id="rId5" Type="http://schemas.openxmlformats.org/officeDocument/2006/relationships/hyperlink" Target="http://www.hp.com/go/factory-express" TargetMode="External"/><Relationship Id="rId6" Type="http://schemas.openxmlformats.org/officeDocument/2006/relationships/hyperlink" Target="http://h18004.www1.hp.com/products/servers/platforms/warranty/index.html" TargetMode="External"/><Relationship Id="rId7" Type="http://schemas.openxmlformats.org/officeDocument/2006/relationships/hyperlink" Target="http://www.hp.com/go/proliant/carepack" TargetMode="External"/><Relationship Id="rId8" Type="http://schemas.openxmlformats.org/officeDocument/2006/relationships/slideLayout" Target="../slideLayouts/slideLayout4.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brent.allen@hp.com" TargetMode="External"/><Relationship Id="rId2" Type="http://schemas.openxmlformats.org/officeDocument/2006/relationships/hyperlink" Target="mailto:tony.bunn@hp.com" TargetMode="External"/><Relationship Id="rId3" Type="http://schemas.openxmlformats.org/officeDocument/2006/relationships/hyperlink" Target="mailto:naren@hp.com" TargetMode="External"/><Relationship Id="rId4" Type="http://schemas.openxmlformats.org/officeDocument/2006/relationships/hyperlink" Target="mailto:Iekazu.okano@hp.com" TargetMode="External"/><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7.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hp.com/go/factory-express" TargetMode="External"/><Relationship Id="rId2" Type="http://schemas.openxmlformats.org/officeDocument/2006/relationships/hyperlink" Target="http://h18004.www1.hp.com/products/servers/platforms/warranty/index.html" TargetMode="External"/><Relationship Id="rId3" Type="http://schemas.openxmlformats.org/officeDocument/2006/relationships/hyperlink" Target="http://www.hp.com/HP/" TargetMode="External"/><Relationship Id="rId4" Type="http://schemas.openxmlformats.org/officeDocument/2006/relationships/slideLayout" Target="../slideLayouts/slideLayout4.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hp.com/servers/proliantdl180" TargetMode="External"/><Relationship Id="rId3" Type="http://schemas.openxmlformats.org/officeDocument/2006/relationships/hyperlink" Target="http://www.hp.com/servers/proliantdl180" TargetMode="External"/><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5.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20.jpeg"/><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image" Target="../media/image22.jpeg"/><Relationship Id="rId6" Type="http://schemas.openxmlformats.org/officeDocument/2006/relationships/image" Target="../media/image22.jpeg"/><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oleObject" Target="../embeddings/oleObject2.bin"/><Relationship Id="rId10" Type="http://schemas.openxmlformats.org/officeDocument/2006/relationships/image" Target="../media/image21.png"/><Relationship Id="rId11" Type="http://schemas.openxmlformats.org/officeDocument/2006/relationships/oleObject" Target="../embeddings/oleObject3.bin"/><Relationship Id="rId12" Type="http://schemas.openxmlformats.org/officeDocument/2006/relationships/image" Target="../media/image21.png"/><Relationship Id="rId13" Type="http://schemas.openxmlformats.org/officeDocument/2006/relationships/image" Target="../media/image22.jpeg"/><Relationship Id="rId14" Type="http://schemas.openxmlformats.org/officeDocument/2006/relationships/image" Target="../media/image22.jpeg"/><Relationship Id="rId15" Type="http://schemas.openxmlformats.org/officeDocument/2006/relationships/image" Target="../media/image22.jpeg"/><Relationship Id="rId16" Type="http://schemas.openxmlformats.org/officeDocument/2006/relationships/image" Target="../media/image22.jpeg"/><Relationship Id="rId17" Type="http://schemas.openxmlformats.org/officeDocument/2006/relationships/slideLayout" Target="../slideLayouts/slideLayout1.xml"/><Relationship Id="rId1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HP ProLiant DL180 Generation 5 (G5)</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1 February 2008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577"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DL180 on HP.com</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1"/>
              </a:rPr>
              <a:t>http://www.hp.com/servers/proliantdl18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Business Support Center</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2"/>
              </a:rPr>
              <a:t>http://h20000.www2.hp.com/bizsupport/TechSupport/Home.jsp?&amp;lang=en&amp;cc=us&amp;prodTypeId=15351&amp;prodSeriesId=3232017&amp;lang=en&amp;cc=us&amp;y=0DL180&amp;x=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Essentials management software</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3"/>
              </a:rPr>
              <a:t>http://www.hp.com/servers/proliantessential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p:txBody>
      </p:sp>
      <p:sp>
        <p:nvSpPr>
          <p:cNvPr id="578"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option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4"/>
              </a:rPr>
              <a:t>http://h18004.www1.hp.com/products/servers/platforms/options.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Factory Expres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5"/>
              </a:rPr>
              <a:t>http://www.hp.com/go/factory-expres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Worldwide limited warranty and technical support</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6"/>
              </a:rPr>
              <a:t>http://h18004.www1.hp.com/products/servers/platforms/warranty/index.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Care Pack service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7"/>
              </a:rPr>
              <a:t>http://www.hp.com/go/proliant/carepack</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9339EDDF-9DF8-40F1-BE80-09CD6E799B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580" name=""/>
          <p:cNvGraphicFramePr/>
          <p:nvPr/>
        </p:nvGraphicFramePr>
        <p:xfrm>
          <a:off x="399960" y="992160"/>
          <a:ext cx="8586720" cy="444996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W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rent Allen</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brent.allen@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Tim Golde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im.golde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Tony Bun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tony.bun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racknell, GB</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Naren Nuggehalli</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3"/>
                        </a:rPr>
                        <a:t>nare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S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4"/>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P</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5DC753EC-9394-4EBF-B0FB-024448582C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or more information, go to:</a:t>
            </a:r>
            <a:endParaRPr b="0" lang="en-US" sz="28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Hv"/>
              </a:rPr>
              <a:t>http://www.hp.com/servers/proliantdl180</a:t>
            </a:r>
            <a:endParaRPr b="0" lang="en-US" sz="2800" spc="-1" strike="noStrike">
              <a:solidFill>
                <a:srgbClr val="000000"/>
              </a:solidFill>
              <a:latin typeface="Futura Bk"/>
            </a:endParaRPr>
          </a:p>
        </p:txBody>
      </p:sp>
      <p:pic>
        <p:nvPicPr>
          <p:cNvPr id="582"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DB439174-79DE-4107-BEAF-0C48D7FF91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Focus-Level</a:t>
            </a:r>
            <a:endParaRPr b="0" lang="en-US" sz="4400" spc="-1" strike="noStrike">
              <a:solidFill>
                <a:srgbClr val="ffffff"/>
              </a:solidFill>
              <a:latin typeface="Futura L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4" name="" descr=""/>
          <p:cNvPicPr/>
          <p:nvPr/>
        </p:nvPicPr>
        <p:blipFill>
          <a:blip r:embed="rId1"/>
          <a:stretch/>
        </p:blipFill>
        <p:spPr>
          <a:xfrm>
            <a:off x="923760" y="781200"/>
            <a:ext cx="4121280" cy="5676840"/>
          </a:xfrm>
          <a:prstGeom prst="rect">
            <a:avLst/>
          </a:prstGeom>
          <a:ln w="0">
            <a:noFill/>
          </a:ln>
        </p:spPr>
      </p:pic>
      <p:sp>
        <p:nvSpPr>
          <p:cNvPr id="585" name="PlaceHolder 1"/>
          <p:cNvSpPr>
            <a:spLocks noGrp="1"/>
          </p:cNvSpPr>
          <p:nvPr>
            <p:ph type="title"/>
          </p:nvPr>
        </p:nvSpPr>
        <p:spPr>
          <a:xfrm>
            <a:off x="236160" y="-360"/>
            <a:ext cx="8583480" cy="68436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Internal view</a:t>
            </a:r>
            <a:endParaRPr b="0" lang="en-US" sz="3200" spc="-1" strike="noStrike">
              <a:solidFill>
                <a:srgbClr val="000000"/>
              </a:solidFill>
              <a:latin typeface="Futura Bk"/>
            </a:endParaRPr>
          </a:p>
        </p:txBody>
      </p:sp>
      <p:graphicFrame>
        <p:nvGraphicFramePr>
          <p:cNvPr id="586" name=""/>
          <p:cNvGraphicFramePr/>
          <p:nvPr/>
        </p:nvGraphicFramePr>
        <p:xfrm>
          <a:off x="5975280" y="1020600"/>
          <a:ext cx="2901960" cy="4154760"/>
        </p:xfrm>
        <a:graphic>
          <a:graphicData uri="http://schemas.openxmlformats.org/drawingml/2006/table">
            <a:tbl>
              <a:tblPr/>
              <a:tblGrid>
                <a:gridCol w="539640"/>
                <a:gridCol w="2362320"/>
              </a:tblGrid>
              <a:tr h="61452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88740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dundant power supply </a:t>
                      </a:r>
                      <a:endParaRPr b="0" lang="en-US" sz="1600" spc="-1" strike="noStrike">
                        <a:solidFill>
                          <a:srgbClr val="000000"/>
                        </a:solidFill>
                        <a:latin typeface="Futura Bk"/>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non hot plug)</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58068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upport for 2 Intel Xeon processors</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58068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BWC for smart array controller</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4</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oling Fans</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168084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5</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nfigurable riser</a:t>
                      </a:r>
                      <a:endParaRPr b="0" lang="en-US" sz="1600" spc="-1" strike="noStrike">
                        <a:solidFill>
                          <a:srgbClr val="000000"/>
                        </a:solidFill>
                        <a:latin typeface="Futura Bk"/>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ASE, (2) x4 PCI-E FH/FL, (1) x8PCI-E (LP)</a:t>
                      </a:r>
                      <a:endParaRPr b="0" lang="en-US" sz="1600" spc="-1" strike="noStrike">
                        <a:solidFill>
                          <a:srgbClr val="000000"/>
                        </a:solidFill>
                        <a:latin typeface="Futura Bk"/>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R (2) PCI-X 64-bit (option kit), (1) x8PCI-E (LP)</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grpSp>
        <p:nvGrpSpPr>
          <p:cNvPr id="587" name=""/>
          <p:cNvGrpSpPr/>
          <p:nvPr/>
        </p:nvGrpSpPr>
        <p:grpSpPr>
          <a:xfrm>
            <a:off x="425160" y="2274840"/>
            <a:ext cx="1338120" cy="314280"/>
            <a:chOff x="425160" y="2274840"/>
            <a:chExt cx="1338120" cy="314280"/>
          </a:xfrm>
        </p:grpSpPr>
        <p:sp>
          <p:nvSpPr>
            <p:cNvPr id="588" name=""/>
            <p:cNvSpPr/>
            <p:nvPr/>
          </p:nvSpPr>
          <p:spPr>
            <a:xfrm flipH="1">
              <a:off x="606240" y="2434680"/>
              <a:ext cx="115704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589" name=""/>
            <p:cNvSpPr/>
            <p:nvPr/>
          </p:nvSpPr>
          <p:spPr>
            <a:xfrm flipV="1" rot="10800000">
              <a:off x="425160" y="227448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5</a:t>
              </a:r>
              <a:endParaRPr b="0" lang="en-US" sz="2000" spc="-1" strike="noStrike">
                <a:solidFill>
                  <a:srgbClr val="000000"/>
                </a:solidFill>
                <a:latin typeface="Futura Bk"/>
              </a:endParaRPr>
            </a:p>
          </p:txBody>
        </p:sp>
      </p:grpSp>
      <p:grpSp>
        <p:nvGrpSpPr>
          <p:cNvPr id="590" name=""/>
          <p:cNvGrpSpPr/>
          <p:nvPr/>
        </p:nvGrpSpPr>
        <p:grpSpPr>
          <a:xfrm>
            <a:off x="3460320" y="2773440"/>
            <a:ext cx="2173680" cy="314280"/>
            <a:chOff x="3460320" y="2773440"/>
            <a:chExt cx="2173680" cy="314280"/>
          </a:xfrm>
        </p:grpSpPr>
        <p:sp>
          <p:nvSpPr>
            <p:cNvPr id="591" name=""/>
            <p:cNvSpPr/>
            <p:nvPr/>
          </p:nvSpPr>
          <p:spPr>
            <a:xfrm>
              <a:off x="3460320" y="2926800"/>
              <a:ext cx="201312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592" name=""/>
            <p:cNvSpPr/>
            <p:nvPr/>
          </p:nvSpPr>
          <p:spPr>
            <a:xfrm flipH="1" flipV="1" rot="10800000">
              <a:off x="5319360" y="277308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grpSp>
        <p:nvGrpSpPr>
          <p:cNvPr id="593" name=""/>
          <p:cNvGrpSpPr/>
          <p:nvPr/>
        </p:nvGrpSpPr>
        <p:grpSpPr>
          <a:xfrm>
            <a:off x="307800" y="4449600"/>
            <a:ext cx="2097000" cy="314280"/>
            <a:chOff x="307800" y="4449600"/>
            <a:chExt cx="2097000" cy="314280"/>
          </a:xfrm>
        </p:grpSpPr>
        <p:sp>
          <p:nvSpPr>
            <p:cNvPr id="594" name=""/>
            <p:cNvSpPr/>
            <p:nvPr/>
          </p:nvSpPr>
          <p:spPr>
            <a:xfrm flipH="1">
              <a:off x="462240" y="4610160"/>
              <a:ext cx="194256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595" name=""/>
            <p:cNvSpPr/>
            <p:nvPr/>
          </p:nvSpPr>
          <p:spPr>
            <a:xfrm>
              <a:off x="307800" y="4449600"/>
              <a:ext cx="30312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3</a:t>
              </a:r>
              <a:endParaRPr b="0" lang="en-US" sz="2000" spc="-1" strike="noStrike">
                <a:solidFill>
                  <a:srgbClr val="000000"/>
                </a:solidFill>
                <a:latin typeface="Futura Bk"/>
              </a:endParaRPr>
            </a:p>
          </p:txBody>
        </p:sp>
      </p:grpSp>
      <p:grpSp>
        <p:nvGrpSpPr>
          <p:cNvPr id="596" name=""/>
          <p:cNvGrpSpPr/>
          <p:nvPr/>
        </p:nvGrpSpPr>
        <p:grpSpPr>
          <a:xfrm>
            <a:off x="317520" y="4030560"/>
            <a:ext cx="2173320" cy="314280"/>
            <a:chOff x="317520" y="4030560"/>
            <a:chExt cx="2173320" cy="314280"/>
          </a:xfrm>
        </p:grpSpPr>
        <p:sp>
          <p:nvSpPr>
            <p:cNvPr id="597" name=""/>
            <p:cNvSpPr/>
            <p:nvPr/>
          </p:nvSpPr>
          <p:spPr>
            <a:xfrm flipH="1">
              <a:off x="477720" y="4191120"/>
              <a:ext cx="201312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598" name=""/>
            <p:cNvSpPr/>
            <p:nvPr/>
          </p:nvSpPr>
          <p:spPr>
            <a:xfrm>
              <a:off x="317520" y="403056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4</a:t>
              </a:r>
              <a:endParaRPr b="0" lang="en-US" sz="2000" spc="-1" strike="noStrike">
                <a:solidFill>
                  <a:srgbClr val="000000"/>
                </a:solidFill>
                <a:latin typeface="Futura Bk"/>
              </a:endParaRPr>
            </a:p>
          </p:txBody>
        </p:sp>
      </p:grpSp>
      <p:grpSp>
        <p:nvGrpSpPr>
          <p:cNvPr id="599" name=""/>
          <p:cNvGrpSpPr/>
          <p:nvPr/>
        </p:nvGrpSpPr>
        <p:grpSpPr>
          <a:xfrm>
            <a:off x="536400" y="1411200"/>
            <a:ext cx="2173320" cy="314280"/>
            <a:chOff x="536400" y="1411200"/>
            <a:chExt cx="2173320" cy="314280"/>
          </a:xfrm>
        </p:grpSpPr>
        <p:sp>
          <p:nvSpPr>
            <p:cNvPr id="600" name=""/>
            <p:cNvSpPr/>
            <p:nvPr/>
          </p:nvSpPr>
          <p:spPr>
            <a:xfrm flipH="1">
              <a:off x="696600" y="1571760"/>
              <a:ext cx="201312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01" name=""/>
            <p:cNvSpPr/>
            <p:nvPr/>
          </p:nvSpPr>
          <p:spPr>
            <a:xfrm>
              <a:off x="536400" y="14112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5</a:t>
              </a:r>
              <a:endParaRPr b="0" lang="en-US" sz="2000" spc="-1" strike="noStrike">
                <a:solidFill>
                  <a:srgbClr val="000000"/>
                </a:solidFill>
                <a:latin typeface="Futura Bk"/>
              </a:endParaRPr>
            </a:p>
          </p:txBody>
        </p:sp>
      </p:grpSp>
      <p:grpSp>
        <p:nvGrpSpPr>
          <p:cNvPr id="602" name=""/>
          <p:cNvGrpSpPr/>
          <p:nvPr/>
        </p:nvGrpSpPr>
        <p:grpSpPr>
          <a:xfrm>
            <a:off x="4454640" y="2170080"/>
            <a:ext cx="1338120" cy="314280"/>
            <a:chOff x="4454640" y="2170080"/>
            <a:chExt cx="1338120" cy="314280"/>
          </a:xfrm>
        </p:grpSpPr>
        <p:sp>
          <p:nvSpPr>
            <p:cNvPr id="603" name=""/>
            <p:cNvSpPr/>
            <p:nvPr/>
          </p:nvSpPr>
          <p:spPr>
            <a:xfrm>
              <a:off x="4454640" y="2324160"/>
              <a:ext cx="115704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04" name=""/>
            <p:cNvSpPr/>
            <p:nvPr/>
          </p:nvSpPr>
          <p:spPr>
            <a:xfrm>
              <a:off x="5478480" y="217008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ADB85C37-FED7-4430-89A0-2E01F2555D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1190520" y="1514520"/>
            <a:ext cx="7042320" cy="1231920"/>
          </a:xfrm>
          <a:prstGeom prst="rect">
            <a:avLst/>
          </a:prstGeom>
          <a:ln w="0">
            <a:noFill/>
          </a:ln>
        </p:spPr>
      </p:pic>
      <p:sp>
        <p:nvSpPr>
          <p:cNvPr id="6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External view eight hard drive model (front)</a:t>
            </a:r>
            <a:endParaRPr b="0" lang="en-US" sz="3200" spc="-1" strike="noStrike">
              <a:solidFill>
                <a:srgbClr val="000000"/>
              </a:solidFill>
              <a:latin typeface="Futura Bk"/>
            </a:endParaRPr>
          </a:p>
        </p:txBody>
      </p:sp>
      <p:graphicFrame>
        <p:nvGraphicFramePr>
          <p:cNvPr id="607" name=""/>
          <p:cNvGraphicFramePr/>
          <p:nvPr/>
        </p:nvGraphicFramePr>
        <p:xfrm>
          <a:off x="1469880" y="3409920"/>
          <a:ext cx="6451920" cy="1677960"/>
        </p:xfrm>
        <a:graphic>
          <a:graphicData uri="http://schemas.openxmlformats.org/drawingml/2006/table">
            <a:tbl>
              <a:tblPr/>
              <a:tblGrid>
                <a:gridCol w="641520"/>
                <a:gridCol w="5810400"/>
              </a:tblGrid>
              <a:tr h="6145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ptional DVD/DVD-RW drive</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mmon diagnostic panel for fast health statu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Eight (8) LFF SAS/ SATA hard drive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4</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USB Ports Up-front for easy acces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grpSp>
        <p:nvGrpSpPr>
          <p:cNvPr id="608" name=""/>
          <p:cNvGrpSpPr/>
          <p:nvPr/>
        </p:nvGrpSpPr>
        <p:grpSpPr>
          <a:xfrm>
            <a:off x="7842240" y="981000"/>
            <a:ext cx="314280" cy="703440"/>
            <a:chOff x="7842240" y="981000"/>
            <a:chExt cx="314280" cy="703440"/>
          </a:xfrm>
        </p:grpSpPr>
        <p:sp>
          <p:nvSpPr>
            <p:cNvPr id="609" name=""/>
            <p:cNvSpPr/>
            <p:nvPr/>
          </p:nvSpPr>
          <p:spPr>
            <a:xfrm>
              <a:off x="7997760" y="1154160"/>
              <a:ext cx="0" cy="53028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10" name=""/>
            <p:cNvSpPr/>
            <p:nvPr/>
          </p:nvSpPr>
          <p:spPr>
            <a:xfrm>
              <a:off x="7842240" y="9810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grpSp>
        <p:nvGrpSpPr>
          <p:cNvPr id="611" name=""/>
          <p:cNvGrpSpPr/>
          <p:nvPr/>
        </p:nvGrpSpPr>
        <p:grpSpPr>
          <a:xfrm>
            <a:off x="5958000" y="1143000"/>
            <a:ext cx="314280" cy="590040"/>
            <a:chOff x="5958000" y="1143000"/>
            <a:chExt cx="314280" cy="590040"/>
          </a:xfrm>
        </p:grpSpPr>
        <p:sp>
          <p:nvSpPr>
            <p:cNvPr id="612" name=""/>
            <p:cNvSpPr/>
            <p:nvPr/>
          </p:nvSpPr>
          <p:spPr>
            <a:xfrm>
              <a:off x="6119640" y="1257120"/>
              <a:ext cx="0" cy="47592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13" name=""/>
            <p:cNvSpPr/>
            <p:nvPr/>
          </p:nvSpPr>
          <p:spPr>
            <a:xfrm>
              <a:off x="5958000" y="1143000"/>
              <a:ext cx="314280" cy="31392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grpSp>
        <p:nvGrpSpPr>
          <p:cNvPr id="614" name=""/>
          <p:cNvGrpSpPr/>
          <p:nvPr/>
        </p:nvGrpSpPr>
        <p:grpSpPr>
          <a:xfrm>
            <a:off x="1265400" y="2104920"/>
            <a:ext cx="314280" cy="1055880"/>
            <a:chOff x="1265400" y="2104920"/>
            <a:chExt cx="314280" cy="1055880"/>
          </a:xfrm>
        </p:grpSpPr>
        <p:sp>
          <p:nvSpPr>
            <p:cNvPr id="615" name=""/>
            <p:cNvSpPr/>
            <p:nvPr/>
          </p:nvSpPr>
          <p:spPr>
            <a:xfrm>
              <a:off x="1421280" y="2104920"/>
              <a:ext cx="0" cy="88920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16" name=""/>
            <p:cNvSpPr/>
            <p:nvPr/>
          </p:nvSpPr>
          <p:spPr>
            <a:xfrm>
              <a:off x="1265400" y="284652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4</a:t>
              </a:r>
              <a:endParaRPr b="0" lang="en-US" sz="2000" spc="-1" strike="noStrike">
                <a:solidFill>
                  <a:srgbClr val="000000"/>
                </a:solidFill>
                <a:latin typeface="Futura Bk"/>
              </a:endParaRPr>
            </a:p>
          </p:txBody>
        </p:sp>
      </p:grpSp>
      <p:grpSp>
        <p:nvGrpSpPr>
          <p:cNvPr id="617" name=""/>
          <p:cNvGrpSpPr/>
          <p:nvPr/>
        </p:nvGrpSpPr>
        <p:grpSpPr>
          <a:xfrm>
            <a:off x="3728880" y="2192400"/>
            <a:ext cx="314280" cy="987480"/>
            <a:chOff x="3728880" y="2192400"/>
            <a:chExt cx="314280" cy="987480"/>
          </a:xfrm>
        </p:grpSpPr>
        <p:sp>
          <p:nvSpPr>
            <p:cNvPr id="618" name=""/>
            <p:cNvSpPr/>
            <p:nvPr/>
          </p:nvSpPr>
          <p:spPr>
            <a:xfrm>
              <a:off x="3884400" y="2192400"/>
              <a:ext cx="0" cy="82080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19" name=""/>
            <p:cNvSpPr/>
            <p:nvPr/>
          </p:nvSpPr>
          <p:spPr>
            <a:xfrm>
              <a:off x="3728880" y="28656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3</a:t>
              </a:r>
              <a:endParaRPr b="0" lang="en-US" sz="2000" spc="-1" strike="noStrike">
                <a:solidFill>
                  <a:srgbClr val="000000"/>
                </a:solidFill>
                <a:latin typeface="Futura Bk"/>
              </a:endParaRPr>
            </a:p>
          </p:txBody>
        </p:sp>
      </p:grpSp>
      <p:grpSp>
        <p:nvGrpSpPr>
          <p:cNvPr id="620" name=""/>
          <p:cNvGrpSpPr/>
          <p:nvPr/>
        </p:nvGrpSpPr>
        <p:grpSpPr>
          <a:xfrm>
            <a:off x="2181240" y="5284800"/>
            <a:ext cx="4702320" cy="1065960"/>
            <a:chOff x="2181240" y="5284800"/>
            <a:chExt cx="4702320" cy="1065960"/>
          </a:xfrm>
        </p:grpSpPr>
        <p:sp>
          <p:nvSpPr>
            <p:cNvPr id="621" name=""/>
            <p:cNvSpPr/>
            <p:nvPr/>
          </p:nvSpPr>
          <p:spPr>
            <a:xfrm>
              <a:off x="2583000" y="5284800"/>
              <a:ext cx="4300560" cy="1065960"/>
            </a:xfrm>
            <a:prstGeom prst="rect">
              <a:avLst/>
            </a:prstGeom>
            <a:noFill/>
            <a:ln w="0">
              <a:noFill/>
            </a:ln>
          </p:spPr>
          <p:style>
            <a:lnRef idx="0"/>
            <a:fillRef idx="0"/>
            <a:effectRef idx="0"/>
            <a:fontRef idx="minor"/>
          </p:style>
          <p:txBody>
            <a:bodyPr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Hv"/>
                </a:rPr>
                <a:t>Note: </a:t>
              </a:r>
              <a:r>
                <a:rPr b="0" lang="en-US" sz="1400" spc="-1" strike="noStrike">
                  <a:solidFill>
                    <a:srgbClr val="000000"/>
                  </a:solidFill>
                  <a:latin typeface="Futura Bk"/>
                </a:rPr>
                <a:t>When the internal health LED on the front panel illuminates amber or red, the server is experiencing a health event. Combinations of illuminated system LEDs and the internal health LED indicate system status.</a:t>
              </a:r>
              <a:endParaRPr b="0" lang="en-US" sz="1400" spc="-1" strike="noStrike">
                <a:solidFill>
                  <a:srgbClr val="000000"/>
                </a:solidFill>
                <a:latin typeface="Futura Bk"/>
              </a:endParaRPr>
            </a:p>
          </p:txBody>
        </p:sp>
        <p:pic>
          <p:nvPicPr>
            <p:cNvPr id="622" name="" descr=""/>
            <p:cNvPicPr/>
            <p:nvPr/>
          </p:nvPicPr>
          <p:blipFill>
            <a:blip r:embed="rId2"/>
            <a:stretch/>
          </p:blipFill>
          <p:spPr>
            <a:xfrm>
              <a:off x="2181240" y="5295960"/>
              <a:ext cx="362160" cy="361800"/>
            </a:xfrm>
            <a:prstGeom prst="rect">
              <a:avLst/>
            </a:prstGeom>
            <a:ln w="0">
              <a:noFill/>
            </a:ln>
          </p:spPr>
        </p:pic>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22E0AD7C-BF75-43DA-8517-D0BB4C23CD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3" name="" descr=""/>
          <p:cNvPicPr/>
          <p:nvPr/>
        </p:nvPicPr>
        <p:blipFill>
          <a:blip r:embed="rId1"/>
          <a:stretch/>
        </p:blipFill>
        <p:spPr>
          <a:xfrm>
            <a:off x="1266840" y="1542960"/>
            <a:ext cx="7007040" cy="1247760"/>
          </a:xfrm>
          <a:prstGeom prst="rect">
            <a:avLst/>
          </a:prstGeom>
          <a:ln w="0">
            <a:noFill/>
          </a:ln>
        </p:spPr>
      </p:pic>
      <p:sp>
        <p:nvSpPr>
          <p:cNvPr id="6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External view 12 hard drive model (front)</a:t>
            </a:r>
            <a:endParaRPr b="0" lang="en-US" sz="3200" spc="-1" strike="noStrike">
              <a:solidFill>
                <a:srgbClr val="000000"/>
              </a:solidFill>
              <a:latin typeface="Futura Bk"/>
            </a:endParaRPr>
          </a:p>
        </p:txBody>
      </p:sp>
      <p:graphicFrame>
        <p:nvGraphicFramePr>
          <p:cNvPr id="625" name=""/>
          <p:cNvGraphicFramePr/>
          <p:nvPr/>
        </p:nvGraphicFramePr>
        <p:xfrm>
          <a:off x="1469880" y="3409920"/>
          <a:ext cx="6451920" cy="1343160"/>
        </p:xfrm>
        <a:graphic>
          <a:graphicData uri="http://schemas.openxmlformats.org/drawingml/2006/table">
            <a:tbl>
              <a:tblPr/>
              <a:tblGrid>
                <a:gridCol w="641520"/>
                <a:gridCol w="5810400"/>
              </a:tblGrid>
              <a:tr h="6145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mmon diagnostic panel for fast health statu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2 LFF SAS/ SATA hard drive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USB Ports Up-front for easy acces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grpSp>
        <p:nvGrpSpPr>
          <p:cNvPr id="626" name=""/>
          <p:cNvGrpSpPr/>
          <p:nvPr/>
        </p:nvGrpSpPr>
        <p:grpSpPr>
          <a:xfrm>
            <a:off x="7842240" y="981000"/>
            <a:ext cx="314280" cy="703440"/>
            <a:chOff x="7842240" y="981000"/>
            <a:chExt cx="314280" cy="703440"/>
          </a:xfrm>
        </p:grpSpPr>
        <p:sp>
          <p:nvSpPr>
            <p:cNvPr id="627" name=""/>
            <p:cNvSpPr/>
            <p:nvPr/>
          </p:nvSpPr>
          <p:spPr>
            <a:xfrm>
              <a:off x="7997760" y="1154160"/>
              <a:ext cx="0" cy="53028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28" name=""/>
            <p:cNvSpPr/>
            <p:nvPr/>
          </p:nvSpPr>
          <p:spPr>
            <a:xfrm>
              <a:off x="7842240" y="9810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grpSp>
        <p:nvGrpSpPr>
          <p:cNvPr id="629" name=""/>
          <p:cNvGrpSpPr/>
          <p:nvPr/>
        </p:nvGrpSpPr>
        <p:grpSpPr>
          <a:xfrm>
            <a:off x="1417680" y="2152800"/>
            <a:ext cx="314280" cy="1055160"/>
            <a:chOff x="1417680" y="2152800"/>
            <a:chExt cx="314280" cy="1055160"/>
          </a:xfrm>
        </p:grpSpPr>
        <p:sp>
          <p:nvSpPr>
            <p:cNvPr id="630" name=""/>
            <p:cNvSpPr/>
            <p:nvPr/>
          </p:nvSpPr>
          <p:spPr>
            <a:xfrm>
              <a:off x="1573560" y="2152800"/>
              <a:ext cx="0" cy="88884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31" name=""/>
            <p:cNvSpPr/>
            <p:nvPr/>
          </p:nvSpPr>
          <p:spPr>
            <a:xfrm>
              <a:off x="1417680" y="2894040"/>
              <a:ext cx="314280" cy="31392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3</a:t>
              </a:r>
              <a:endParaRPr b="0" lang="en-US" sz="2000" spc="-1" strike="noStrike">
                <a:solidFill>
                  <a:srgbClr val="000000"/>
                </a:solidFill>
                <a:latin typeface="Futura Bk"/>
              </a:endParaRPr>
            </a:p>
          </p:txBody>
        </p:sp>
      </p:grpSp>
      <p:grpSp>
        <p:nvGrpSpPr>
          <p:cNvPr id="632" name=""/>
          <p:cNvGrpSpPr/>
          <p:nvPr/>
        </p:nvGrpSpPr>
        <p:grpSpPr>
          <a:xfrm>
            <a:off x="3728880" y="2192400"/>
            <a:ext cx="314280" cy="987480"/>
            <a:chOff x="3728880" y="2192400"/>
            <a:chExt cx="314280" cy="987480"/>
          </a:xfrm>
        </p:grpSpPr>
        <p:sp>
          <p:nvSpPr>
            <p:cNvPr id="633" name=""/>
            <p:cNvSpPr/>
            <p:nvPr/>
          </p:nvSpPr>
          <p:spPr>
            <a:xfrm>
              <a:off x="3884400" y="2192400"/>
              <a:ext cx="0" cy="82080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34" name=""/>
            <p:cNvSpPr/>
            <p:nvPr/>
          </p:nvSpPr>
          <p:spPr>
            <a:xfrm>
              <a:off x="3728880" y="28656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grpSp>
        <p:nvGrpSpPr>
          <p:cNvPr id="635" name=""/>
          <p:cNvGrpSpPr/>
          <p:nvPr/>
        </p:nvGrpSpPr>
        <p:grpSpPr>
          <a:xfrm>
            <a:off x="2181240" y="5284800"/>
            <a:ext cx="4702320" cy="1065960"/>
            <a:chOff x="2181240" y="5284800"/>
            <a:chExt cx="4702320" cy="1065960"/>
          </a:xfrm>
        </p:grpSpPr>
        <p:sp>
          <p:nvSpPr>
            <p:cNvPr id="636" name=""/>
            <p:cNvSpPr/>
            <p:nvPr/>
          </p:nvSpPr>
          <p:spPr>
            <a:xfrm>
              <a:off x="2583000" y="5284800"/>
              <a:ext cx="4300560" cy="1065960"/>
            </a:xfrm>
            <a:prstGeom prst="rect">
              <a:avLst/>
            </a:prstGeom>
            <a:noFill/>
            <a:ln w="0">
              <a:noFill/>
            </a:ln>
          </p:spPr>
          <p:style>
            <a:lnRef idx="0"/>
            <a:fillRef idx="0"/>
            <a:effectRef idx="0"/>
            <a:fontRef idx="minor"/>
          </p:style>
          <p:txBody>
            <a:bodyPr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Hv"/>
                </a:rPr>
                <a:t>Note: </a:t>
              </a:r>
              <a:r>
                <a:rPr b="0" lang="en-US" sz="1400" spc="-1" strike="noStrike">
                  <a:solidFill>
                    <a:srgbClr val="000000"/>
                  </a:solidFill>
                  <a:latin typeface="Futura Bk"/>
                </a:rPr>
                <a:t>When the internal health LED on the front panel illuminates amber or red, the server is experiencing a health event. Combinations of illuminated system LEDs and the internal health LED indicate system status.</a:t>
              </a:r>
              <a:endParaRPr b="0" lang="en-US" sz="1400" spc="-1" strike="noStrike">
                <a:solidFill>
                  <a:srgbClr val="000000"/>
                </a:solidFill>
                <a:latin typeface="Futura Bk"/>
              </a:endParaRPr>
            </a:p>
          </p:txBody>
        </p:sp>
        <p:pic>
          <p:nvPicPr>
            <p:cNvPr id="637" name="" descr=""/>
            <p:cNvPicPr/>
            <p:nvPr/>
          </p:nvPicPr>
          <p:blipFill>
            <a:blip r:embed="rId2"/>
            <a:stretch/>
          </p:blipFill>
          <p:spPr>
            <a:xfrm>
              <a:off x="2181240" y="5295960"/>
              <a:ext cx="362160" cy="361800"/>
            </a:xfrm>
            <a:prstGeom prst="rect">
              <a:avLst/>
            </a:prstGeom>
            <a:ln w="0">
              <a:noFill/>
            </a:ln>
          </p:spPr>
        </p:pic>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6CADBA69-C772-4F3A-937A-6BA3ECCD37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 descr=""/>
          <p:cNvPicPr/>
          <p:nvPr/>
        </p:nvPicPr>
        <p:blipFill>
          <a:blip r:embed="rId1"/>
          <a:stretch/>
        </p:blipFill>
        <p:spPr>
          <a:xfrm>
            <a:off x="581040" y="1581120"/>
            <a:ext cx="8077320" cy="1622520"/>
          </a:xfrm>
          <a:prstGeom prst="rect">
            <a:avLst/>
          </a:prstGeom>
          <a:ln w="0">
            <a:noFill/>
          </a:ln>
        </p:spPr>
      </p:pic>
      <p:sp>
        <p:nvSpPr>
          <p:cNvPr id="63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External view (back)</a:t>
            </a:r>
            <a:endParaRPr b="0" lang="en-US" sz="3200" spc="-1" strike="noStrike">
              <a:solidFill>
                <a:srgbClr val="000000"/>
              </a:solidFill>
              <a:latin typeface="Futura Bk"/>
            </a:endParaRPr>
          </a:p>
        </p:txBody>
      </p:sp>
      <p:graphicFrame>
        <p:nvGraphicFramePr>
          <p:cNvPr id="640" name=""/>
          <p:cNvGraphicFramePr/>
          <p:nvPr/>
        </p:nvGraphicFramePr>
        <p:xfrm>
          <a:off x="2000160" y="3809880"/>
          <a:ext cx="4934160" cy="1768680"/>
        </p:xfrm>
        <a:graphic>
          <a:graphicData uri="http://schemas.openxmlformats.org/drawingml/2006/table">
            <a:tbl>
              <a:tblPr/>
              <a:tblGrid>
                <a:gridCol w="657360"/>
                <a:gridCol w="4276800"/>
              </a:tblGrid>
              <a:tr h="6145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6724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ption for Redundant power supply (Non Hot Plug)</a:t>
                      </a:r>
                      <a:r>
                        <a:rPr b="0" lang="en-US" sz="2200" spc="-1" strike="noStrike">
                          <a:solidFill>
                            <a:srgbClr val="ffffff"/>
                          </a:solidFill>
                          <a:latin typeface="Futura Bk"/>
                        </a:rPr>
                        <a:t> </a:t>
                      </a:r>
                      <a:endParaRPr b="0" lang="en-US" sz="22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nfigurable Riser</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4291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tandard power supply (Non Hot Plug)</a:t>
                      </a:r>
                      <a:r>
                        <a:rPr b="0" lang="en-US" sz="2200" spc="-1" strike="noStrike">
                          <a:solidFill>
                            <a:srgbClr val="ffffff"/>
                          </a:solidFill>
                          <a:latin typeface="Futura Bk"/>
                        </a:rPr>
                        <a:t> </a:t>
                      </a:r>
                      <a:endParaRPr b="0" lang="en-US" sz="22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grpSp>
        <p:nvGrpSpPr>
          <p:cNvPr id="641" name=""/>
          <p:cNvGrpSpPr/>
          <p:nvPr/>
        </p:nvGrpSpPr>
        <p:grpSpPr>
          <a:xfrm>
            <a:off x="1859040" y="1011240"/>
            <a:ext cx="314280" cy="963360"/>
            <a:chOff x="1859040" y="1011240"/>
            <a:chExt cx="314280" cy="963360"/>
          </a:xfrm>
        </p:grpSpPr>
        <p:sp>
          <p:nvSpPr>
            <p:cNvPr id="642" name=""/>
            <p:cNvSpPr/>
            <p:nvPr/>
          </p:nvSpPr>
          <p:spPr>
            <a:xfrm>
              <a:off x="2014560" y="1168200"/>
              <a:ext cx="0" cy="806400"/>
            </a:xfrm>
            <a:prstGeom prst="line">
              <a:avLst/>
            </a:prstGeom>
            <a:ln w="28440">
              <a:solidFill>
                <a:srgbClr val="0071b4"/>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43" name=""/>
            <p:cNvSpPr/>
            <p:nvPr/>
          </p:nvSpPr>
          <p:spPr>
            <a:xfrm>
              <a:off x="1859040" y="1011240"/>
              <a:ext cx="314280" cy="314280"/>
            </a:xfrm>
            <a:prstGeom prst="ellipse">
              <a:avLst/>
            </a:prstGeom>
            <a:solidFill>
              <a:srgbClr val="0071b4"/>
            </a:solidFill>
            <a:ln w="19080">
              <a:solidFill>
                <a:srgbClr val="0071b4"/>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grpSp>
        <p:nvGrpSpPr>
          <p:cNvPr id="644" name=""/>
          <p:cNvGrpSpPr/>
          <p:nvPr/>
        </p:nvGrpSpPr>
        <p:grpSpPr>
          <a:xfrm>
            <a:off x="5084640" y="1125360"/>
            <a:ext cx="314280" cy="814320"/>
            <a:chOff x="5084640" y="1125360"/>
            <a:chExt cx="314280" cy="814320"/>
          </a:xfrm>
        </p:grpSpPr>
        <p:sp>
          <p:nvSpPr>
            <p:cNvPr id="645" name=""/>
            <p:cNvSpPr/>
            <p:nvPr/>
          </p:nvSpPr>
          <p:spPr>
            <a:xfrm>
              <a:off x="5240160" y="1339560"/>
              <a:ext cx="0" cy="600120"/>
            </a:xfrm>
            <a:prstGeom prst="line">
              <a:avLst/>
            </a:prstGeom>
            <a:ln w="28440">
              <a:solidFill>
                <a:srgbClr val="0071b4"/>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46" name=""/>
            <p:cNvSpPr/>
            <p:nvPr/>
          </p:nvSpPr>
          <p:spPr>
            <a:xfrm>
              <a:off x="5084640" y="1125360"/>
              <a:ext cx="314280" cy="314280"/>
            </a:xfrm>
            <a:prstGeom prst="ellipse">
              <a:avLst/>
            </a:prstGeom>
            <a:solidFill>
              <a:srgbClr val="0071b4"/>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grpSp>
        <p:nvGrpSpPr>
          <p:cNvPr id="647" name=""/>
          <p:cNvGrpSpPr/>
          <p:nvPr/>
        </p:nvGrpSpPr>
        <p:grpSpPr>
          <a:xfrm>
            <a:off x="1465200" y="2962440"/>
            <a:ext cx="314280" cy="960120"/>
            <a:chOff x="1465200" y="2962440"/>
            <a:chExt cx="314280" cy="960120"/>
          </a:xfrm>
        </p:grpSpPr>
        <p:sp>
          <p:nvSpPr>
            <p:cNvPr id="648" name=""/>
            <p:cNvSpPr/>
            <p:nvPr/>
          </p:nvSpPr>
          <p:spPr>
            <a:xfrm>
              <a:off x="1620720" y="2962440"/>
              <a:ext cx="0" cy="768240"/>
            </a:xfrm>
            <a:prstGeom prst="line">
              <a:avLst/>
            </a:prstGeom>
            <a:ln w="28440">
              <a:solidFill>
                <a:srgbClr val="0071b4"/>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49" name=""/>
            <p:cNvSpPr/>
            <p:nvPr/>
          </p:nvSpPr>
          <p:spPr>
            <a:xfrm>
              <a:off x="1465200" y="3608280"/>
              <a:ext cx="314280" cy="314280"/>
            </a:xfrm>
            <a:prstGeom prst="ellipse">
              <a:avLst/>
            </a:prstGeom>
            <a:solidFill>
              <a:srgbClr val="0071b4"/>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5</a:t>
              </a:r>
              <a:endParaRPr b="0" lang="en-US" sz="2000" spc="-1" strike="noStrike">
                <a:solidFill>
                  <a:srgbClr val="000000"/>
                </a:solidFill>
                <a:latin typeface="Futura Bk"/>
              </a:endParaRPr>
            </a:p>
          </p:txBody>
        </p:sp>
      </p:grpSp>
      <p:grpSp>
        <p:nvGrpSpPr>
          <p:cNvPr id="650" name=""/>
          <p:cNvGrpSpPr/>
          <p:nvPr/>
        </p:nvGrpSpPr>
        <p:grpSpPr>
          <a:xfrm>
            <a:off x="6545160" y="2662200"/>
            <a:ext cx="314280" cy="822240"/>
            <a:chOff x="6545160" y="2662200"/>
            <a:chExt cx="314280" cy="822240"/>
          </a:xfrm>
        </p:grpSpPr>
        <p:sp>
          <p:nvSpPr>
            <p:cNvPr id="651" name=""/>
            <p:cNvSpPr/>
            <p:nvPr/>
          </p:nvSpPr>
          <p:spPr>
            <a:xfrm>
              <a:off x="6700680" y="2662200"/>
              <a:ext cx="0" cy="630360"/>
            </a:xfrm>
            <a:prstGeom prst="line">
              <a:avLst/>
            </a:prstGeom>
            <a:ln w="28440">
              <a:solidFill>
                <a:srgbClr val="0071b4"/>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52" name=""/>
            <p:cNvSpPr/>
            <p:nvPr/>
          </p:nvSpPr>
          <p:spPr>
            <a:xfrm>
              <a:off x="6545160" y="3170160"/>
              <a:ext cx="314280" cy="314280"/>
            </a:xfrm>
            <a:prstGeom prst="ellipse">
              <a:avLst/>
            </a:prstGeom>
            <a:solidFill>
              <a:srgbClr val="0071b4"/>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3E089D12-BDC0-4B16-963F-B406389D5F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Order, configuration, and licensing rules</a:t>
            </a:r>
            <a:endParaRPr b="0" lang="en-US" sz="3200" spc="-1" strike="noStrike">
              <a:solidFill>
                <a:srgbClr val="000000"/>
              </a:solidFill>
              <a:latin typeface="Futura Bk"/>
            </a:endParaRPr>
          </a:p>
        </p:txBody>
      </p:sp>
      <p:sp>
        <p:nvSpPr>
          <p:cNvPr id="654" name="PlaceHolder 2"/>
          <p:cNvSpPr>
            <a:spLocks noGrp="1"/>
          </p:cNvSpPr>
          <p:nvPr>
            <p:ph/>
          </p:nvPr>
        </p:nvSpPr>
        <p:spPr>
          <a:xfrm>
            <a:off x="399600" y="992160"/>
            <a:ext cx="4218120" cy="559584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Configure-to-order (CTO) rules</a:t>
            </a:r>
            <a:endParaRPr b="0" lang="en-US" sz="2200" spc="-1" strike="noStrike">
              <a:solidFill>
                <a:srgbClr val="0071b4"/>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tep 1: Base configuration </a:t>
            </a:r>
            <a:endParaRPr b="0" lang="en-US" sz="2000" spc="-1" strike="noStrike">
              <a:solidFill>
                <a:srgbClr val="000000"/>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tep 2: Choose required options</a:t>
            </a:r>
            <a:endParaRPr b="0" lang="en-US" sz="2000" spc="-1" strike="noStrike">
              <a:solidFill>
                <a:srgbClr val="000000"/>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tep 3: Choose additional factory options</a:t>
            </a:r>
            <a:endParaRPr b="0" lang="en-US" sz="2000" spc="-1" strike="noStrike">
              <a:solidFill>
                <a:srgbClr val="000000"/>
              </a:solidFill>
              <a:latin typeface="Futura Bk"/>
            </a:endParaRPr>
          </a:p>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actory Express rules</a:t>
            </a:r>
            <a:endParaRPr b="0" lang="en-US" sz="2200" spc="-1" strike="noStrike">
              <a:solidFill>
                <a:srgbClr val="0071b4"/>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P does not allow factory integration of options into standard models, configure-to-order servers must start with a CTO Chassis</a:t>
            </a:r>
            <a:endParaRPr b="0" lang="en-US" sz="2000" spc="-1" strike="noStrike">
              <a:solidFill>
                <a:srgbClr val="000000"/>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is product offering does not support HP factory express Server Configuration Level 1</a:t>
            </a:r>
            <a:endParaRPr b="0" lang="en-US" sz="2000" spc="-1" strike="noStrike">
              <a:solidFill>
                <a:srgbClr val="000000"/>
              </a:solidFill>
              <a:latin typeface="Futura Bk"/>
            </a:endParaRPr>
          </a:p>
        </p:txBody>
      </p:sp>
      <p:sp>
        <p:nvSpPr>
          <p:cNvPr id="655" name="PlaceHolder 3"/>
          <p:cNvSpPr>
            <a:spLocks noGrp="1"/>
          </p:cNvSpPr>
          <p:nvPr>
            <p:ph/>
          </p:nvPr>
        </p:nvSpPr>
        <p:spPr>
          <a:xfrm>
            <a:off x="4635000" y="992160"/>
            <a:ext cx="4351320" cy="50054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elpful website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actory Express for servers and storage </a:t>
            </a:r>
            <a:br>
              <a:rPr sz="2000"/>
            </a:br>
            <a:r>
              <a:rPr b="0" lang="en-US" sz="2000" spc="-1" strike="noStrike" u="sng">
                <a:solidFill>
                  <a:srgbClr val="eb5f01"/>
                </a:solidFill>
                <a:uFillTx/>
                <a:latin typeface="Futura Hv"/>
                <a:hlinkClick r:id="rId1"/>
              </a:rPr>
              <a:t>http://www.hp.com/go/factory-expres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Quickspecs </a:t>
            </a:r>
            <a:r>
              <a:rPr b="0" lang="en-US" sz="2000" spc="-1" strike="noStrike">
                <a:solidFill>
                  <a:srgbClr val="000000"/>
                </a:solidFill>
                <a:latin typeface="Futura Hv"/>
              </a:rPr>
              <a:t>http://www.hp.com/servers/proliantdl180</a:t>
            </a:r>
            <a:r>
              <a:rPr b="0" lang="en-US" sz="2000" spc="-1" strike="noStrike">
                <a:solidFill>
                  <a:srgbClr val="000000"/>
                </a:solidFill>
                <a:latin typeface="Futura Bk"/>
              </a:rPr>
              <a: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arranty</a:t>
            </a:r>
            <a:br>
              <a:rPr sz="2000"/>
            </a:br>
            <a:r>
              <a:rPr b="0" lang="en-US" sz="2000" spc="-1" strike="noStrike" u="sng">
                <a:solidFill>
                  <a:srgbClr val="eb5f01"/>
                </a:solidFill>
                <a:uFillTx/>
                <a:latin typeface="Futura Hv"/>
                <a:hlinkClick r:id="rId2"/>
              </a:rPr>
              <a:t>http://h18004.www1.hp.com/products/servers/platforms/warranty/index.html</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ervice Offerings</a:t>
            </a:r>
            <a:br>
              <a:rPr sz="2000"/>
            </a:br>
            <a:r>
              <a:rPr b="0" lang="en-US" sz="2000" spc="-1" strike="noStrike" u="sng">
                <a:solidFill>
                  <a:srgbClr val="eb5f01"/>
                </a:solidFill>
                <a:uFillTx/>
                <a:latin typeface="Futura Hv"/>
                <a:hlinkClick r:id="rId3"/>
              </a:rPr>
              <a:t>http://www.hp.com/HP/</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9F036838-B27A-4C46-BD32-2D975EBD41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ttach recommendations</a:t>
            </a:r>
            <a:endParaRPr b="0" lang="en-US" sz="3200" spc="-1" strike="noStrike">
              <a:solidFill>
                <a:srgbClr val="000000"/>
              </a:solidFill>
              <a:latin typeface="Futura Bk"/>
            </a:endParaRPr>
          </a:p>
        </p:txBody>
      </p:sp>
      <p:sp>
        <p:nvSpPr>
          <p:cNvPr id="657" name="PlaceHolder 2"/>
          <p:cNvSpPr>
            <a:spLocks noGrp="1"/>
          </p:cNvSpPr>
          <p:nvPr>
            <p:ph/>
          </p:nvPr>
        </p:nvSpPr>
        <p:spPr>
          <a:xfrm>
            <a:off x="399960" y="991800"/>
            <a:ext cx="4216320" cy="5357880"/>
          </a:xfrm>
          <a:prstGeom prst="rect">
            <a:avLst/>
          </a:prstGeom>
          <a:noFill/>
          <a:ln w="0">
            <a:noFill/>
          </a:ln>
        </p:spPr>
        <p:txBody>
          <a:bodyPr lIns="45720" rIns="45720" tIns="91440" bIns="91440" anchor="t">
            <a:normAutofit/>
          </a:bodyPr>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1b4"/>
                </a:solidFill>
                <a:latin typeface="Futura Bk"/>
              </a:rPr>
              <a:t>Base model</a:t>
            </a:r>
            <a:endParaRPr b="0" lang="en-US" sz="24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DL180 G5</a:t>
            </a:r>
            <a:r>
              <a:rPr b="0" lang="it-IT" sz="1600" spc="-1" strike="noStrike">
                <a:solidFill>
                  <a:srgbClr val="000000"/>
                </a:solidFill>
                <a:latin typeface="Futura Bk"/>
              </a:rPr>
              <a:t>,</a:t>
            </a:r>
            <a:r>
              <a:rPr b="0" lang="en-US" sz="1600" spc="-1" strike="noStrike">
                <a:solidFill>
                  <a:srgbClr val="000000"/>
                </a:solidFill>
                <a:latin typeface="Futura Bk"/>
              </a:rPr>
              <a:t> E5405 </a:t>
            </a:r>
            <a:r>
              <a:rPr b="0" lang="it-IT" sz="1600" spc="-1" strike="noStrike">
                <a:solidFill>
                  <a:srgbClr val="000000"/>
                </a:solidFill>
                <a:latin typeface="Futura Bk"/>
              </a:rPr>
              <a:t>2.00GHz,(QC) 1GB (1P)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DL180 G5</a:t>
            </a:r>
            <a:r>
              <a:rPr b="0" lang="it-IT" sz="1600" spc="-1" strike="noStrike">
                <a:solidFill>
                  <a:srgbClr val="000000"/>
                </a:solidFill>
                <a:latin typeface="Futura Bk"/>
              </a:rPr>
              <a:t>,</a:t>
            </a:r>
            <a:r>
              <a:rPr b="0" lang="en-US" sz="1600" spc="-1" strike="noStrike">
                <a:solidFill>
                  <a:srgbClr val="000000"/>
                </a:solidFill>
                <a:latin typeface="Futura Bk"/>
              </a:rPr>
              <a:t> E5405 </a:t>
            </a:r>
            <a:r>
              <a:rPr b="0" lang="it-IT" sz="1600" spc="-1" strike="noStrike">
                <a:solidFill>
                  <a:srgbClr val="000000"/>
                </a:solidFill>
                <a:latin typeface="Futura Bk"/>
              </a:rPr>
              <a:t>2.00GHz,(QC) 1GB (1P) </a:t>
            </a:r>
            <a:endParaRPr b="0" lang="en-US" sz="1600" spc="-1" strike="noStrike">
              <a:solidFill>
                <a:srgbClr val="000000"/>
              </a:solidFill>
              <a:latin typeface="Futura Bk"/>
            </a:endParaRPr>
          </a:p>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1b4"/>
                </a:solidFill>
                <a:latin typeface="Futura Bk"/>
              </a:rPr>
              <a:t>What options are associated with this product or solution?</a:t>
            </a:r>
            <a:endParaRPr b="0" lang="en-US" sz="24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erformance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Upgradeable to 2 processors</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Wolfdale DC or Harpertown QC</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mart Array P400/P800 controller</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emory upgrades (512MB or 1GB standard, 16GB max)</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ull-length/full-height riser with 2x PCI-X Slots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liability and efficiency</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200W Power Supply (redundant non-hot Plug, auto switching)</a:t>
            </a:r>
            <a:endParaRPr b="0" lang="en-US" sz="1600" spc="-1" strike="noStrike">
              <a:solidFill>
                <a:srgbClr val="000000"/>
              </a:solidFill>
              <a:latin typeface="Futura Bk"/>
            </a:endParaRPr>
          </a:p>
        </p:txBody>
      </p:sp>
      <p:sp>
        <p:nvSpPr>
          <p:cNvPr id="658" name="PlaceHolder 3"/>
          <p:cNvSpPr>
            <a:spLocks noGrp="1"/>
          </p:cNvSpPr>
          <p:nvPr>
            <p:ph/>
          </p:nvPr>
        </p:nvSpPr>
        <p:spPr>
          <a:xfrm>
            <a:off x="4663800" y="991800"/>
            <a:ext cx="4322520" cy="5319720"/>
          </a:xfrm>
          <a:prstGeom prst="rect">
            <a:avLst/>
          </a:prstGeom>
          <a:noFill/>
          <a:ln w="0">
            <a:noFill/>
          </a:ln>
        </p:spPr>
        <p:txBody>
          <a:bodyPr lIns="45720" rIns="45720" tIns="91440" bIns="91440" anchor="t">
            <a:normAutofit/>
          </a:bodyPr>
          <a:p>
            <a:pPr lvl="1" marL="345960" indent="-23148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anagement</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Lights Out 100c basic sideband NIC and serial port connect</a:t>
            </a:r>
            <a:endParaRPr b="0" lang="en-US" sz="1600" spc="-1" strike="noStrike">
              <a:solidFill>
                <a:srgbClr val="000000"/>
              </a:solidFill>
              <a:latin typeface="Futura Bk"/>
            </a:endParaRPr>
          </a:p>
          <a:p>
            <a:pPr lvl="1" marL="345960" indent="-23148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torage</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8 LFF HDD or 12 LFF HDD models</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martArray controllers to support direct attach</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martArray controller P800 w/ BBWC in LP slot (12 HDD models)</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martArray controller E200 w/BBWC in full length slot (8 HDD models) </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VD (rear for 12 HDD model, multi-bay for 8HDD model)</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loppy (USB)</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D2D110 backup system with Data Protector Express software kit </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ape autoloaders</a:t>
            </a:r>
            <a:endParaRPr b="0" lang="en-US" sz="16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847225C6-D961-402C-B736-83ECB9C029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5557680" y="474840"/>
            <a:ext cx="3413160" cy="2212920"/>
          </a:xfrm>
          <a:prstGeom prst="rect">
            <a:avLst/>
          </a:prstGeom>
          <a:ln w="0">
            <a:noFill/>
          </a:ln>
        </p:spPr>
      </p:pic>
      <p:sp>
        <p:nvSpPr>
          <p:cNvPr id="14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4" name=""/>
          <p:cNvGraphicFramePr/>
          <p:nvPr/>
        </p:nvGraphicFramePr>
        <p:xfrm>
          <a:off x="485640" y="973080"/>
          <a:ext cx="4897440" cy="5073840"/>
        </p:xfrm>
        <a:graphic>
          <a:graphicData uri="http://schemas.openxmlformats.org/drawingml/2006/table">
            <a:tbl>
              <a:tblPr/>
              <a:tblGrid>
                <a:gridCol w="4897440"/>
              </a:tblGrid>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HP ProLiant DL180 Generation 5 (G5)</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611280">
                <a:tc>
                  <a:txBody>
                    <a:bodyPr lIns="90000" rIns="45720" tIns="46800" bIns="46800" anchor="ctr">
                      <a:noAutofit/>
                    </a:bodyPr>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w Intel processor technology</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Key new features or capabilities</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266280">
                <a:tc>
                  <a:txBody>
                    <a:bodyPr lIns="90000" rIns="45720" tIns="46800" bIns="46800" anchor="ctr">
                      <a:noAutofit/>
                    </a:bodyPr>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arpertown QC or Wolfdale DC processors</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Intel</a:t>
                      </a:r>
                      <a:r>
                        <a:rPr b="0" lang="en-US" sz="2000" spc="-1" strike="noStrike" baseline="40000">
                          <a:solidFill>
                            <a:srgbClr val="000000"/>
                          </a:solidFill>
                          <a:latin typeface="Futura Bk"/>
                          <a:ea typeface="新細明體"/>
                        </a:rPr>
                        <a:t>®</a:t>
                      </a:r>
                      <a:r>
                        <a:rPr b="0" lang="en-US" sz="2000" spc="-1" strike="noStrike">
                          <a:solidFill>
                            <a:srgbClr val="000000"/>
                          </a:solidFill>
                          <a:latin typeface="Futura Bk"/>
                          <a:ea typeface="新細明體"/>
                        </a:rPr>
                        <a:t> Xeon™ q</a:t>
                      </a:r>
                      <a:r>
                        <a:rPr b="0" lang="en-US" sz="2000" spc="-1" strike="noStrike">
                          <a:solidFill>
                            <a:srgbClr val="000000"/>
                          </a:solidFill>
                          <a:latin typeface="Futura Bk"/>
                        </a:rPr>
                        <a:t>uad or dual core</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5400 or 5200 sequence</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1333/1066 MHz FSB</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Up to 16 GB of memory supported by six (6) PC2-5300 (667 MHz) DDR2 </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even USB ports (2) USB up front, (4) port rear, (1) port internal (optional)</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Availability: 11 February 2008</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grpSp>
        <p:nvGrpSpPr>
          <p:cNvPr id="145" name=""/>
          <p:cNvGrpSpPr/>
          <p:nvPr/>
        </p:nvGrpSpPr>
        <p:grpSpPr>
          <a:xfrm>
            <a:off x="419040" y="6275520"/>
            <a:ext cx="6371640" cy="342000"/>
            <a:chOff x="419040" y="6275520"/>
            <a:chExt cx="6371640" cy="342000"/>
          </a:xfrm>
        </p:grpSpPr>
        <p:grpSp>
          <p:nvGrpSpPr>
            <p:cNvPr id="146" name=""/>
            <p:cNvGrpSpPr/>
            <p:nvPr/>
          </p:nvGrpSpPr>
          <p:grpSpPr>
            <a:xfrm>
              <a:off x="419040" y="6291360"/>
              <a:ext cx="282600" cy="282600"/>
              <a:chOff x="419040" y="6291360"/>
              <a:chExt cx="282600" cy="282600"/>
            </a:xfrm>
          </p:grpSpPr>
          <p:sp>
            <p:nvSpPr>
              <p:cNvPr id="147" name=""/>
              <p:cNvSpPr/>
              <p:nvPr/>
            </p:nvSpPr>
            <p:spPr>
              <a:xfrm>
                <a:off x="419040" y="6291360"/>
                <a:ext cx="282600" cy="282600"/>
              </a:xfrm>
              <a:custGeom>
                <a:avLst/>
                <a:gdLst/>
                <a:ahLst/>
                <a:rect l="l" t="t" r="r" b="b"/>
                <a:pathLst>
                  <a:path w="1017" h="1017">
                    <a:moveTo>
                      <a:pt x="738" y="56"/>
                    </a:moveTo>
                    <a:lnTo>
                      <a:pt x="768" y="73"/>
                    </a:lnTo>
                    <a:lnTo>
                      <a:pt x="798" y="91"/>
                    </a:lnTo>
                    <a:lnTo>
                      <a:pt x="826" y="112"/>
                    </a:lnTo>
                    <a:lnTo>
                      <a:pt x="852" y="134"/>
                    </a:lnTo>
                    <a:lnTo>
                      <a:pt x="877" y="158"/>
                    </a:lnTo>
                    <a:lnTo>
                      <a:pt x="900" y="183"/>
                    </a:lnTo>
                    <a:lnTo>
                      <a:pt x="920" y="211"/>
                    </a:lnTo>
                    <a:lnTo>
                      <a:pt x="940" y="240"/>
                    </a:lnTo>
                    <a:lnTo>
                      <a:pt x="957" y="270"/>
                    </a:lnTo>
                    <a:lnTo>
                      <a:pt x="972" y="301"/>
                    </a:lnTo>
                    <a:lnTo>
                      <a:pt x="986" y="333"/>
                    </a:lnTo>
                    <a:lnTo>
                      <a:pt x="996" y="366"/>
                    </a:lnTo>
                    <a:lnTo>
                      <a:pt x="1006" y="401"/>
                    </a:lnTo>
                    <a:lnTo>
                      <a:pt x="1013" y="437"/>
                    </a:lnTo>
                    <a:lnTo>
                      <a:pt x="1016" y="472"/>
                    </a:lnTo>
                    <a:lnTo>
                      <a:pt x="1017" y="509"/>
                    </a:lnTo>
                    <a:lnTo>
                      <a:pt x="1015" y="561"/>
                    </a:lnTo>
                    <a:lnTo>
                      <a:pt x="1007" y="612"/>
                    </a:lnTo>
                    <a:lnTo>
                      <a:pt x="994" y="660"/>
                    </a:lnTo>
                    <a:lnTo>
                      <a:pt x="977" y="706"/>
                    </a:lnTo>
                    <a:lnTo>
                      <a:pt x="956" y="751"/>
                    </a:lnTo>
                    <a:lnTo>
                      <a:pt x="930" y="792"/>
                    </a:lnTo>
                    <a:lnTo>
                      <a:pt x="901" y="832"/>
                    </a:lnTo>
                    <a:lnTo>
                      <a:pt x="869" y="868"/>
                    </a:lnTo>
                    <a:lnTo>
                      <a:pt x="832" y="901"/>
                    </a:lnTo>
                    <a:lnTo>
                      <a:pt x="793" y="931"/>
                    </a:lnTo>
                    <a:lnTo>
                      <a:pt x="751" y="956"/>
                    </a:lnTo>
                    <a:lnTo>
                      <a:pt x="706" y="977"/>
                    </a:lnTo>
                    <a:lnTo>
                      <a:pt x="659" y="994"/>
                    </a:lnTo>
                    <a:lnTo>
                      <a:pt x="611" y="1006"/>
                    </a:lnTo>
                    <a:lnTo>
                      <a:pt x="560" y="1015"/>
                    </a:lnTo>
                    <a:lnTo>
                      <a:pt x="508" y="1017"/>
                    </a:lnTo>
                    <a:lnTo>
                      <a:pt x="456" y="1015"/>
                    </a:lnTo>
                    <a:lnTo>
                      <a:pt x="406" y="1006"/>
                    </a:lnTo>
                    <a:lnTo>
                      <a:pt x="357" y="994"/>
                    </a:lnTo>
                    <a:lnTo>
                      <a:pt x="311" y="977"/>
                    </a:lnTo>
                    <a:lnTo>
                      <a:pt x="266" y="956"/>
                    </a:lnTo>
                    <a:lnTo>
                      <a:pt x="225" y="931"/>
                    </a:lnTo>
                    <a:lnTo>
                      <a:pt x="186" y="901"/>
                    </a:lnTo>
                    <a:lnTo>
                      <a:pt x="149" y="868"/>
                    </a:lnTo>
                    <a:lnTo>
                      <a:pt x="116" y="832"/>
                    </a:lnTo>
                    <a:lnTo>
                      <a:pt x="86" y="792"/>
                    </a:lnTo>
                    <a:lnTo>
                      <a:pt x="61" y="751"/>
                    </a:lnTo>
                    <a:lnTo>
                      <a:pt x="40" y="706"/>
                    </a:lnTo>
                    <a:lnTo>
                      <a:pt x="23" y="660"/>
                    </a:lnTo>
                    <a:lnTo>
                      <a:pt x="10" y="612"/>
                    </a:lnTo>
                    <a:lnTo>
                      <a:pt x="2" y="561"/>
                    </a:lnTo>
                    <a:lnTo>
                      <a:pt x="0" y="509"/>
                    </a:lnTo>
                    <a:lnTo>
                      <a:pt x="1" y="473"/>
                    </a:lnTo>
                    <a:lnTo>
                      <a:pt x="5" y="439"/>
                    </a:lnTo>
                    <a:lnTo>
                      <a:pt x="10" y="406"/>
                    </a:lnTo>
                    <a:lnTo>
                      <a:pt x="19" y="372"/>
                    </a:lnTo>
                    <a:lnTo>
                      <a:pt x="29" y="340"/>
                    </a:lnTo>
                    <a:lnTo>
                      <a:pt x="42" y="309"/>
                    </a:lnTo>
                    <a:lnTo>
                      <a:pt x="55" y="278"/>
                    </a:lnTo>
                    <a:lnTo>
                      <a:pt x="71" y="249"/>
                    </a:lnTo>
                    <a:lnTo>
                      <a:pt x="90" y="221"/>
                    </a:lnTo>
                    <a:lnTo>
                      <a:pt x="110" y="195"/>
                    </a:lnTo>
                    <a:lnTo>
                      <a:pt x="130" y="170"/>
                    </a:lnTo>
                    <a:lnTo>
                      <a:pt x="153" y="145"/>
                    </a:lnTo>
                    <a:lnTo>
                      <a:pt x="177" y="124"/>
                    </a:lnTo>
                    <a:lnTo>
                      <a:pt x="204" y="103"/>
                    </a:lnTo>
                    <a:lnTo>
                      <a:pt x="230" y="83"/>
                    </a:lnTo>
                    <a:lnTo>
                      <a:pt x="259" y="66"/>
                    </a:lnTo>
                    <a:lnTo>
                      <a:pt x="435" y="363"/>
                    </a:lnTo>
                    <a:lnTo>
                      <a:pt x="427" y="368"/>
                    </a:lnTo>
                    <a:lnTo>
                      <a:pt x="419" y="373"/>
                    </a:lnTo>
                    <a:lnTo>
                      <a:pt x="411" y="378"/>
                    </a:lnTo>
                    <a:lnTo>
                      <a:pt x="404" y="384"/>
                    </a:lnTo>
                    <a:lnTo>
                      <a:pt x="396" y="389"/>
                    </a:lnTo>
                    <a:lnTo>
                      <a:pt x="389" y="395"/>
                    </a:lnTo>
                    <a:lnTo>
                      <a:pt x="382" y="401"/>
                    </a:lnTo>
                    <a:lnTo>
                      <a:pt x="376" y="408"/>
                    </a:lnTo>
                    <a:lnTo>
                      <a:pt x="368" y="415"/>
                    </a:lnTo>
                    <a:lnTo>
                      <a:pt x="358" y="425"/>
                    </a:lnTo>
                    <a:lnTo>
                      <a:pt x="347" y="435"/>
                    </a:lnTo>
                    <a:lnTo>
                      <a:pt x="336" y="448"/>
                    </a:lnTo>
                    <a:lnTo>
                      <a:pt x="326" y="461"/>
                    </a:lnTo>
                    <a:lnTo>
                      <a:pt x="317" y="473"/>
                    </a:lnTo>
                    <a:lnTo>
                      <a:pt x="311" y="485"/>
                    </a:lnTo>
                    <a:lnTo>
                      <a:pt x="309" y="494"/>
                    </a:lnTo>
                    <a:lnTo>
                      <a:pt x="310" y="500"/>
                    </a:lnTo>
                    <a:lnTo>
                      <a:pt x="313" y="505"/>
                    </a:lnTo>
                    <a:lnTo>
                      <a:pt x="318" y="508"/>
                    </a:lnTo>
                    <a:lnTo>
                      <a:pt x="324" y="509"/>
                    </a:lnTo>
                    <a:lnTo>
                      <a:pt x="333" y="506"/>
                    </a:lnTo>
                    <a:lnTo>
                      <a:pt x="343" y="498"/>
                    </a:lnTo>
                    <a:lnTo>
                      <a:pt x="356" y="485"/>
                    </a:lnTo>
                    <a:lnTo>
                      <a:pt x="370" y="470"/>
                    </a:lnTo>
                    <a:lnTo>
                      <a:pt x="385" y="456"/>
                    </a:lnTo>
                    <a:lnTo>
                      <a:pt x="400" y="444"/>
                    </a:lnTo>
                    <a:lnTo>
                      <a:pt x="416" y="435"/>
                    </a:lnTo>
                    <a:lnTo>
                      <a:pt x="432" y="432"/>
                    </a:lnTo>
                    <a:lnTo>
                      <a:pt x="439" y="434"/>
                    </a:lnTo>
                    <a:lnTo>
                      <a:pt x="445" y="440"/>
                    </a:lnTo>
                    <a:lnTo>
                      <a:pt x="447" y="450"/>
                    </a:lnTo>
                    <a:lnTo>
                      <a:pt x="444" y="464"/>
                    </a:lnTo>
                    <a:lnTo>
                      <a:pt x="374" y="644"/>
                    </a:lnTo>
                    <a:lnTo>
                      <a:pt x="370" y="654"/>
                    </a:lnTo>
                    <a:lnTo>
                      <a:pt x="363" y="671"/>
                    </a:lnTo>
                    <a:lnTo>
                      <a:pt x="355" y="692"/>
                    </a:lnTo>
                    <a:lnTo>
                      <a:pt x="347" y="716"/>
                    </a:lnTo>
                    <a:lnTo>
                      <a:pt x="339" y="742"/>
                    </a:lnTo>
                    <a:lnTo>
                      <a:pt x="332" y="768"/>
                    </a:lnTo>
                    <a:lnTo>
                      <a:pt x="327" y="794"/>
                    </a:lnTo>
                    <a:lnTo>
                      <a:pt x="326" y="815"/>
                    </a:lnTo>
                    <a:lnTo>
                      <a:pt x="327" y="832"/>
                    </a:lnTo>
                    <a:lnTo>
                      <a:pt x="331" y="844"/>
                    </a:lnTo>
                    <a:lnTo>
                      <a:pt x="338" y="856"/>
                    </a:lnTo>
                    <a:lnTo>
                      <a:pt x="346" y="865"/>
                    </a:lnTo>
                    <a:lnTo>
                      <a:pt x="356" y="872"/>
                    </a:lnTo>
                    <a:lnTo>
                      <a:pt x="369" y="876"/>
                    </a:lnTo>
                    <a:lnTo>
                      <a:pt x="382" y="879"/>
                    </a:lnTo>
                    <a:lnTo>
                      <a:pt x="397" y="880"/>
                    </a:lnTo>
                    <a:lnTo>
                      <a:pt x="419" y="879"/>
                    </a:lnTo>
                    <a:lnTo>
                      <a:pt x="442" y="874"/>
                    </a:lnTo>
                    <a:lnTo>
                      <a:pt x="465" y="866"/>
                    </a:lnTo>
                    <a:lnTo>
                      <a:pt x="487" y="857"/>
                    </a:lnTo>
                    <a:lnTo>
                      <a:pt x="509" y="845"/>
                    </a:lnTo>
                    <a:lnTo>
                      <a:pt x="531" y="833"/>
                    </a:lnTo>
                    <a:lnTo>
                      <a:pt x="551" y="818"/>
                    </a:lnTo>
                    <a:lnTo>
                      <a:pt x="570" y="803"/>
                    </a:lnTo>
                    <a:lnTo>
                      <a:pt x="588" y="788"/>
                    </a:lnTo>
                    <a:lnTo>
                      <a:pt x="604" y="773"/>
                    </a:lnTo>
                    <a:lnTo>
                      <a:pt x="617" y="758"/>
                    </a:lnTo>
                    <a:lnTo>
                      <a:pt x="630" y="743"/>
                    </a:lnTo>
                    <a:lnTo>
                      <a:pt x="639" y="730"/>
                    </a:lnTo>
                    <a:lnTo>
                      <a:pt x="647" y="719"/>
                    </a:lnTo>
                    <a:lnTo>
                      <a:pt x="652" y="709"/>
                    </a:lnTo>
                    <a:lnTo>
                      <a:pt x="653" y="701"/>
                    </a:lnTo>
                    <a:lnTo>
                      <a:pt x="652" y="695"/>
                    </a:lnTo>
                    <a:lnTo>
                      <a:pt x="649" y="689"/>
                    </a:lnTo>
                    <a:lnTo>
                      <a:pt x="644" y="684"/>
                    </a:lnTo>
                    <a:lnTo>
                      <a:pt x="639" y="683"/>
                    </a:lnTo>
                    <a:lnTo>
                      <a:pt x="631" y="686"/>
                    </a:lnTo>
                    <a:lnTo>
                      <a:pt x="621" y="695"/>
                    </a:lnTo>
                    <a:lnTo>
                      <a:pt x="607" y="705"/>
                    </a:lnTo>
                    <a:lnTo>
                      <a:pt x="593" y="718"/>
                    </a:lnTo>
                    <a:lnTo>
                      <a:pt x="577" y="731"/>
                    </a:lnTo>
                    <a:lnTo>
                      <a:pt x="562" y="742"/>
                    </a:lnTo>
                    <a:lnTo>
                      <a:pt x="546" y="750"/>
                    </a:lnTo>
                    <a:lnTo>
                      <a:pt x="532" y="753"/>
                    </a:lnTo>
                    <a:lnTo>
                      <a:pt x="526" y="752"/>
                    </a:lnTo>
                    <a:lnTo>
                      <a:pt x="522" y="749"/>
                    </a:lnTo>
                    <a:lnTo>
                      <a:pt x="520" y="743"/>
                    </a:lnTo>
                    <a:lnTo>
                      <a:pt x="518" y="737"/>
                    </a:lnTo>
                    <a:lnTo>
                      <a:pt x="521" y="721"/>
                    </a:lnTo>
                    <a:lnTo>
                      <a:pt x="525" y="704"/>
                    </a:lnTo>
                    <a:lnTo>
                      <a:pt x="532" y="686"/>
                    </a:lnTo>
                    <a:lnTo>
                      <a:pt x="538" y="671"/>
                    </a:lnTo>
                    <a:lnTo>
                      <a:pt x="613" y="473"/>
                    </a:lnTo>
                    <a:lnTo>
                      <a:pt x="624" y="434"/>
                    </a:lnTo>
                    <a:lnTo>
                      <a:pt x="628" y="403"/>
                    </a:lnTo>
                    <a:lnTo>
                      <a:pt x="626" y="378"/>
                    </a:lnTo>
                    <a:lnTo>
                      <a:pt x="616" y="358"/>
                    </a:lnTo>
                    <a:lnTo>
                      <a:pt x="604" y="345"/>
                    </a:lnTo>
                    <a:lnTo>
                      <a:pt x="588" y="336"/>
                    </a:lnTo>
                    <a:lnTo>
                      <a:pt x="569" y="331"/>
                    </a:lnTo>
                    <a:lnTo>
                      <a:pt x="551" y="330"/>
                    </a:lnTo>
                    <a:lnTo>
                      <a:pt x="536" y="331"/>
                    </a:lnTo>
                    <a:lnTo>
                      <a:pt x="520" y="332"/>
                    </a:lnTo>
                    <a:lnTo>
                      <a:pt x="505" y="334"/>
                    </a:lnTo>
                    <a:lnTo>
                      <a:pt x="491" y="339"/>
                    </a:lnTo>
                    <a:lnTo>
                      <a:pt x="476" y="343"/>
                    </a:lnTo>
                    <a:lnTo>
                      <a:pt x="462" y="349"/>
                    </a:lnTo>
                    <a:lnTo>
                      <a:pt x="448" y="356"/>
                    </a:lnTo>
                    <a:lnTo>
                      <a:pt x="435" y="363"/>
                    </a:lnTo>
                    <a:lnTo>
                      <a:pt x="259" y="66"/>
                    </a:lnTo>
                    <a:lnTo>
                      <a:pt x="273" y="58"/>
                    </a:lnTo>
                    <a:lnTo>
                      <a:pt x="287" y="51"/>
                    </a:lnTo>
                    <a:lnTo>
                      <a:pt x="302" y="44"/>
                    </a:lnTo>
                    <a:lnTo>
                      <a:pt x="316" y="38"/>
                    </a:lnTo>
                    <a:lnTo>
                      <a:pt x="331" y="33"/>
                    </a:lnTo>
                    <a:lnTo>
                      <a:pt x="346" y="27"/>
                    </a:lnTo>
                    <a:lnTo>
                      <a:pt x="362" y="22"/>
                    </a:lnTo>
                    <a:lnTo>
                      <a:pt x="377" y="18"/>
                    </a:lnTo>
                    <a:lnTo>
                      <a:pt x="393" y="14"/>
                    </a:lnTo>
                    <a:lnTo>
                      <a:pt x="409" y="11"/>
                    </a:lnTo>
                    <a:lnTo>
                      <a:pt x="425" y="7"/>
                    </a:lnTo>
                    <a:lnTo>
                      <a:pt x="441" y="5"/>
                    </a:lnTo>
                    <a:lnTo>
                      <a:pt x="457" y="3"/>
                    </a:lnTo>
                    <a:lnTo>
                      <a:pt x="475" y="1"/>
                    </a:lnTo>
                    <a:lnTo>
                      <a:pt x="491" y="0"/>
                    </a:lnTo>
                    <a:lnTo>
                      <a:pt x="508" y="0"/>
                    </a:lnTo>
                    <a:lnTo>
                      <a:pt x="523" y="0"/>
                    </a:lnTo>
                    <a:lnTo>
                      <a:pt x="539" y="1"/>
                    </a:lnTo>
                    <a:lnTo>
                      <a:pt x="554" y="3"/>
                    </a:lnTo>
                    <a:lnTo>
                      <a:pt x="569" y="4"/>
                    </a:lnTo>
                    <a:lnTo>
                      <a:pt x="584" y="6"/>
                    </a:lnTo>
                    <a:lnTo>
                      <a:pt x="599" y="8"/>
                    </a:lnTo>
                    <a:lnTo>
                      <a:pt x="614" y="12"/>
                    </a:lnTo>
                    <a:lnTo>
                      <a:pt x="629" y="14"/>
                    </a:lnTo>
                    <a:lnTo>
                      <a:pt x="643" y="19"/>
                    </a:lnTo>
                    <a:lnTo>
                      <a:pt x="657" y="22"/>
                    </a:lnTo>
                    <a:lnTo>
                      <a:pt x="672" y="27"/>
                    </a:lnTo>
                    <a:lnTo>
                      <a:pt x="685" y="31"/>
                    </a:lnTo>
                    <a:lnTo>
                      <a:pt x="698" y="37"/>
                    </a:lnTo>
                    <a:lnTo>
                      <a:pt x="712" y="43"/>
                    </a:lnTo>
                    <a:lnTo>
                      <a:pt x="726" y="49"/>
                    </a:lnTo>
                    <a:lnTo>
                      <a:pt x="738" y="56"/>
                    </a:lnTo>
                    <a:lnTo>
                      <a:pt x="664" y="128"/>
                    </a:lnTo>
                    <a:lnTo>
                      <a:pt x="659" y="125"/>
                    </a:lnTo>
                    <a:lnTo>
                      <a:pt x="653" y="122"/>
                    </a:lnTo>
                    <a:lnTo>
                      <a:pt x="647" y="120"/>
                    </a:lnTo>
                    <a:lnTo>
                      <a:pt x="642" y="118"/>
                    </a:lnTo>
                    <a:lnTo>
                      <a:pt x="635" y="117"/>
                    </a:lnTo>
                    <a:lnTo>
                      <a:pt x="629" y="115"/>
                    </a:lnTo>
                    <a:lnTo>
                      <a:pt x="622" y="114"/>
                    </a:lnTo>
                    <a:lnTo>
                      <a:pt x="615" y="114"/>
                    </a:lnTo>
                    <a:lnTo>
                      <a:pt x="596" y="117"/>
                    </a:lnTo>
                    <a:lnTo>
                      <a:pt x="578" y="121"/>
                    </a:lnTo>
                    <a:lnTo>
                      <a:pt x="562" y="130"/>
                    </a:lnTo>
                    <a:lnTo>
                      <a:pt x="547" y="142"/>
                    </a:lnTo>
                    <a:lnTo>
                      <a:pt x="536" y="156"/>
                    </a:lnTo>
                    <a:lnTo>
                      <a:pt x="526" y="171"/>
                    </a:lnTo>
                    <a:lnTo>
                      <a:pt x="521" y="189"/>
                    </a:lnTo>
                    <a:lnTo>
                      <a:pt x="518" y="208"/>
                    </a:lnTo>
                    <a:lnTo>
                      <a:pt x="520" y="225"/>
                    </a:lnTo>
                    <a:lnTo>
                      <a:pt x="524" y="240"/>
                    </a:lnTo>
                    <a:lnTo>
                      <a:pt x="531" y="254"/>
                    </a:lnTo>
                    <a:lnTo>
                      <a:pt x="540" y="265"/>
                    </a:lnTo>
                    <a:lnTo>
                      <a:pt x="552" y="274"/>
                    </a:lnTo>
                    <a:lnTo>
                      <a:pt x="566" y="281"/>
                    </a:lnTo>
                    <a:lnTo>
                      <a:pt x="582" y="286"/>
                    </a:lnTo>
                    <a:lnTo>
                      <a:pt x="599" y="287"/>
                    </a:lnTo>
                    <a:lnTo>
                      <a:pt x="619" y="285"/>
                    </a:lnTo>
                    <a:lnTo>
                      <a:pt x="637" y="280"/>
                    </a:lnTo>
                    <a:lnTo>
                      <a:pt x="653" y="272"/>
                    </a:lnTo>
                    <a:lnTo>
                      <a:pt x="667" y="261"/>
                    </a:lnTo>
                    <a:lnTo>
                      <a:pt x="680" y="247"/>
                    </a:lnTo>
                    <a:lnTo>
                      <a:pt x="688" y="231"/>
                    </a:lnTo>
                    <a:lnTo>
                      <a:pt x="693" y="213"/>
                    </a:lnTo>
                    <a:lnTo>
                      <a:pt x="696" y="194"/>
                    </a:lnTo>
                    <a:lnTo>
                      <a:pt x="693" y="173"/>
                    </a:lnTo>
                    <a:lnTo>
                      <a:pt x="688" y="156"/>
                    </a:lnTo>
                    <a:lnTo>
                      <a:pt x="677" y="140"/>
                    </a:lnTo>
                    <a:lnTo>
                      <a:pt x="664" y="128"/>
                    </a:lnTo>
                    <a:lnTo>
                      <a:pt x="738" y="56"/>
                    </a:lnTo>
                    <a:close/>
                  </a:path>
                </a:pathLst>
              </a:custGeom>
              <a:solidFill>
                <a:srgbClr val="7b7b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48" name=""/>
              <p:cNvSpPr/>
              <p:nvPr/>
            </p:nvSpPr>
            <p:spPr>
              <a:xfrm>
                <a:off x="420120" y="6297120"/>
                <a:ext cx="277560" cy="274680"/>
              </a:xfrm>
              <a:prstGeom prst="ellipse">
                <a:avLst/>
              </a:prstGeom>
              <a:no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149" name=""/>
            <p:cNvSpPr/>
            <p:nvPr/>
          </p:nvSpPr>
          <p:spPr>
            <a:xfrm>
              <a:off x="564480" y="6275520"/>
              <a:ext cx="6226200" cy="34200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 on HP.com : </a:t>
              </a:r>
              <a:r>
                <a:rPr b="0" lang="en-US" sz="1600" spc="-1" strike="noStrike" u="sng">
                  <a:solidFill>
                    <a:srgbClr val="eb5f01"/>
                  </a:solidFill>
                  <a:uFillTx/>
                  <a:latin typeface="Futura Bk"/>
                  <a:hlinkClick r:id="rId2"/>
                </a:rPr>
                <a:t>http://www.hp.com/servers/proliantdl180</a:t>
              </a:r>
              <a:endParaRPr b="0" lang="en-US" sz="1600" spc="-1" strike="noStrike">
                <a:solidFill>
                  <a:srgbClr val="000000"/>
                </a:solidFill>
                <a:latin typeface="Futura Bk"/>
              </a:endParaRPr>
            </a:p>
          </p:txBody>
        </p:sp>
      </p:grpSp>
      <p:sp>
        <p:nvSpPr>
          <p:cNvPr id="150" name=""/>
          <p:cNvSpPr/>
          <p:nvPr/>
        </p:nvSpPr>
        <p:spPr>
          <a:xfrm>
            <a:off x="7713720" y="1238400"/>
            <a:ext cx="257040" cy="2394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1</a:t>
            </a:r>
            <a:endParaRPr b="0" lang="en-US" sz="1600" spc="-1" strike="noStrike">
              <a:solidFill>
                <a:srgbClr val="000000"/>
              </a:solidFill>
              <a:latin typeface="Futura Bk"/>
            </a:endParaRPr>
          </a:p>
        </p:txBody>
      </p:sp>
      <p:sp>
        <p:nvSpPr>
          <p:cNvPr id="151" name=""/>
          <p:cNvSpPr/>
          <p:nvPr/>
        </p:nvSpPr>
        <p:spPr>
          <a:xfrm>
            <a:off x="8548560" y="1517760"/>
            <a:ext cx="25740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2</a:t>
            </a:r>
            <a:endParaRPr b="0" lang="en-US" sz="1600" spc="-1" strike="noStrike">
              <a:solidFill>
                <a:srgbClr val="000000"/>
              </a:solidFill>
              <a:latin typeface="Futura Bk"/>
            </a:endParaRPr>
          </a:p>
        </p:txBody>
      </p:sp>
      <p:sp>
        <p:nvSpPr>
          <p:cNvPr id="152" name=""/>
          <p:cNvSpPr/>
          <p:nvPr/>
        </p:nvSpPr>
        <p:spPr>
          <a:xfrm>
            <a:off x="8618400" y="233352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3</a:t>
            </a:r>
            <a:endParaRPr b="0" lang="en-US" sz="1600" spc="-1" strike="noStrike">
              <a:solidFill>
                <a:srgbClr val="000000"/>
              </a:solidFill>
              <a:latin typeface="Futura Bk"/>
            </a:endParaRPr>
          </a:p>
        </p:txBody>
      </p:sp>
      <p:sp>
        <p:nvSpPr>
          <p:cNvPr id="153" name=""/>
          <p:cNvSpPr/>
          <p:nvPr/>
        </p:nvSpPr>
        <p:spPr>
          <a:xfrm>
            <a:off x="8228160" y="2444760"/>
            <a:ext cx="25848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4</a:t>
            </a:r>
            <a:endParaRPr b="0" lang="en-US" sz="1600" spc="-1" strike="noStrike">
              <a:solidFill>
                <a:srgbClr val="000000"/>
              </a:solidFill>
              <a:latin typeface="Futura Bk"/>
            </a:endParaRPr>
          </a:p>
        </p:txBody>
      </p:sp>
      <p:sp>
        <p:nvSpPr>
          <p:cNvPr id="154" name=""/>
          <p:cNvSpPr/>
          <p:nvPr/>
        </p:nvSpPr>
        <p:spPr>
          <a:xfrm>
            <a:off x="7891560" y="253368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5</a:t>
            </a:r>
            <a:endParaRPr b="0" lang="en-US" sz="1600" spc="-1" strike="noStrike">
              <a:solidFill>
                <a:srgbClr val="000000"/>
              </a:solidFill>
              <a:latin typeface="Futura Bk"/>
            </a:endParaRPr>
          </a:p>
        </p:txBody>
      </p:sp>
      <p:sp>
        <p:nvSpPr>
          <p:cNvPr id="155" name=""/>
          <p:cNvSpPr/>
          <p:nvPr/>
        </p:nvSpPr>
        <p:spPr>
          <a:xfrm>
            <a:off x="6735600" y="243036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6</a:t>
            </a:r>
            <a:endParaRPr b="0" lang="en-US" sz="1600" spc="-1" strike="noStrike">
              <a:solidFill>
                <a:srgbClr val="000000"/>
              </a:solidFill>
              <a:latin typeface="Futura Bk"/>
            </a:endParaRPr>
          </a:p>
        </p:txBody>
      </p:sp>
      <p:sp>
        <p:nvSpPr>
          <p:cNvPr id="156" name=""/>
          <p:cNvSpPr/>
          <p:nvPr/>
        </p:nvSpPr>
        <p:spPr>
          <a:xfrm>
            <a:off x="6215040" y="232092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7</a:t>
            </a:r>
            <a:endParaRPr b="0" lang="en-US" sz="1600" spc="-1" strike="noStrike">
              <a:solidFill>
                <a:srgbClr val="000000"/>
              </a:solidFill>
              <a:latin typeface="Futura Bk"/>
            </a:endParaRPr>
          </a:p>
        </p:txBody>
      </p:sp>
      <p:sp>
        <p:nvSpPr>
          <p:cNvPr id="157" name=""/>
          <p:cNvSpPr/>
          <p:nvPr/>
        </p:nvSpPr>
        <p:spPr>
          <a:xfrm>
            <a:off x="5707080" y="219384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8</a:t>
            </a:r>
            <a:endParaRPr b="0" lang="en-US" sz="1600" spc="-1" strike="noStrike">
              <a:solidFill>
                <a:srgbClr val="000000"/>
              </a:solidFill>
              <a:latin typeface="Futura Bk"/>
            </a:endParaRPr>
          </a:p>
        </p:txBody>
      </p:sp>
      <p:sp>
        <p:nvSpPr>
          <p:cNvPr id="158" name=""/>
          <p:cNvSpPr/>
          <p:nvPr/>
        </p:nvSpPr>
        <p:spPr>
          <a:xfrm>
            <a:off x="6031080" y="1192320"/>
            <a:ext cx="25848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9</a:t>
            </a:r>
            <a:endParaRPr b="0" lang="en-US" sz="1600" spc="-1" strike="noStrike">
              <a:solidFill>
                <a:srgbClr val="000000"/>
              </a:solidFill>
              <a:latin typeface="Futura Bk"/>
            </a:endParaRPr>
          </a:p>
        </p:txBody>
      </p:sp>
      <p:sp>
        <p:nvSpPr>
          <p:cNvPr id="159" name=""/>
          <p:cNvSpPr/>
          <p:nvPr/>
        </p:nvSpPr>
        <p:spPr>
          <a:xfrm>
            <a:off x="6041880" y="2813040"/>
            <a:ext cx="2762280" cy="3277800"/>
          </a:xfrm>
          <a:prstGeom prst="rect">
            <a:avLst/>
          </a:prstGeom>
          <a:noFill/>
          <a:ln w="0">
            <a:noFill/>
          </a:ln>
        </p:spPr>
        <p:style>
          <a:lnRef idx="0"/>
          <a:fillRef idx="0"/>
          <a:effectRef idx="0"/>
          <a:fontRef idx="minor"/>
        </p:style>
        <p:txBody>
          <a:bodyPr lIns="45720" rIns="45720" tIns="46800" bIns="46800" anchor="t">
            <a:spAutoFit/>
          </a:bodyPr>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ccess panel</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ront LED indicators</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ower on/off</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ptional DVD-RW or DVD-ROM drive</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ront USB Ports (2) </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Non hot plug Non redundant fans (4 fans)</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ir baffle</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CI cage</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ystem board</a:t>
            </a:r>
            <a:endParaRPr b="0" lang="en-US" sz="1600" spc="-1" strike="noStrike">
              <a:solidFill>
                <a:srgbClr val="000000"/>
              </a:solidFill>
              <a:latin typeface="Futura Bk"/>
            </a:endParaRPr>
          </a:p>
        </p:txBody>
      </p:sp>
      <p:grpSp>
        <p:nvGrpSpPr>
          <p:cNvPr id="160" name=""/>
          <p:cNvGrpSpPr/>
          <p:nvPr/>
        </p:nvGrpSpPr>
        <p:grpSpPr>
          <a:xfrm>
            <a:off x="419040" y="6275520"/>
            <a:ext cx="6472440" cy="342000"/>
            <a:chOff x="419040" y="6275520"/>
            <a:chExt cx="6472440" cy="342000"/>
          </a:xfrm>
        </p:grpSpPr>
        <p:grpSp>
          <p:nvGrpSpPr>
            <p:cNvPr id="161" name=""/>
            <p:cNvGrpSpPr/>
            <p:nvPr/>
          </p:nvGrpSpPr>
          <p:grpSpPr>
            <a:xfrm>
              <a:off x="419040" y="6291360"/>
              <a:ext cx="282600" cy="282600"/>
              <a:chOff x="419040" y="6291360"/>
              <a:chExt cx="282600" cy="282600"/>
            </a:xfrm>
          </p:grpSpPr>
          <p:sp>
            <p:nvSpPr>
              <p:cNvPr id="162" name=""/>
              <p:cNvSpPr/>
              <p:nvPr/>
            </p:nvSpPr>
            <p:spPr>
              <a:xfrm>
                <a:off x="419040" y="6291360"/>
                <a:ext cx="282600" cy="282600"/>
              </a:xfrm>
              <a:custGeom>
                <a:avLst/>
                <a:gdLst/>
                <a:ahLst/>
                <a:rect l="l" t="t" r="r" b="b"/>
                <a:pathLst>
                  <a:path w="1017" h="1017">
                    <a:moveTo>
                      <a:pt x="738" y="56"/>
                    </a:moveTo>
                    <a:lnTo>
                      <a:pt x="768" y="73"/>
                    </a:lnTo>
                    <a:lnTo>
                      <a:pt x="798" y="91"/>
                    </a:lnTo>
                    <a:lnTo>
                      <a:pt x="826" y="112"/>
                    </a:lnTo>
                    <a:lnTo>
                      <a:pt x="852" y="134"/>
                    </a:lnTo>
                    <a:lnTo>
                      <a:pt x="877" y="158"/>
                    </a:lnTo>
                    <a:lnTo>
                      <a:pt x="900" y="183"/>
                    </a:lnTo>
                    <a:lnTo>
                      <a:pt x="920" y="211"/>
                    </a:lnTo>
                    <a:lnTo>
                      <a:pt x="940" y="240"/>
                    </a:lnTo>
                    <a:lnTo>
                      <a:pt x="957" y="270"/>
                    </a:lnTo>
                    <a:lnTo>
                      <a:pt x="972" y="301"/>
                    </a:lnTo>
                    <a:lnTo>
                      <a:pt x="986" y="333"/>
                    </a:lnTo>
                    <a:lnTo>
                      <a:pt x="996" y="366"/>
                    </a:lnTo>
                    <a:lnTo>
                      <a:pt x="1006" y="401"/>
                    </a:lnTo>
                    <a:lnTo>
                      <a:pt x="1013" y="437"/>
                    </a:lnTo>
                    <a:lnTo>
                      <a:pt x="1016" y="472"/>
                    </a:lnTo>
                    <a:lnTo>
                      <a:pt x="1017" y="509"/>
                    </a:lnTo>
                    <a:lnTo>
                      <a:pt x="1015" y="561"/>
                    </a:lnTo>
                    <a:lnTo>
                      <a:pt x="1007" y="612"/>
                    </a:lnTo>
                    <a:lnTo>
                      <a:pt x="994" y="660"/>
                    </a:lnTo>
                    <a:lnTo>
                      <a:pt x="977" y="706"/>
                    </a:lnTo>
                    <a:lnTo>
                      <a:pt x="956" y="751"/>
                    </a:lnTo>
                    <a:lnTo>
                      <a:pt x="930" y="792"/>
                    </a:lnTo>
                    <a:lnTo>
                      <a:pt x="901" y="832"/>
                    </a:lnTo>
                    <a:lnTo>
                      <a:pt x="869" y="868"/>
                    </a:lnTo>
                    <a:lnTo>
                      <a:pt x="832" y="901"/>
                    </a:lnTo>
                    <a:lnTo>
                      <a:pt x="793" y="931"/>
                    </a:lnTo>
                    <a:lnTo>
                      <a:pt x="751" y="956"/>
                    </a:lnTo>
                    <a:lnTo>
                      <a:pt x="706" y="977"/>
                    </a:lnTo>
                    <a:lnTo>
                      <a:pt x="659" y="994"/>
                    </a:lnTo>
                    <a:lnTo>
                      <a:pt x="611" y="1006"/>
                    </a:lnTo>
                    <a:lnTo>
                      <a:pt x="560" y="1015"/>
                    </a:lnTo>
                    <a:lnTo>
                      <a:pt x="508" y="1017"/>
                    </a:lnTo>
                    <a:lnTo>
                      <a:pt x="456" y="1015"/>
                    </a:lnTo>
                    <a:lnTo>
                      <a:pt x="406" y="1006"/>
                    </a:lnTo>
                    <a:lnTo>
                      <a:pt x="357" y="994"/>
                    </a:lnTo>
                    <a:lnTo>
                      <a:pt x="311" y="977"/>
                    </a:lnTo>
                    <a:lnTo>
                      <a:pt x="266" y="956"/>
                    </a:lnTo>
                    <a:lnTo>
                      <a:pt x="225" y="931"/>
                    </a:lnTo>
                    <a:lnTo>
                      <a:pt x="186" y="901"/>
                    </a:lnTo>
                    <a:lnTo>
                      <a:pt x="149" y="868"/>
                    </a:lnTo>
                    <a:lnTo>
                      <a:pt x="116" y="832"/>
                    </a:lnTo>
                    <a:lnTo>
                      <a:pt x="86" y="792"/>
                    </a:lnTo>
                    <a:lnTo>
                      <a:pt x="61" y="751"/>
                    </a:lnTo>
                    <a:lnTo>
                      <a:pt x="40" y="706"/>
                    </a:lnTo>
                    <a:lnTo>
                      <a:pt x="23" y="660"/>
                    </a:lnTo>
                    <a:lnTo>
                      <a:pt x="10" y="612"/>
                    </a:lnTo>
                    <a:lnTo>
                      <a:pt x="2" y="561"/>
                    </a:lnTo>
                    <a:lnTo>
                      <a:pt x="0" y="509"/>
                    </a:lnTo>
                    <a:lnTo>
                      <a:pt x="1" y="473"/>
                    </a:lnTo>
                    <a:lnTo>
                      <a:pt x="5" y="439"/>
                    </a:lnTo>
                    <a:lnTo>
                      <a:pt x="10" y="406"/>
                    </a:lnTo>
                    <a:lnTo>
                      <a:pt x="19" y="372"/>
                    </a:lnTo>
                    <a:lnTo>
                      <a:pt x="29" y="340"/>
                    </a:lnTo>
                    <a:lnTo>
                      <a:pt x="42" y="309"/>
                    </a:lnTo>
                    <a:lnTo>
                      <a:pt x="55" y="278"/>
                    </a:lnTo>
                    <a:lnTo>
                      <a:pt x="71" y="249"/>
                    </a:lnTo>
                    <a:lnTo>
                      <a:pt x="90" y="221"/>
                    </a:lnTo>
                    <a:lnTo>
                      <a:pt x="110" y="195"/>
                    </a:lnTo>
                    <a:lnTo>
                      <a:pt x="130" y="170"/>
                    </a:lnTo>
                    <a:lnTo>
                      <a:pt x="153" y="145"/>
                    </a:lnTo>
                    <a:lnTo>
                      <a:pt x="177" y="124"/>
                    </a:lnTo>
                    <a:lnTo>
                      <a:pt x="204" y="103"/>
                    </a:lnTo>
                    <a:lnTo>
                      <a:pt x="230" y="83"/>
                    </a:lnTo>
                    <a:lnTo>
                      <a:pt x="259" y="66"/>
                    </a:lnTo>
                    <a:lnTo>
                      <a:pt x="435" y="363"/>
                    </a:lnTo>
                    <a:lnTo>
                      <a:pt x="427" y="368"/>
                    </a:lnTo>
                    <a:lnTo>
                      <a:pt x="419" y="373"/>
                    </a:lnTo>
                    <a:lnTo>
                      <a:pt x="411" y="378"/>
                    </a:lnTo>
                    <a:lnTo>
                      <a:pt x="404" y="384"/>
                    </a:lnTo>
                    <a:lnTo>
                      <a:pt x="396" y="389"/>
                    </a:lnTo>
                    <a:lnTo>
                      <a:pt x="389" y="395"/>
                    </a:lnTo>
                    <a:lnTo>
                      <a:pt x="382" y="401"/>
                    </a:lnTo>
                    <a:lnTo>
                      <a:pt x="376" y="408"/>
                    </a:lnTo>
                    <a:lnTo>
                      <a:pt x="368" y="415"/>
                    </a:lnTo>
                    <a:lnTo>
                      <a:pt x="358" y="425"/>
                    </a:lnTo>
                    <a:lnTo>
                      <a:pt x="347" y="435"/>
                    </a:lnTo>
                    <a:lnTo>
                      <a:pt x="336" y="448"/>
                    </a:lnTo>
                    <a:lnTo>
                      <a:pt x="326" y="461"/>
                    </a:lnTo>
                    <a:lnTo>
                      <a:pt x="317" y="473"/>
                    </a:lnTo>
                    <a:lnTo>
                      <a:pt x="311" y="485"/>
                    </a:lnTo>
                    <a:lnTo>
                      <a:pt x="309" y="494"/>
                    </a:lnTo>
                    <a:lnTo>
                      <a:pt x="310" y="500"/>
                    </a:lnTo>
                    <a:lnTo>
                      <a:pt x="313" y="505"/>
                    </a:lnTo>
                    <a:lnTo>
                      <a:pt x="318" y="508"/>
                    </a:lnTo>
                    <a:lnTo>
                      <a:pt x="324" y="509"/>
                    </a:lnTo>
                    <a:lnTo>
                      <a:pt x="333" y="506"/>
                    </a:lnTo>
                    <a:lnTo>
                      <a:pt x="343" y="498"/>
                    </a:lnTo>
                    <a:lnTo>
                      <a:pt x="356" y="485"/>
                    </a:lnTo>
                    <a:lnTo>
                      <a:pt x="370" y="470"/>
                    </a:lnTo>
                    <a:lnTo>
                      <a:pt x="385" y="456"/>
                    </a:lnTo>
                    <a:lnTo>
                      <a:pt x="400" y="444"/>
                    </a:lnTo>
                    <a:lnTo>
                      <a:pt x="416" y="435"/>
                    </a:lnTo>
                    <a:lnTo>
                      <a:pt x="432" y="432"/>
                    </a:lnTo>
                    <a:lnTo>
                      <a:pt x="439" y="434"/>
                    </a:lnTo>
                    <a:lnTo>
                      <a:pt x="445" y="440"/>
                    </a:lnTo>
                    <a:lnTo>
                      <a:pt x="447" y="450"/>
                    </a:lnTo>
                    <a:lnTo>
                      <a:pt x="444" y="464"/>
                    </a:lnTo>
                    <a:lnTo>
                      <a:pt x="374" y="644"/>
                    </a:lnTo>
                    <a:lnTo>
                      <a:pt x="370" y="654"/>
                    </a:lnTo>
                    <a:lnTo>
                      <a:pt x="363" y="671"/>
                    </a:lnTo>
                    <a:lnTo>
                      <a:pt x="355" y="692"/>
                    </a:lnTo>
                    <a:lnTo>
                      <a:pt x="347" y="716"/>
                    </a:lnTo>
                    <a:lnTo>
                      <a:pt x="339" y="742"/>
                    </a:lnTo>
                    <a:lnTo>
                      <a:pt x="332" y="768"/>
                    </a:lnTo>
                    <a:lnTo>
                      <a:pt x="327" y="794"/>
                    </a:lnTo>
                    <a:lnTo>
                      <a:pt x="326" y="815"/>
                    </a:lnTo>
                    <a:lnTo>
                      <a:pt x="327" y="832"/>
                    </a:lnTo>
                    <a:lnTo>
                      <a:pt x="331" y="844"/>
                    </a:lnTo>
                    <a:lnTo>
                      <a:pt x="338" y="856"/>
                    </a:lnTo>
                    <a:lnTo>
                      <a:pt x="346" y="865"/>
                    </a:lnTo>
                    <a:lnTo>
                      <a:pt x="356" y="872"/>
                    </a:lnTo>
                    <a:lnTo>
                      <a:pt x="369" y="876"/>
                    </a:lnTo>
                    <a:lnTo>
                      <a:pt x="382" y="879"/>
                    </a:lnTo>
                    <a:lnTo>
                      <a:pt x="397" y="880"/>
                    </a:lnTo>
                    <a:lnTo>
                      <a:pt x="419" y="879"/>
                    </a:lnTo>
                    <a:lnTo>
                      <a:pt x="442" y="874"/>
                    </a:lnTo>
                    <a:lnTo>
                      <a:pt x="465" y="866"/>
                    </a:lnTo>
                    <a:lnTo>
                      <a:pt x="487" y="857"/>
                    </a:lnTo>
                    <a:lnTo>
                      <a:pt x="509" y="845"/>
                    </a:lnTo>
                    <a:lnTo>
                      <a:pt x="531" y="833"/>
                    </a:lnTo>
                    <a:lnTo>
                      <a:pt x="551" y="818"/>
                    </a:lnTo>
                    <a:lnTo>
                      <a:pt x="570" y="803"/>
                    </a:lnTo>
                    <a:lnTo>
                      <a:pt x="588" y="788"/>
                    </a:lnTo>
                    <a:lnTo>
                      <a:pt x="604" y="773"/>
                    </a:lnTo>
                    <a:lnTo>
                      <a:pt x="617" y="758"/>
                    </a:lnTo>
                    <a:lnTo>
                      <a:pt x="630" y="743"/>
                    </a:lnTo>
                    <a:lnTo>
                      <a:pt x="639" y="730"/>
                    </a:lnTo>
                    <a:lnTo>
                      <a:pt x="647" y="719"/>
                    </a:lnTo>
                    <a:lnTo>
                      <a:pt x="652" y="709"/>
                    </a:lnTo>
                    <a:lnTo>
                      <a:pt x="653" y="701"/>
                    </a:lnTo>
                    <a:lnTo>
                      <a:pt x="652" y="695"/>
                    </a:lnTo>
                    <a:lnTo>
                      <a:pt x="649" y="689"/>
                    </a:lnTo>
                    <a:lnTo>
                      <a:pt x="644" y="684"/>
                    </a:lnTo>
                    <a:lnTo>
                      <a:pt x="639" y="683"/>
                    </a:lnTo>
                    <a:lnTo>
                      <a:pt x="631" y="686"/>
                    </a:lnTo>
                    <a:lnTo>
                      <a:pt x="621" y="695"/>
                    </a:lnTo>
                    <a:lnTo>
                      <a:pt x="607" y="705"/>
                    </a:lnTo>
                    <a:lnTo>
                      <a:pt x="593" y="718"/>
                    </a:lnTo>
                    <a:lnTo>
                      <a:pt x="577" y="731"/>
                    </a:lnTo>
                    <a:lnTo>
                      <a:pt x="562" y="742"/>
                    </a:lnTo>
                    <a:lnTo>
                      <a:pt x="546" y="750"/>
                    </a:lnTo>
                    <a:lnTo>
                      <a:pt x="532" y="753"/>
                    </a:lnTo>
                    <a:lnTo>
                      <a:pt x="526" y="752"/>
                    </a:lnTo>
                    <a:lnTo>
                      <a:pt x="522" y="749"/>
                    </a:lnTo>
                    <a:lnTo>
                      <a:pt x="520" y="743"/>
                    </a:lnTo>
                    <a:lnTo>
                      <a:pt x="518" y="737"/>
                    </a:lnTo>
                    <a:lnTo>
                      <a:pt x="521" y="721"/>
                    </a:lnTo>
                    <a:lnTo>
                      <a:pt x="525" y="704"/>
                    </a:lnTo>
                    <a:lnTo>
                      <a:pt x="532" y="686"/>
                    </a:lnTo>
                    <a:lnTo>
                      <a:pt x="538" y="671"/>
                    </a:lnTo>
                    <a:lnTo>
                      <a:pt x="613" y="473"/>
                    </a:lnTo>
                    <a:lnTo>
                      <a:pt x="624" y="434"/>
                    </a:lnTo>
                    <a:lnTo>
                      <a:pt x="628" y="403"/>
                    </a:lnTo>
                    <a:lnTo>
                      <a:pt x="626" y="378"/>
                    </a:lnTo>
                    <a:lnTo>
                      <a:pt x="616" y="358"/>
                    </a:lnTo>
                    <a:lnTo>
                      <a:pt x="604" y="345"/>
                    </a:lnTo>
                    <a:lnTo>
                      <a:pt x="588" y="336"/>
                    </a:lnTo>
                    <a:lnTo>
                      <a:pt x="569" y="331"/>
                    </a:lnTo>
                    <a:lnTo>
                      <a:pt x="551" y="330"/>
                    </a:lnTo>
                    <a:lnTo>
                      <a:pt x="536" y="331"/>
                    </a:lnTo>
                    <a:lnTo>
                      <a:pt x="520" y="332"/>
                    </a:lnTo>
                    <a:lnTo>
                      <a:pt x="505" y="334"/>
                    </a:lnTo>
                    <a:lnTo>
                      <a:pt x="491" y="339"/>
                    </a:lnTo>
                    <a:lnTo>
                      <a:pt x="476" y="343"/>
                    </a:lnTo>
                    <a:lnTo>
                      <a:pt x="462" y="349"/>
                    </a:lnTo>
                    <a:lnTo>
                      <a:pt x="448" y="356"/>
                    </a:lnTo>
                    <a:lnTo>
                      <a:pt x="435" y="363"/>
                    </a:lnTo>
                    <a:lnTo>
                      <a:pt x="259" y="66"/>
                    </a:lnTo>
                    <a:lnTo>
                      <a:pt x="273" y="58"/>
                    </a:lnTo>
                    <a:lnTo>
                      <a:pt x="287" y="51"/>
                    </a:lnTo>
                    <a:lnTo>
                      <a:pt x="302" y="44"/>
                    </a:lnTo>
                    <a:lnTo>
                      <a:pt x="316" y="38"/>
                    </a:lnTo>
                    <a:lnTo>
                      <a:pt x="331" y="33"/>
                    </a:lnTo>
                    <a:lnTo>
                      <a:pt x="346" y="27"/>
                    </a:lnTo>
                    <a:lnTo>
                      <a:pt x="362" y="22"/>
                    </a:lnTo>
                    <a:lnTo>
                      <a:pt x="377" y="18"/>
                    </a:lnTo>
                    <a:lnTo>
                      <a:pt x="393" y="14"/>
                    </a:lnTo>
                    <a:lnTo>
                      <a:pt x="409" y="11"/>
                    </a:lnTo>
                    <a:lnTo>
                      <a:pt x="425" y="7"/>
                    </a:lnTo>
                    <a:lnTo>
                      <a:pt x="441" y="5"/>
                    </a:lnTo>
                    <a:lnTo>
                      <a:pt x="457" y="3"/>
                    </a:lnTo>
                    <a:lnTo>
                      <a:pt x="475" y="1"/>
                    </a:lnTo>
                    <a:lnTo>
                      <a:pt x="491" y="0"/>
                    </a:lnTo>
                    <a:lnTo>
                      <a:pt x="508" y="0"/>
                    </a:lnTo>
                    <a:lnTo>
                      <a:pt x="523" y="0"/>
                    </a:lnTo>
                    <a:lnTo>
                      <a:pt x="539" y="1"/>
                    </a:lnTo>
                    <a:lnTo>
                      <a:pt x="554" y="3"/>
                    </a:lnTo>
                    <a:lnTo>
                      <a:pt x="569" y="4"/>
                    </a:lnTo>
                    <a:lnTo>
                      <a:pt x="584" y="6"/>
                    </a:lnTo>
                    <a:lnTo>
                      <a:pt x="599" y="8"/>
                    </a:lnTo>
                    <a:lnTo>
                      <a:pt x="614" y="12"/>
                    </a:lnTo>
                    <a:lnTo>
                      <a:pt x="629" y="14"/>
                    </a:lnTo>
                    <a:lnTo>
                      <a:pt x="643" y="19"/>
                    </a:lnTo>
                    <a:lnTo>
                      <a:pt x="657" y="22"/>
                    </a:lnTo>
                    <a:lnTo>
                      <a:pt x="672" y="27"/>
                    </a:lnTo>
                    <a:lnTo>
                      <a:pt x="685" y="31"/>
                    </a:lnTo>
                    <a:lnTo>
                      <a:pt x="698" y="37"/>
                    </a:lnTo>
                    <a:lnTo>
                      <a:pt x="712" y="43"/>
                    </a:lnTo>
                    <a:lnTo>
                      <a:pt x="726" y="49"/>
                    </a:lnTo>
                    <a:lnTo>
                      <a:pt x="738" y="56"/>
                    </a:lnTo>
                    <a:lnTo>
                      <a:pt x="664" y="128"/>
                    </a:lnTo>
                    <a:lnTo>
                      <a:pt x="659" y="125"/>
                    </a:lnTo>
                    <a:lnTo>
                      <a:pt x="653" y="122"/>
                    </a:lnTo>
                    <a:lnTo>
                      <a:pt x="647" y="120"/>
                    </a:lnTo>
                    <a:lnTo>
                      <a:pt x="642" y="118"/>
                    </a:lnTo>
                    <a:lnTo>
                      <a:pt x="635" y="117"/>
                    </a:lnTo>
                    <a:lnTo>
                      <a:pt x="629" y="115"/>
                    </a:lnTo>
                    <a:lnTo>
                      <a:pt x="622" y="114"/>
                    </a:lnTo>
                    <a:lnTo>
                      <a:pt x="615" y="114"/>
                    </a:lnTo>
                    <a:lnTo>
                      <a:pt x="596" y="117"/>
                    </a:lnTo>
                    <a:lnTo>
                      <a:pt x="578" y="121"/>
                    </a:lnTo>
                    <a:lnTo>
                      <a:pt x="562" y="130"/>
                    </a:lnTo>
                    <a:lnTo>
                      <a:pt x="547" y="142"/>
                    </a:lnTo>
                    <a:lnTo>
                      <a:pt x="536" y="156"/>
                    </a:lnTo>
                    <a:lnTo>
                      <a:pt x="526" y="171"/>
                    </a:lnTo>
                    <a:lnTo>
                      <a:pt x="521" y="189"/>
                    </a:lnTo>
                    <a:lnTo>
                      <a:pt x="518" y="208"/>
                    </a:lnTo>
                    <a:lnTo>
                      <a:pt x="520" y="225"/>
                    </a:lnTo>
                    <a:lnTo>
                      <a:pt x="524" y="240"/>
                    </a:lnTo>
                    <a:lnTo>
                      <a:pt x="531" y="254"/>
                    </a:lnTo>
                    <a:lnTo>
                      <a:pt x="540" y="265"/>
                    </a:lnTo>
                    <a:lnTo>
                      <a:pt x="552" y="274"/>
                    </a:lnTo>
                    <a:lnTo>
                      <a:pt x="566" y="281"/>
                    </a:lnTo>
                    <a:lnTo>
                      <a:pt x="582" y="286"/>
                    </a:lnTo>
                    <a:lnTo>
                      <a:pt x="599" y="287"/>
                    </a:lnTo>
                    <a:lnTo>
                      <a:pt x="619" y="285"/>
                    </a:lnTo>
                    <a:lnTo>
                      <a:pt x="637" y="280"/>
                    </a:lnTo>
                    <a:lnTo>
                      <a:pt x="653" y="272"/>
                    </a:lnTo>
                    <a:lnTo>
                      <a:pt x="667" y="261"/>
                    </a:lnTo>
                    <a:lnTo>
                      <a:pt x="680" y="247"/>
                    </a:lnTo>
                    <a:lnTo>
                      <a:pt x="688" y="231"/>
                    </a:lnTo>
                    <a:lnTo>
                      <a:pt x="693" y="213"/>
                    </a:lnTo>
                    <a:lnTo>
                      <a:pt x="696" y="194"/>
                    </a:lnTo>
                    <a:lnTo>
                      <a:pt x="693" y="173"/>
                    </a:lnTo>
                    <a:lnTo>
                      <a:pt x="688" y="156"/>
                    </a:lnTo>
                    <a:lnTo>
                      <a:pt x="677" y="140"/>
                    </a:lnTo>
                    <a:lnTo>
                      <a:pt x="664" y="128"/>
                    </a:lnTo>
                    <a:lnTo>
                      <a:pt x="738" y="56"/>
                    </a:lnTo>
                    <a:close/>
                  </a:path>
                </a:pathLst>
              </a:custGeom>
              <a:solidFill>
                <a:srgbClr val="7b7b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63" name=""/>
              <p:cNvSpPr/>
              <p:nvPr/>
            </p:nvSpPr>
            <p:spPr>
              <a:xfrm>
                <a:off x="420120" y="6297120"/>
                <a:ext cx="277560" cy="274680"/>
              </a:xfrm>
              <a:prstGeom prst="ellipse">
                <a:avLst/>
              </a:prstGeom>
              <a:no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164" name=""/>
            <p:cNvSpPr/>
            <p:nvPr/>
          </p:nvSpPr>
          <p:spPr>
            <a:xfrm>
              <a:off x="665280" y="6275520"/>
              <a:ext cx="6226200" cy="34200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 on HP.com : </a:t>
              </a:r>
              <a:r>
                <a:rPr b="0" lang="en-US" sz="1600" spc="-1" strike="noStrike" u="sng">
                  <a:solidFill>
                    <a:srgbClr val="eb5f01"/>
                  </a:solidFill>
                  <a:uFillTx/>
                  <a:latin typeface="Futura Hv"/>
                  <a:hlinkClick r:id="rId3"/>
                </a:rPr>
                <a:t>http://www.hp.com/servers/proliantdl180</a:t>
              </a:r>
              <a:endParaRPr b="0" lang="en-US" sz="16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24139402-CA83-4510-A430-D3A0CF5307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dministration and management</a:t>
            </a:r>
            <a:endParaRPr b="0" lang="en-US" sz="3200" spc="-1" strike="noStrike">
              <a:solidFill>
                <a:srgbClr val="000000"/>
              </a:solidFill>
              <a:latin typeface="Futura Bk"/>
            </a:endParaRPr>
          </a:p>
        </p:txBody>
      </p:sp>
      <p:sp>
        <p:nvSpPr>
          <p:cNvPr id="660" name="PlaceHolder 2"/>
          <p:cNvSpPr>
            <a:spLocks noGrp="1"/>
          </p:cNvSpPr>
          <p:nvPr>
            <p:ph/>
          </p:nvPr>
        </p:nvSpPr>
        <p:spPr>
          <a:xfrm>
            <a:off x="399960" y="991800"/>
            <a:ext cx="8531280" cy="439596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anagement and administration tools</a:t>
            </a:r>
            <a:endParaRPr b="0" lang="en-US" sz="2200" spc="-1" strike="noStrike">
              <a:solidFill>
                <a:srgbClr val="0071b4"/>
              </a:solidFill>
              <a:latin typeface="Futura Bk"/>
            </a:endParaRPr>
          </a:p>
          <a:p>
            <a:pPr lvl="1" marL="345960" indent="-23148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mote management with Lights-Out 100</a:t>
            </a:r>
            <a:endParaRPr b="0" lang="en-US" sz="1600" spc="-1" strike="noStrike">
              <a:solidFill>
                <a:srgbClr val="000000"/>
              </a:solidFill>
              <a:latin typeface="Futura Bk"/>
            </a:endParaRPr>
          </a:p>
          <a:p>
            <a:pPr lvl="2" marL="692280" indent="-2318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harge associated with the management tool</a:t>
            </a:r>
            <a:endParaRPr b="0" lang="en-US" sz="1600" spc="-1" strike="noStrike">
              <a:solidFill>
                <a:srgbClr val="000000"/>
              </a:solidFill>
              <a:latin typeface="Futura Bk"/>
            </a:endParaRPr>
          </a:p>
          <a:p>
            <a:pPr lvl="2" marL="692280" indent="-2318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Lights-Out 100c remote management with virtual KVM and virtual media support thru optional IPMI2.0 riser upgrade</a:t>
            </a:r>
            <a:endParaRPr b="0" lang="en-US" sz="1600" spc="-1" strike="noStrike">
              <a:solidFill>
                <a:srgbClr val="000000"/>
              </a:solidFill>
              <a:latin typeface="Futura Bk"/>
            </a:endParaRPr>
          </a:p>
          <a:p>
            <a:pPr lvl="2" marL="692280" indent="-2318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uy the card: (445513-B21) HP PL100 G5 Lights-Out 100c kit all</a:t>
            </a:r>
            <a:endParaRPr b="0" lang="en-US" sz="1600" spc="-1" strike="noStrike">
              <a:solidFill>
                <a:srgbClr val="000000"/>
              </a:solidFill>
              <a:latin typeface="Futura Bk"/>
            </a:endParaRPr>
          </a:p>
          <a:p>
            <a:pPr lvl="2" marL="692280" indent="-2318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enefits</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Virtual power</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ystem event log access, system health</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mote serial console (serial redirection), browser, telnet access</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M-CLP compliant, IPMI 2.0 compliant </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Virtual media (floppy and CD)</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ecure socket layer encryption, secure shell encryption</a:t>
            </a:r>
            <a:endParaRPr b="0" lang="en-US" sz="1600" spc="-1" strike="noStrike">
              <a:solidFill>
                <a:srgbClr val="000000"/>
              </a:solidFill>
              <a:latin typeface="Futura Bk"/>
            </a:endParaRPr>
          </a:p>
        </p:txBody>
      </p:sp>
      <p:graphicFrame>
        <p:nvGraphicFramePr>
          <p:cNvPr id="661" name=""/>
          <p:cNvGraphicFramePr/>
          <p:nvPr/>
        </p:nvGraphicFramePr>
        <p:xfrm>
          <a:off x="1119240" y="5477040"/>
          <a:ext cx="7197480" cy="676080"/>
        </p:xfrm>
        <a:graphic>
          <a:graphicData uri="http://schemas.openxmlformats.org/drawingml/2006/table">
            <a:tbl>
              <a:tblPr/>
              <a:tblGrid>
                <a:gridCol w="7197480"/>
              </a:tblGrid>
              <a:tr h="676080">
                <a:tc>
                  <a: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Important:</a:t>
                      </a:r>
                      <a:r>
                        <a:rPr b="0" lang="en-US" sz="1600" spc="-1" strike="noStrike">
                          <a:solidFill>
                            <a:srgbClr val="000000"/>
                          </a:solidFill>
                          <a:latin typeface="Futura Bk"/>
                        </a:rPr>
                        <a:t> The DL180 G5 requires a LO100c solution whereas previous DL100 series servers contained an embedded LO100i</a:t>
                      </a:r>
                      <a:endParaRPr b="0" lang="en-US" sz="1600" spc="-1" strike="noStrike">
                        <a:solidFill>
                          <a:srgbClr val="000000"/>
                        </a:solidFill>
                        <a:latin typeface="Futura Bk"/>
                      </a:endParaRPr>
                    </a:p>
                  </a:txBody>
                  <a:tcPr anchor="ctr" marL="45720" marR="45720">
                    <a:lnL>
                      <a:noFill/>
                    </a:lnL>
                    <a:lnR>
                      <a:noFill/>
                    </a:lnR>
                    <a:lnT w="9360">
                      <a:solidFill>
                        <a:srgbClr val="64b900"/>
                      </a:solidFill>
                    </a:lnT>
                    <a:lnB w="9360">
                      <a:solidFill>
                        <a:srgbClr val="64b900"/>
                      </a:solidFill>
                    </a:lnB>
                    <a:noFill/>
                  </a:tcPr>
                </a:tc>
              </a:tr>
            </a:tbl>
          </a:graphicData>
        </a:graphic>
      </p:graphicFrame>
      <p:sp>
        <p:nvSpPr>
          <p:cNvPr id="662" name=""/>
          <p:cNvSpPr/>
          <p:nvPr/>
        </p:nvSpPr>
        <p:spPr>
          <a:xfrm>
            <a:off x="687240" y="5172120"/>
            <a:ext cx="371520" cy="371520"/>
          </a:xfrm>
          <a:prstGeom prst="ellipse">
            <a:avLst/>
          </a:prstGeom>
          <a:solidFill>
            <a:srgbClr val="ffffff"/>
          </a:solidFill>
          <a:ln w="19080">
            <a:solidFill>
              <a:srgbClr val="64b900"/>
            </a:solidFill>
            <a:miter/>
          </a:ln>
        </p:spPr>
        <p:style>
          <a:lnRef idx="0"/>
          <a:fillRef idx="0"/>
          <a:effectRef idx="0"/>
          <a:fontRef idx="minor"/>
        </p:style>
        <p:txBody>
          <a:bodyPr wrap="none" lIns="45720" rIns="4572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b900"/>
                </a:solidFill>
                <a:latin typeface="Futura Hv"/>
              </a:rPr>
              <a:t>!</a:t>
            </a:r>
            <a:endParaRPr b="0" lang="en-US" sz="2800" spc="-1" strike="noStrike">
              <a:solidFill>
                <a:srgbClr val="000000"/>
              </a:solidFill>
              <a:latin typeface="Futura Bk"/>
            </a:endParaRPr>
          </a:p>
        </p:txBody>
      </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6D380661-2BBA-488E-986C-CBEAB3C612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igration or upgrade issues</a:t>
            </a:r>
            <a:endParaRPr b="0" lang="en-US" sz="3200" spc="-1" strike="noStrike">
              <a:solidFill>
                <a:srgbClr val="000000"/>
              </a:solidFill>
              <a:latin typeface="Futura Bk"/>
            </a:endParaRPr>
          </a:p>
        </p:txBody>
      </p:sp>
      <p:sp>
        <p:nvSpPr>
          <p:cNvPr id="664" name="PlaceHolder 2"/>
          <p:cNvSpPr>
            <a:spLocks noGrp="1"/>
          </p:cNvSpPr>
          <p:nvPr>
            <p:ph/>
          </p:nvPr>
        </p:nvSpPr>
        <p:spPr>
          <a:xfrm>
            <a:off x="399600" y="991800"/>
            <a:ext cx="4359240" cy="361476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Rack air flow requirement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 diskette drive is needed to install storage controller drivers during a Windows operating system installation from a C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P Factory Express offers configuration, customization, integration and deployment services for HP servers and storage products</a:t>
            </a:r>
            <a:endParaRPr b="0" lang="en-US" sz="2000" spc="-1" strike="noStrike">
              <a:solidFill>
                <a:srgbClr val="000000"/>
              </a:solidFill>
              <a:latin typeface="Futura Bk"/>
            </a:endParaRPr>
          </a:p>
        </p:txBody>
      </p:sp>
      <p:sp>
        <p:nvSpPr>
          <p:cNvPr id="665" name="PlaceHolder 3"/>
          <p:cNvSpPr>
            <a:spLocks noGrp="1"/>
          </p:cNvSpPr>
          <p:nvPr>
            <p:ph/>
          </p:nvPr>
        </p:nvSpPr>
        <p:spPr>
          <a:xfrm>
            <a:off x="4768920" y="991800"/>
            <a:ext cx="4217760" cy="329076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o upgrade to server models supporting 8 or 12 hard drives; you must start with HP ProLiant DL180 CTO chassi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PMI2.0 riser upgrade needed for HP Lights-Out 100</a:t>
            </a:r>
            <a:endParaRPr b="0" lang="en-US" sz="2000" spc="-1" strike="noStrike">
              <a:solidFill>
                <a:srgbClr val="000000"/>
              </a:solidFill>
              <a:latin typeface="Futura Bk"/>
            </a:endParaRPr>
          </a:p>
        </p:txBody>
      </p:sp>
      <p:graphicFrame>
        <p:nvGraphicFramePr>
          <p:cNvPr id="666" name=""/>
          <p:cNvGraphicFramePr/>
          <p:nvPr/>
        </p:nvGraphicFramePr>
        <p:xfrm>
          <a:off x="928800" y="4721400"/>
          <a:ext cx="7940520" cy="1282680"/>
        </p:xfrm>
        <a:graphic>
          <a:graphicData uri="http://schemas.openxmlformats.org/drawingml/2006/table">
            <a:tbl>
              <a:tblPr/>
              <a:tblGrid>
                <a:gridCol w="7940520"/>
              </a:tblGrid>
              <a:tr h="1529280">
                <a:tc>
                  <a:txBody>
                    <a:bodyPr lIns="45720" rIns="45720" tIns="46800" bIns="46800" anchor="ctr">
                      <a:noAutofit/>
                    </a:bodyPr>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Caution:</a:t>
                      </a:r>
                      <a:r>
                        <a:rPr b="0" lang="en-US" sz="1600" spc="-1" strike="noStrike">
                          <a:solidFill>
                            <a:srgbClr val="000000"/>
                          </a:solidFill>
                          <a:latin typeface="Futura Bk"/>
                        </a:rPr>
                        <a:t> </a:t>
                      </a:r>
                      <a:endParaRPr b="0" lang="en-US" sz="1600" spc="-1" strike="noStrike">
                        <a:solidFill>
                          <a:srgbClr val="000000"/>
                        </a:solidFill>
                        <a:latin typeface="Futura Bk"/>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If a third-party rack is used, observe the spacing requirements to ensure adequate airflow and to prevent damage to the equipment</a:t>
                      </a:r>
                      <a:endParaRPr b="0" lang="en-US" sz="1600" spc="-1" strike="noStrike">
                        <a:solidFill>
                          <a:srgbClr val="000000"/>
                        </a:solidFill>
                        <a:latin typeface="Futura Bk"/>
                      </a:endParaRPr>
                    </a:p>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lways use blanking panels to fill all remaining empty front panel U-spaces in the rack</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ctr" marL="45720" marR="45720">
                    <a:lnL>
                      <a:noFill/>
                    </a:lnL>
                    <a:lnR>
                      <a:noFill/>
                    </a:lnR>
                    <a:lnT w="9360">
                      <a:solidFill>
                        <a:srgbClr val="f2ab01"/>
                      </a:solidFill>
                    </a:lnT>
                    <a:lnB w="9360">
                      <a:solidFill>
                        <a:srgbClr val="f2ab01"/>
                      </a:solidFill>
                    </a:lnB>
                    <a:noFill/>
                  </a:tcPr>
                </a:tc>
              </a:tr>
            </a:tbl>
          </a:graphicData>
        </a:graphic>
      </p:graphicFrame>
      <p:sp>
        <p:nvSpPr>
          <p:cNvPr id="667" name=""/>
          <p:cNvSpPr/>
          <p:nvPr/>
        </p:nvSpPr>
        <p:spPr>
          <a:xfrm>
            <a:off x="460440" y="4438800"/>
            <a:ext cx="387360" cy="365040"/>
          </a:xfrm>
          <a:prstGeom prst="triangle">
            <a:avLst>
              <a:gd name="adj" fmla="val 50000"/>
            </a:avLst>
          </a:prstGeom>
          <a:solidFill>
            <a:srgbClr val="f2ab01"/>
          </a:solidFill>
          <a:ln w="19080">
            <a:solidFill>
              <a:srgbClr val="0000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EF58D4A2-8B78-4F7B-99A3-8BDF2BA0A8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228600" y="4876920"/>
            <a:ext cx="1905120" cy="121896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669" name=""/>
          <p:cNvSpPr/>
          <p:nvPr/>
        </p:nvSpPr>
        <p:spPr>
          <a:xfrm>
            <a:off x="0" y="4572000"/>
            <a:ext cx="1981080" cy="121932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670" name=""/>
          <p:cNvSpPr/>
          <p:nvPr/>
        </p:nvSpPr>
        <p:spPr>
          <a:xfrm>
            <a:off x="228600" y="5334120"/>
            <a:ext cx="2133720" cy="83808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671" name=""/>
          <p:cNvSpPr/>
          <p:nvPr/>
        </p:nvSpPr>
        <p:spPr>
          <a:xfrm>
            <a:off x="8763120" y="5029200"/>
            <a:ext cx="380880" cy="91440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67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questions and answers</a:t>
            </a:r>
            <a:endParaRPr b="0" lang="en-US" sz="3200" spc="-1" strike="noStrike">
              <a:solidFill>
                <a:srgbClr val="000000"/>
              </a:solidFill>
              <a:latin typeface="Futura Bk"/>
            </a:endParaRPr>
          </a:p>
        </p:txBody>
      </p:sp>
      <p:sp>
        <p:nvSpPr>
          <p:cNvPr id="673" name="PlaceHolder 2"/>
          <p:cNvSpPr>
            <a:spLocks noGrp="1"/>
          </p:cNvSpPr>
          <p:nvPr>
            <p:ph/>
          </p:nvPr>
        </p:nvSpPr>
        <p:spPr>
          <a:xfrm>
            <a:off x="399600" y="992160"/>
            <a:ext cx="42181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at are the advantages of the DL180 G5?</a:t>
            </a:r>
            <a:endParaRPr b="0" lang="en-US" sz="2000" spc="-1" strike="noStrike">
              <a:solidFill>
                <a:srgbClr val="000000"/>
              </a:solidFill>
              <a:latin typeface="Futura Bk"/>
            </a:endParaRPr>
          </a:p>
          <a:p>
            <a:pPr lvl="2" marL="692280" indent="-23184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ual processor designed for quality, performance and flexible deployments</a:t>
            </a:r>
            <a:endParaRPr b="0" lang="en-US" sz="2000" spc="-1" strike="noStrike">
              <a:solidFill>
                <a:srgbClr val="000000"/>
              </a:solidFill>
              <a:latin typeface="Futura Bk"/>
            </a:endParaRPr>
          </a:p>
          <a:p>
            <a:pPr lvl="2" marL="692280" indent="-23184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deal for businesses looking for best in class price/performance and unsurpassed flexibility in configuration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ere can I find detailed information on specifications and supported options? </a:t>
            </a:r>
            <a:endParaRPr b="0" lang="en-US" sz="2000" spc="-1" strike="noStrike">
              <a:solidFill>
                <a:srgbClr val="000000"/>
              </a:solidFill>
              <a:latin typeface="Futura Bk"/>
            </a:endParaRPr>
          </a:p>
          <a:p>
            <a:pPr lvl="2" marL="692280" indent="-23184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ttp://www.hp.com/servers/proliantdl180</a:t>
            </a:r>
            <a:endParaRPr b="0" lang="en-US" sz="2000" spc="-1" strike="noStrike">
              <a:solidFill>
                <a:srgbClr val="000000"/>
              </a:solidFill>
              <a:latin typeface="Futura Bk"/>
            </a:endParaRPr>
          </a:p>
          <a:p>
            <a:pPr lvl="1" marL="345960" indent="0">
              <a:lnSpc>
                <a:spcPct val="105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pic>
        <p:nvPicPr>
          <p:cNvPr id="674" name="" descr=""/>
          <p:cNvPicPr/>
          <p:nvPr/>
        </p:nvPicPr>
        <p:blipFill>
          <a:blip r:embed="rId1"/>
          <a:stretch/>
        </p:blipFill>
        <p:spPr>
          <a:xfrm>
            <a:off x="5143680" y="1249200"/>
            <a:ext cx="3571560" cy="4743720"/>
          </a:xfrm>
          <a:prstGeom prst="rect">
            <a:avLst/>
          </a:prstGeom>
          <a:ln w="0">
            <a:noFill/>
          </a:ln>
        </p:spPr>
      </p:pic>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67CC0B05-4A82-487C-9CC7-336D79C95B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Learning review</a:t>
            </a:r>
            <a:endParaRPr b="0" lang="en-US" sz="3200" spc="-1" strike="noStrike">
              <a:solidFill>
                <a:srgbClr val="000000"/>
              </a:solidFill>
              <a:latin typeface="Futura Bk"/>
            </a:endParaRPr>
          </a:p>
        </p:txBody>
      </p:sp>
      <p:graphicFrame>
        <p:nvGraphicFramePr>
          <p:cNvPr id="676" name=""/>
          <p:cNvGraphicFramePr/>
          <p:nvPr/>
        </p:nvGraphicFramePr>
        <p:xfrm>
          <a:off x="399960" y="992160"/>
          <a:ext cx="8586720" cy="5084640"/>
        </p:xfrm>
        <a:graphic>
          <a:graphicData uri="http://schemas.openxmlformats.org/drawingml/2006/table">
            <a:tbl>
              <a:tblPr/>
              <a:tblGrid>
                <a:gridCol w="2343240"/>
                <a:gridCol w="6243480"/>
              </a:tblGrid>
              <a:tr h="642600">
                <a:tc gridSpan="2">
                  <a:txBody>
                    <a:bodyPr lIns="45720" rIns="45720" tIns="46800" bIns="46800" anchor="t">
                      <a:no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Definitions</a:t>
                      </a:r>
                      <a:br>
                        <a:rPr sz="2000"/>
                      </a:br>
                      <a:r>
                        <a:rPr b="0" i="1" lang="en-US" sz="2000" spc="-1" strike="noStrike">
                          <a:solidFill>
                            <a:srgbClr val="ffffff"/>
                          </a:solidFill>
                          <a:latin typeface="Futura Bk"/>
                        </a:rPr>
                        <a:t>Learners may use this exercise as a self-study guide.</a:t>
                      </a:r>
                      <a:endParaRPr b="0" lang="en-US" sz="2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78732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Intelligent Platform Management Interface (IPMI)</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________ is based on this standard.</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91404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Virtual</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Keyboard Video Mouse</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KVM)</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is is supported when adding the optional ________ card.</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61956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ual Core</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C)</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 DL180 G5 can have up to ________ DC ________ series processor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68040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Quad Core</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QC)</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 DL180 G5 can have up to ________ QC ________ series processor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78732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erial Advanced Technology Attachment (SATA)</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re is support for up to ________ (with controller) hot plug serial ATA (SATA) ________ “ hard driv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65340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erial Attached SCSI</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re is support for up to ________ (with controller) hot plug serial attached SCSI (SAS) ________ “ hard driv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57742BCA-3AF5-43E1-9956-62CF59AFF793}"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66"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ervers provide data to users on a network and designed for specific markets, needs, and applications</a:t>
            </a:r>
            <a:endParaRPr b="0" lang="en-US" sz="1800" spc="-1" strike="noStrike">
              <a:solidFill>
                <a:srgbClr val="0071b4"/>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ata, printers, and modems are shared</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ata processing </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cale out computing </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Web and application server</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hoto/video storage and streaming </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ile and print</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dium scale mail and messaging</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igh performance compute clusters</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AN front end</a:t>
            </a:r>
            <a:endParaRPr b="0" lang="en-US" sz="1800" spc="-1" strike="noStrike">
              <a:solidFill>
                <a:srgbClr val="000000"/>
              </a:solidFill>
              <a:latin typeface="Futura Bk"/>
            </a:endParaRPr>
          </a:p>
        </p:txBody>
      </p:sp>
      <p:sp>
        <p:nvSpPr>
          <p:cNvPr id="167" name="PlaceHolder 3"/>
          <p:cNvSpPr>
            <a:spLocks noGrp="1"/>
          </p:cNvSpPr>
          <p:nvPr>
            <p:ph/>
          </p:nvPr>
        </p:nvSpPr>
        <p:spPr>
          <a:xfrm>
            <a:off x="4768920" y="991800"/>
            <a:ext cx="4217760" cy="3754440"/>
          </a:xfrm>
          <a:prstGeom prst="rect">
            <a:avLst/>
          </a:prstGeom>
          <a:noFill/>
          <a:ln w="0">
            <a:noFill/>
          </a:ln>
        </p:spPr>
        <p:txBody>
          <a:bodyPr lIns="45720" rIns="45720" tIns="91440" bIns="91440" anchor="t">
            <a:normAutofit/>
          </a:bodyPr>
          <a:p>
            <a:pPr indent="0">
              <a:lnSpc>
                <a:spcPct val="9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DL180 G5</a:t>
            </a:r>
            <a:endParaRPr b="0" lang="en-US" sz="1800" spc="-1" strike="noStrike">
              <a:solidFill>
                <a:srgbClr val="0071b4"/>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erformance driven dual and quad core architecture provides more than enough through put for data processing</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dd processors, memory, hard drives, and I/O cards as needed</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xcellent server performance at a highly affordable price</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AS and SATA models expand deployment options</a:t>
            </a:r>
            <a:endParaRPr b="0" lang="en-US" sz="1800" spc="-1" strike="noStrike">
              <a:solidFill>
                <a:srgbClr val="000000"/>
              </a:solidFill>
              <a:latin typeface="Futura Bk"/>
            </a:endParaRPr>
          </a:p>
          <a:p>
            <a:pPr lvl="1" marL="345960" indent="0">
              <a:lnSpc>
                <a:spcPct val="90000"/>
              </a:lnSpc>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pic>
        <p:nvPicPr>
          <p:cNvPr id="168" name="" descr=""/>
          <p:cNvPicPr/>
          <p:nvPr/>
        </p:nvPicPr>
        <p:blipFill>
          <a:blip r:embed="rId1"/>
          <a:stretch/>
        </p:blipFill>
        <p:spPr>
          <a:xfrm>
            <a:off x="4199040" y="4838760"/>
            <a:ext cx="3946320" cy="110484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C787F6AC-B670-4BCC-AD1C-BEB7E40E0C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wo Quad-Core Xeon processo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test Quad-Core processor</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s 45nm technology enables great performance leap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ime to market with Harpertown processo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aximize data center performance and density, while reducing cooling challeng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otential for cost savings with low-voltage Quad-Core Intel</a:t>
            </a:r>
            <a:r>
              <a:rPr b="0" lang="en-US" sz="2000" spc="-1" strike="noStrike">
                <a:solidFill>
                  <a:srgbClr val="000000"/>
                </a:solidFill>
                <a:latin typeface="Futura Bk"/>
                <a:ea typeface="新細明體"/>
              </a:rPr>
              <a:t>®</a:t>
            </a:r>
            <a:r>
              <a:rPr b="0" lang="en-US" sz="2000" spc="-1" strike="noStrike">
                <a:solidFill>
                  <a:srgbClr val="000000"/>
                </a:solidFill>
                <a:latin typeface="Futura Bk"/>
              </a:rPr>
              <a:t> Xeon processors</a:t>
            </a:r>
            <a:r>
              <a:rPr b="0" lang="en-US" sz="2000" spc="-1" strike="noStrike">
                <a:solidFill>
                  <a:srgbClr val="000000"/>
                </a:solidFill>
                <a:latin typeface="Futura Bk"/>
                <a:ea typeface="新細明體"/>
              </a:rPr>
              <a:t>™</a:t>
            </a:r>
            <a:endParaRPr b="0" lang="en-US" sz="2000" spc="-1" strike="noStrike">
              <a:solidFill>
                <a:srgbClr val="000000"/>
              </a:solidFill>
              <a:latin typeface="Futura Bk"/>
            </a:endParaRPr>
          </a:p>
        </p:txBody>
      </p:sp>
      <p:sp>
        <p:nvSpPr>
          <p:cNvPr id="170" name="PlaceHolder 2"/>
          <p:cNvSpPr>
            <a:spLocks noGrp="1"/>
          </p:cNvSpPr>
          <p:nvPr>
            <p:ph/>
          </p:nvPr>
        </p:nvSpPr>
        <p:spPr>
          <a:xfrm>
            <a:off x="4768920" y="991800"/>
            <a:ext cx="4217760" cy="519588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Delivers ultimate processor performance with eight (8) cores using optimized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45nm next-generation Intel® Core™ micro architecture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Up to 50-percent larger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Large cache size yields more transaction processing</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New levels of breakthrough energy efficiency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1333MHz front-side bus speeds information access within the system</a:t>
            </a:r>
            <a:endParaRPr b="0" lang="en-US" sz="2000" spc="-1" strike="noStrike">
              <a:solidFill>
                <a:srgbClr val="000000"/>
              </a:solidFill>
              <a:latin typeface="Futura Bk"/>
            </a:endParaRPr>
          </a:p>
        </p:txBody>
      </p:sp>
      <p:sp>
        <p:nvSpPr>
          <p:cNvPr id="171" name="PlaceHolder 3"/>
          <p:cNvSpPr>
            <a:spLocks noGrp="1"/>
          </p:cNvSpPr>
          <p:nvPr>
            <p:ph type="title"/>
          </p:nvPr>
        </p:nvSpPr>
        <p:spPr>
          <a:xfrm>
            <a:off x="398520" y="0"/>
            <a:ext cx="693576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Quad-Core Intel® Xeon™ processors</a:t>
            </a:r>
            <a:endParaRPr b="0" lang="en-US" sz="3200" spc="-1" strike="noStrike">
              <a:solidFill>
                <a:srgbClr val="000000"/>
              </a:solidFill>
              <a:latin typeface="Futura Bk"/>
            </a:endParaRPr>
          </a:p>
        </p:txBody>
      </p:sp>
      <p:pic>
        <p:nvPicPr>
          <p:cNvPr id="172" name="" descr=""/>
          <p:cNvPicPr/>
          <p:nvPr/>
        </p:nvPicPr>
        <p:blipFill>
          <a:blip r:embed="rId1"/>
          <a:stretch/>
        </p:blipFill>
        <p:spPr>
          <a:xfrm>
            <a:off x="7816680" y="138240"/>
            <a:ext cx="590760" cy="733320"/>
          </a:xfrm>
          <a:prstGeom prst="rect">
            <a:avLst/>
          </a:prstGeom>
          <a:ln w="0">
            <a:noFill/>
          </a:ln>
        </p:spPr>
      </p:pic>
      <p:pic>
        <p:nvPicPr>
          <p:cNvPr id="173" name="" descr=""/>
          <p:cNvPicPr/>
          <p:nvPr/>
        </p:nvPicPr>
        <p:blipFill>
          <a:blip r:embed="rId2"/>
          <a:stretch/>
        </p:blipFill>
        <p:spPr>
          <a:xfrm>
            <a:off x="3354480" y="5148360"/>
            <a:ext cx="1500120" cy="141444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1CA5CA4C-DD02-4226-A52A-FC8756D224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HP ProLiant DL160 G5 Server - Support &amp;amp; Troubleshooting"/>
          <p:cNvPicPr/>
          <p:nvPr/>
        </p:nvPicPr>
        <p:blipFill>
          <a:blip r:embed="rId1"/>
          <a:stretch/>
        </p:blipFill>
        <p:spPr>
          <a:xfrm>
            <a:off x="4943520" y="4438800"/>
            <a:ext cx="952560" cy="647640"/>
          </a:xfrm>
          <a:prstGeom prst="rect">
            <a:avLst/>
          </a:prstGeom>
          <a:ln w="0">
            <a:noFill/>
          </a:ln>
        </p:spPr>
      </p:pic>
      <p:sp>
        <p:nvSpPr>
          <p:cNvPr id="1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duct family positioning</a:t>
            </a:r>
            <a:endParaRPr b="0" lang="en-US" sz="3200" spc="-1" strike="noStrike">
              <a:solidFill>
                <a:srgbClr val="000000"/>
              </a:solidFill>
              <a:latin typeface="Futura Bk"/>
            </a:endParaRPr>
          </a:p>
        </p:txBody>
      </p:sp>
      <p:sp>
        <p:nvSpPr>
          <p:cNvPr id="176" name=""/>
          <p:cNvSpPr/>
          <p:nvPr/>
        </p:nvSpPr>
        <p:spPr>
          <a:xfrm>
            <a:off x="6311880" y="4603680"/>
            <a:ext cx="1270080" cy="965160"/>
          </a:xfrm>
          <a:prstGeom prst="ellipse">
            <a:avLst/>
          </a:prstGeom>
          <a:gradFill rotWithShape="0">
            <a:gsLst>
              <a:gs pos="0">
                <a:srgbClr val="ffff99"/>
              </a:gs>
              <a:gs pos="50000">
                <a:srgbClr val="fefefe"/>
              </a:gs>
              <a:gs pos="100000">
                <a:srgbClr val="ffff99"/>
              </a:gs>
            </a:gsLst>
            <a:lin ang="5400000"/>
          </a:gra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177" name="" descr=""/>
          <p:cNvPicPr/>
          <p:nvPr/>
        </p:nvPicPr>
        <p:blipFill>
          <a:blip r:embed="rId2"/>
          <a:stretch/>
        </p:blipFill>
        <p:spPr>
          <a:xfrm>
            <a:off x="6337440" y="4765680"/>
            <a:ext cx="1244520" cy="622440"/>
          </a:xfrm>
          <a:prstGeom prst="rect">
            <a:avLst/>
          </a:prstGeom>
          <a:ln w="0">
            <a:noFill/>
          </a:ln>
        </p:spPr>
      </p:pic>
      <p:pic>
        <p:nvPicPr>
          <p:cNvPr id="178" name="" descr=""/>
          <p:cNvPicPr/>
          <p:nvPr/>
        </p:nvPicPr>
        <p:blipFill>
          <a:blip r:embed="rId3"/>
          <a:stretch/>
        </p:blipFill>
        <p:spPr>
          <a:xfrm>
            <a:off x="4714920" y="4552920"/>
            <a:ext cx="1449360" cy="1619280"/>
          </a:xfrm>
          <a:prstGeom prst="rect">
            <a:avLst/>
          </a:prstGeom>
          <a:ln w="0">
            <a:noFill/>
          </a:ln>
        </p:spPr>
      </p:pic>
      <p:pic>
        <p:nvPicPr>
          <p:cNvPr id="179" name="" descr=""/>
          <p:cNvPicPr/>
          <p:nvPr/>
        </p:nvPicPr>
        <p:blipFill>
          <a:blip r:embed="rId4"/>
          <a:stretch/>
        </p:blipFill>
        <p:spPr>
          <a:xfrm>
            <a:off x="7140600" y="1762200"/>
            <a:ext cx="1390680" cy="1554120"/>
          </a:xfrm>
          <a:prstGeom prst="rect">
            <a:avLst/>
          </a:prstGeom>
          <a:ln w="0">
            <a:noFill/>
          </a:ln>
        </p:spPr>
      </p:pic>
      <p:pic>
        <p:nvPicPr>
          <p:cNvPr id="180" name="" descr=""/>
          <p:cNvPicPr/>
          <p:nvPr/>
        </p:nvPicPr>
        <p:blipFill>
          <a:blip r:embed="rId5"/>
          <a:stretch/>
        </p:blipFill>
        <p:spPr>
          <a:xfrm>
            <a:off x="2365200" y="2917800"/>
            <a:ext cx="1505160" cy="1682640"/>
          </a:xfrm>
          <a:prstGeom prst="rect">
            <a:avLst/>
          </a:prstGeom>
          <a:ln w="0">
            <a:noFill/>
          </a:ln>
        </p:spPr>
      </p:pic>
      <p:sp>
        <p:nvSpPr>
          <p:cNvPr id="181" name=""/>
          <p:cNvSpPr/>
          <p:nvPr/>
        </p:nvSpPr>
        <p:spPr>
          <a:xfrm>
            <a:off x="4064040" y="3260880"/>
            <a:ext cx="4691160" cy="1133280"/>
          </a:xfrm>
          <a:prstGeom prst="rect">
            <a:avLst/>
          </a:prstGeom>
          <a:noFill/>
          <a:ln w="38160">
            <a:solidFill>
              <a:srgbClr val="85aac1"/>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2" name=""/>
          <p:cNvSpPr/>
          <p:nvPr/>
        </p:nvSpPr>
        <p:spPr>
          <a:xfrm>
            <a:off x="4167000" y="402912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20 G5</a:t>
            </a:r>
            <a:endParaRPr b="0" lang="en-US" sz="1600" spc="-1" strike="noStrike">
              <a:solidFill>
                <a:srgbClr val="000000"/>
              </a:solidFill>
              <a:latin typeface="Futura Bk"/>
            </a:endParaRPr>
          </a:p>
        </p:txBody>
      </p:sp>
      <p:sp>
        <p:nvSpPr>
          <p:cNvPr id="183" name=""/>
          <p:cNvSpPr/>
          <p:nvPr/>
        </p:nvSpPr>
        <p:spPr>
          <a:xfrm>
            <a:off x="5378400" y="400860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60 G5</a:t>
            </a:r>
            <a:endParaRPr b="0" lang="en-US" sz="1600" spc="-1" strike="noStrike">
              <a:solidFill>
                <a:srgbClr val="000000"/>
              </a:solidFill>
              <a:latin typeface="Futura Bk"/>
            </a:endParaRPr>
          </a:p>
        </p:txBody>
      </p:sp>
      <p:sp>
        <p:nvSpPr>
          <p:cNvPr id="184" name=""/>
          <p:cNvSpPr/>
          <p:nvPr/>
        </p:nvSpPr>
        <p:spPr>
          <a:xfrm>
            <a:off x="6570720" y="39988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0 G5</a:t>
            </a:r>
            <a:endParaRPr b="0" lang="en-US" sz="1600" spc="-1" strike="noStrike">
              <a:solidFill>
                <a:srgbClr val="000000"/>
              </a:solidFill>
              <a:latin typeface="Futura Bk"/>
            </a:endParaRPr>
          </a:p>
        </p:txBody>
      </p:sp>
      <p:pic>
        <p:nvPicPr>
          <p:cNvPr id="185" name="" descr=""/>
          <p:cNvPicPr/>
          <p:nvPr/>
        </p:nvPicPr>
        <p:blipFill>
          <a:blip r:embed="rId6"/>
          <a:stretch/>
        </p:blipFill>
        <p:spPr>
          <a:xfrm>
            <a:off x="4160880" y="3718080"/>
            <a:ext cx="1035000" cy="226800"/>
          </a:xfrm>
          <a:prstGeom prst="rect">
            <a:avLst/>
          </a:prstGeom>
          <a:ln w="0">
            <a:noFill/>
          </a:ln>
        </p:spPr>
      </p:pic>
      <p:sp>
        <p:nvSpPr>
          <p:cNvPr id="186" name=""/>
          <p:cNvSpPr/>
          <p:nvPr/>
        </p:nvSpPr>
        <p:spPr>
          <a:xfrm>
            <a:off x="7675560" y="39862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5 G2</a:t>
            </a:r>
            <a:endParaRPr b="0" lang="en-US" sz="1600" spc="-1" strike="noStrike">
              <a:solidFill>
                <a:srgbClr val="000000"/>
              </a:solidFill>
              <a:latin typeface="Futura Bk"/>
            </a:endParaRPr>
          </a:p>
        </p:txBody>
      </p:sp>
      <p:pic>
        <p:nvPicPr>
          <p:cNvPr id="187" name="" descr=""/>
          <p:cNvPicPr/>
          <p:nvPr/>
        </p:nvPicPr>
        <p:blipFill>
          <a:blip r:embed="rId7"/>
          <a:stretch/>
        </p:blipFill>
        <p:spPr>
          <a:xfrm>
            <a:off x="1882800" y="2003400"/>
            <a:ext cx="1154160" cy="1289160"/>
          </a:xfrm>
          <a:prstGeom prst="rect">
            <a:avLst/>
          </a:prstGeom>
          <a:ln w="0">
            <a:noFill/>
          </a:ln>
        </p:spPr>
      </p:pic>
      <p:sp>
        <p:nvSpPr>
          <p:cNvPr id="188" name=""/>
          <p:cNvSpPr/>
          <p:nvPr/>
        </p:nvSpPr>
        <p:spPr>
          <a:xfrm>
            <a:off x="973080" y="1562040"/>
            <a:ext cx="3970440" cy="38340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ML server series</a:t>
            </a:r>
            <a:endParaRPr b="0" lang="en-US" sz="2000" spc="-1" strike="noStrike">
              <a:solidFill>
                <a:srgbClr val="000000"/>
              </a:solidFill>
              <a:latin typeface="Futura Bk"/>
            </a:endParaRPr>
          </a:p>
        </p:txBody>
      </p:sp>
      <p:sp>
        <p:nvSpPr>
          <p:cNvPr id="189" name=""/>
          <p:cNvSpPr/>
          <p:nvPr/>
        </p:nvSpPr>
        <p:spPr>
          <a:xfrm>
            <a:off x="1069920" y="3260880"/>
            <a:ext cx="2862360" cy="1133280"/>
          </a:xfrm>
          <a:prstGeom prst="rect">
            <a:avLst/>
          </a:prstGeom>
          <a:noFill/>
          <a:ln w="38160">
            <a:solidFill>
              <a:srgbClr val="007e27"/>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0" name=""/>
          <p:cNvSpPr/>
          <p:nvPr/>
        </p:nvSpPr>
        <p:spPr>
          <a:xfrm>
            <a:off x="1065240" y="2033640"/>
            <a:ext cx="3870360" cy="1133280"/>
          </a:xfrm>
          <a:prstGeom prst="rect">
            <a:avLst/>
          </a:prstGeom>
          <a:noFill/>
          <a:ln w="38160">
            <a:solidFill>
              <a:srgbClr val="64b9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1" name=""/>
          <p:cNvSpPr/>
          <p:nvPr/>
        </p:nvSpPr>
        <p:spPr>
          <a:xfrm>
            <a:off x="446040" y="361008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300</a:t>
            </a:r>
            <a:endParaRPr b="0" lang="en-US" sz="1800" spc="-1" strike="noStrike">
              <a:solidFill>
                <a:srgbClr val="000000"/>
              </a:solidFill>
              <a:latin typeface="Futura Bk"/>
            </a:endParaRPr>
          </a:p>
        </p:txBody>
      </p:sp>
      <p:sp>
        <p:nvSpPr>
          <p:cNvPr id="192" name=""/>
          <p:cNvSpPr/>
          <p:nvPr/>
        </p:nvSpPr>
        <p:spPr>
          <a:xfrm>
            <a:off x="430200" y="248904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500</a:t>
            </a:r>
            <a:endParaRPr b="0" lang="en-US" sz="1800" spc="-1" strike="noStrike">
              <a:solidFill>
                <a:srgbClr val="000000"/>
              </a:solidFill>
              <a:latin typeface="Futura Bk"/>
            </a:endParaRPr>
          </a:p>
        </p:txBody>
      </p:sp>
      <p:sp>
        <p:nvSpPr>
          <p:cNvPr id="193" name=""/>
          <p:cNvSpPr/>
          <p:nvPr/>
        </p:nvSpPr>
        <p:spPr>
          <a:xfrm>
            <a:off x="2675520" y="405936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70 G5</a:t>
            </a:r>
            <a:endParaRPr b="0" lang="en-US" sz="1600" spc="-1" strike="noStrike">
              <a:solidFill>
                <a:srgbClr val="000000"/>
              </a:solidFill>
              <a:latin typeface="Futura Bk"/>
            </a:endParaRPr>
          </a:p>
        </p:txBody>
      </p:sp>
      <p:sp>
        <p:nvSpPr>
          <p:cNvPr id="194" name=""/>
          <p:cNvSpPr/>
          <p:nvPr/>
        </p:nvSpPr>
        <p:spPr>
          <a:xfrm>
            <a:off x="3486960" y="242424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570 G4</a:t>
            </a:r>
            <a:endParaRPr b="0" lang="en-US" sz="1600" spc="-1" strike="noStrike">
              <a:solidFill>
                <a:srgbClr val="000000"/>
              </a:solidFill>
              <a:latin typeface="Futura Bk"/>
            </a:endParaRPr>
          </a:p>
        </p:txBody>
      </p:sp>
      <p:pic>
        <p:nvPicPr>
          <p:cNvPr id="195" name="" descr=""/>
          <p:cNvPicPr/>
          <p:nvPr/>
        </p:nvPicPr>
        <p:blipFill>
          <a:blip r:embed="rId8"/>
          <a:stretch/>
        </p:blipFill>
        <p:spPr>
          <a:xfrm>
            <a:off x="5491080" y="2282760"/>
            <a:ext cx="1263600" cy="666720"/>
          </a:xfrm>
          <a:prstGeom prst="rect">
            <a:avLst/>
          </a:prstGeom>
          <a:ln w="0">
            <a:noFill/>
          </a:ln>
        </p:spPr>
      </p:pic>
      <p:sp>
        <p:nvSpPr>
          <p:cNvPr id="196" name=""/>
          <p:cNvSpPr/>
          <p:nvPr/>
        </p:nvSpPr>
        <p:spPr>
          <a:xfrm>
            <a:off x="5030640" y="2033640"/>
            <a:ext cx="3718080" cy="1133280"/>
          </a:xfrm>
          <a:prstGeom prst="rect">
            <a:avLst/>
          </a:prstGeom>
          <a:noFill/>
          <a:ln w="3816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7" name=""/>
          <p:cNvSpPr/>
          <p:nvPr/>
        </p:nvSpPr>
        <p:spPr>
          <a:xfrm>
            <a:off x="5326200" y="2781360"/>
            <a:ext cx="16002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0 G4</a:t>
            </a:r>
            <a:endParaRPr b="0" lang="en-US" sz="1600" spc="-1" strike="noStrike">
              <a:solidFill>
                <a:srgbClr val="000000"/>
              </a:solidFill>
              <a:latin typeface="Futura Bk"/>
            </a:endParaRPr>
          </a:p>
        </p:txBody>
      </p:sp>
      <p:sp>
        <p:nvSpPr>
          <p:cNvPr id="198" name=""/>
          <p:cNvSpPr/>
          <p:nvPr/>
        </p:nvSpPr>
        <p:spPr>
          <a:xfrm>
            <a:off x="6780240" y="2765520"/>
            <a:ext cx="18540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5 G2</a:t>
            </a:r>
            <a:endParaRPr b="0" lang="en-US" sz="1600" spc="-1" strike="noStrike">
              <a:solidFill>
                <a:srgbClr val="000000"/>
              </a:solidFill>
              <a:latin typeface="Futura Bk"/>
            </a:endParaRPr>
          </a:p>
        </p:txBody>
      </p:sp>
      <p:pic>
        <p:nvPicPr>
          <p:cNvPr id="199" name="" descr=""/>
          <p:cNvPicPr/>
          <p:nvPr/>
        </p:nvPicPr>
        <p:blipFill>
          <a:blip r:embed="rId9"/>
          <a:stretch/>
        </p:blipFill>
        <p:spPr>
          <a:xfrm>
            <a:off x="1260360" y="4543560"/>
            <a:ext cx="766800" cy="857160"/>
          </a:xfrm>
          <a:prstGeom prst="rect">
            <a:avLst/>
          </a:prstGeom>
          <a:ln w="0">
            <a:noFill/>
          </a:ln>
        </p:spPr>
      </p:pic>
      <p:sp>
        <p:nvSpPr>
          <p:cNvPr id="200" name=""/>
          <p:cNvSpPr/>
          <p:nvPr/>
        </p:nvSpPr>
        <p:spPr>
          <a:xfrm>
            <a:off x="446040" y="484992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100</a:t>
            </a:r>
            <a:r>
              <a:rPr b="0" lang="en-US" sz="1800" spc="-1" strike="noStrike">
                <a:solidFill>
                  <a:srgbClr val="000000"/>
                </a:solidFill>
                <a:latin typeface="Futura Bk"/>
              </a:rPr>
              <a:t> </a:t>
            </a:r>
            <a:endParaRPr b="0" lang="en-US" sz="1800" spc="-1" strike="noStrike">
              <a:solidFill>
                <a:srgbClr val="000000"/>
              </a:solidFill>
              <a:latin typeface="Futura Bk"/>
            </a:endParaRPr>
          </a:p>
        </p:txBody>
      </p:sp>
      <p:sp>
        <p:nvSpPr>
          <p:cNvPr id="201" name=""/>
          <p:cNvSpPr/>
          <p:nvPr/>
        </p:nvSpPr>
        <p:spPr>
          <a:xfrm>
            <a:off x="1074600" y="4500720"/>
            <a:ext cx="3551400" cy="1512720"/>
          </a:xfrm>
          <a:prstGeom prst="rect">
            <a:avLst/>
          </a:prstGeom>
          <a:noFill/>
          <a:ln w="38160">
            <a:solidFill>
              <a:srgbClr val="66c25f"/>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02" name=""/>
          <p:cNvSpPr/>
          <p:nvPr/>
        </p:nvSpPr>
        <p:spPr>
          <a:xfrm>
            <a:off x="107784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4</a:t>
            </a:r>
            <a:endParaRPr b="0" lang="en-US" sz="1600" spc="-1" strike="noStrike">
              <a:solidFill>
                <a:srgbClr val="000000"/>
              </a:solidFill>
              <a:latin typeface="Futura Bk"/>
            </a:endParaRPr>
          </a:p>
        </p:txBody>
      </p:sp>
      <p:sp>
        <p:nvSpPr>
          <p:cNvPr id="203" name=""/>
          <p:cNvSpPr/>
          <p:nvPr/>
        </p:nvSpPr>
        <p:spPr>
          <a:xfrm>
            <a:off x="3265560" y="5267160"/>
            <a:ext cx="153648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3</a:t>
            </a:r>
            <a:endParaRPr b="0" lang="en-US" sz="1600" spc="-1" strike="noStrike">
              <a:solidFill>
                <a:srgbClr val="000000"/>
              </a:solidFill>
              <a:latin typeface="Futura Bk"/>
            </a:endParaRPr>
          </a:p>
        </p:txBody>
      </p:sp>
      <p:pic>
        <p:nvPicPr>
          <p:cNvPr id="204" name="" descr=""/>
          <p:cNvPicPr/>
          <p:nvPr/>
        </p:nvPicPr>
        <p:blipFill>
          <a:blip r:embed="rId10"/>
          <a:stretch/>
        </p:blipFill>
        <p:spPr>
          <a:xfrm>
            <a:off x="3813120" y="4483080"/>
            <a:ext cx="492120" cy="939960"/>
          </a:xfrm>
          <a:prstGeom prst="rect">
            <a:avLst/>
          </a:prstGeom>
          <a:ln w="0">
            <a:noFill/>
          </a:ln>
        </p:spPr>
      </p:pic>
      <p:sp>
        <p:nvSpPr>
          <p:cNvPr id="205" name=""/>
          <p:cNvSpPr/>
          <p:nvPr/>
        </p:nvSpPr>
        <p:spPr>
          <a:xfrm>
            <a:off x="4707000" y="4500720"/>
            <a:ext cx="4049640" cy="1531800"/>
          </a:xfrm>
          <a:prstGeom prst="rect">
            <a:avLst/>
          </a:prstGeom>
          <a:noFill/>
          <a:ln w="38160">
            <a:solidFill>
              <a:srgbClr val="cccccc"/>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06" name=""/>
          <p:cNvSpPr/>
          <p:nvPr/>
        </p:nvSpPr>
        <p:spPr>
          <a:xfrm>
            <a:off x="4665600" y="484200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60 G5 </a:t>
            </a:r>
            <a:endParaRPr b="0" lang="en-US" sz="1600" spc="-1" strike="noStrike">
              <a:solidFill>
                <a:srgbClr val="000000"/>
              </a:solidFill>
              <a:latin typeface="Futura Bk"/>
            </a:endParaRPr>
          </a:p>
        </p:txBody>
      </p:sp>
      <p:sp>
        <p:nvSpPr>
          <p:cNvPr id="207" name=""/>
          <p:cNvSpPr/>
          <p:nvPr/>
        </p:nvSpPr>
        <p:spPr>
          <a:xfrm>
            <a:off x="4665600" y="554688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45 G3</a:t>
            </a:r>
            <a:endParaRPr b="0" lang="en-US" sz="1600" spc="-1" strike="noStrike">
              <a:solidFill>
                <a:srgbClr val="000000"/>
              </a:solidFill>
              <a:latin typeface="Futura Bk"/>
            </a:endParaRPr>
          </a:p>
        </p:txBody>
      </p:sp>
      <p:pic>
        <p:nvPicPr>
          <p:cNvPr id="208" name="" descr=""/>
          <p:cNvPicPr/>
          <p:nvPr/>
        </p:nvPicPr>
        <p:blipFill>
          <a:blip r:embed="rId11"/>
          <a:stretch/>
        </p:blipFill>
        <p:spPr>
          <a:xfrm>
            <a:off x="1298520" y="3311640"/>
            <a:ext cx="777960" cy="869760"/>
          </a:xfrm>
          <a:prstGeom prst="rect">
            <a:avLst/>
          </a:prstGeom>
          <a:ln w="0">
            <a:noFill/>
          </a:ln>
        </p:spPr>
      </p:pic>
      <p:sp>
        <p:nvSpPr>
          <p:cNvPr id="209" name=""/>
          <p:cNvSpPr/>
          <p:nvPr/>
        </p:nvSpPr>
        <p:spPr>
          <a:xfrm>
            <a:off x="1232640" y="406728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10 G4</a:t>
            </a:r>
            <a:endParaRPr b="0" lang="en-US" sz="1600" spc="-1" strike="noStrike">
              <a:solidFill>
                <a:srgbClr val="000000"/>
              </a:solidFill>
              <a:latin typeface="Futura Bk"/>
            </a:endParaRPr>
          </a:p>
        </p:txBody>
      </p:sp>
      <p:sp>
        <p:nvSpPr>
          <p:cNvPr id="210" name=""/>
          <p:cNvSpPr/>
          <p:nvPr/>
        </p:nvSpPr>
        <p:spPr>
          <a:xfrm>
            <a:off x="4844160" y="1579680"/>
            <a:ext cx="3470760" cy="38340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DL server series</a:t>
            </a:r>
            <a:endParaRPr b="0" lang="en-US" sz="2000" spc="-1" strike="noStrike">
              <a:solidFill>
                <a:srgbClr val="000000"/>
              </a:solidFill>
              <a:latin typeface="Futura Bk"/>
            </a:endParaRPr>
          </a:p>
        </p:txBody>
      </p:sp>
      <p:pic>
        <p:nvPicPr>
          <p:cNvPr id="211" name="" descr=""/>
          <p:cNvPicPr/>
          <p:nvPr/>
        </p:nvPicPr>
        <p:blipFill>
          <a:blip r:embed="rId12"/>
          <a:stretch/>
        </p:blipFill>
        <p:spPr>
          <a:xfrm>
            <a:off x="2454120" y="4543560"/>
            <a:ext cx="766800" cy="857160"/>
          </a:xfrm>
          <a:prstGeom prst="rect">
            <a:avLst/>
          </a:prstGeom>
          <a:ln w="0">
            <a:noFill/>
          </a:ln>
        </p:spPr>
      </p:pic>
      <p:sp>
        <p:nvSpPr>
          <p:cNvPr id="212" name=""/>
          <p:cNvSpPr/>
          <p:nvPr/>
        </p:nvSpPr>
        <p:spPr>
          <a:xfrm>
            <a:off x="228456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5 G4</a:t>
            </a:r>
            <a:endParaRPr b="0" lang="en-US" sz="1600" spc="-1" strike="noStrike">
              <a:solidFill>
                <a:srgbClr val="000000"/>
              </a:solidFill>
              <a:latin typeface="Futura Bk"/>
            </a:endParaRPr>
          </a:p>
        </p:txBody>
      </p:sp>
      <p:pic>
        <p:nvPicPr>
          <p:cNvPr id="213" name="" descr=""/>
          <p:cNvPicPr/>
          <p:nvPr/>
        </p:nvPicPr>
        <p:blipFill>
          <a:blip r:embed="rId13"/>
          <a:stretch/>
        </p:blipFill>
        <p:spPr>
          <a:xfrm>
            <a:off x="5108400" y="3063960"/>
            <a:ext cx="1454400" cy="1625400"/>
          </a:xfrm>
          <a:prstGeom prst="rect">
            <a:avLst/>
          </a:prstGeom>
          <a:ln w="0">
            <a:noFill/>
          </a:ln>
        </p:spPr>
      </p:pic>
      <p:pic>
        <p:nvPicPr>
          <p:cNvPr id="214" name="" descr=""/>
          <p:cNvPicPr/>
          <p:nvPr/>
        </p:nvPicPr>
        <p:blipFill>
          <a:blip r:embed="rId14"/>
          <a:stretch/>
        </p:blipFill>
        <p:spPr>
          <a:xfrm>
            <a:off x="6454800" y="3197160"/>
            <a:ext cx="1208160" cy="1349280"/>
          </a:xfrm>
          <a:prstGeom prst="rect">
            <a:avLst/>
          </a:prstGeom>
          <a:ln w="0">
            <a:noFill/>
          </a:ln>
        </p:spPr>
      </p:pic>
      <p:pic>
        <p:nvPicPr>
          <p:cNvPr id="215" name="" descr=""/>
          <p:cNvPicPr/>
          <p:nvPr/>
        </p:nvPicPr>
        <p:blipFill>
          <a:blip r:embed="rId15"/>
          <a:stretch/>
        </p:blipFill>
        <p:spPr>
          <a:xfrm>
            <a:off x="7572240" y="3197160"/>
            <a:ext cx="1208160" cy="1349280"/>
          </a:xfrm>
          <a:prstGeom prst="rect">
            <a:avLst/>
          </a:prstGeom>
          <a:ln w="0">
            <a:noFill/>
          </a:ln>
        </p:spPr>
      </p:pic>
      <p:sp>
        <p:nvSpPr>
          <p:cNvPr id="216" name=""/>
          <p:cNvSpPr/>
          <p:nvPr/>
        </p:nvSpPr>
        <p:spPr>
          <a:xfrm>
            <a:off x="6224760" y="521352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a:t>
            </a:r>
            <a:endParaRPr b="0" lang="en-US" sz="1600" spc="-1" strike="noStrike">
              <a:solidFill>
                <a:srgbClr val="000000"/>
              </a:solidFill>
              <a:latin typeface="Futura Bk"/>
            </a:endParaRPr>
          </a:p>
        </p:txBody>
      </p:sp>
      <p:pic>
        <p:nvPicPr>
          <p:cNvPr id="217" name="" descr="HP ProLiant DL185 G5 Server series"/>
          <p:cNvPicPr/>
          <p:nvPr/>
        </p:nvPicPr>
        <p:blipFill>
          <a:blip r:embed="rId16"/>
          <a:stretch/>
        </p:blipFill>
        <p:spPr>
          <a:xfrm>
            <a:off x="7696080" y="4724280"/>
            <a:ext cx="952560" cy="666720"/>
          </a:xfrm>
          <a:prstGeom prst="rect">
            <a:avLst/>
          </a:prstGeom>
          <a:ln w="0">
            <a:noFill/>
          </a:ln>
        </p:spPr>
      </p:pic>
      <p:sp>
        <p:nvSpPr>
          <p:cNvPr id="218" name=""/>
          <p:cNvSpPr/>
          <p:nvPr/>
        </p:nvSpPr>
        <p:spPr>
          <a:xfrm>
            <a:off x="7386480" y="5213520"/>
            <a:ext cx="157032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5 G5</a:t>
            </a:r>
            <a:endParaRPr b="0" lang="en-US" sz="16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5F582625-CCB7-4B91-9A08-E0A81E58D6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362400" y="1093680"/>
            <a:ext cx="5043240" cy="5208840"/>
          </a:xfrm>
          <a:prstGeom prst="rect">
            <a:avLst/>
          </a:prstGeom>
          <a:noFill/>
          <a:ln w="0">
            <a:noFill/>
          </a:ln>
        </p:spPr>
        <p:style>
          <a:lnRef idx="0"/>
          <a:fillRef idx="0"/>
          <a:effectRef idx="0"/>
          <a:fontRef idx="minor"/>
        </p:style>
        <p:txBody>
          <a:bodyPr lIns="45720" rIns="45720" tIns="46800" bIns="46800" anchor="t">
            <a:normAutofit/>
          </a:bodyPr>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rge-scale service providers who need large capacity at the lowest cost per GB</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ffordable dual-processor server with essential management, redundancy, and enough power to handle complex business requirements </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rovide flexibility to option for growing businesses and emerging markets</a:t>
            </a:r>
            <a:endParaRPr b="0" lang="en-US" sz="2000" spc="-1" strike="noStrike">
              <a:solidFill>
                <a:srgbClr val="000000"/>
              </a:solidFill>
              <a:latin typeface="Futura Bk"/>
            </a:endParaRPr>
          </a:p>
          <a:p>
            <a:pPr lvl="1" marL="343080" indent="-228600">
              <a:spcAft>
                <a:spcPts val="125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lvl="1" marL="343080" indent="-228600">
              <a:spcAft>
                <a:spcPts val="125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220" name=""/>
          <p:cNvSpPr/>
          <p:nvPr/>
        </p:nvSpPr>
        <p:spPr>
          <a:xfrm>
            <a:off x="1593720" y="1003320"/>
            <a:ext cx="6950160" cy="544824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22" name=""/>
          <p:cNvSpPr/>
          <p:nvPr/>
        </p:nvSpPr>
        <p:spPr>
          <a:xfrm>
            <a:off x="725400" y="3206880"/>
            <a:ext cx="2422440" cy="92376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Powerful compute technology</a:t>
            </a:r>
            <a:endParaRPr b="0" lang="en-US" sz="1800" spc="-1" strike="noStrike">
              <a:solidFill>
                <a:srgbClr val="000000"/>
              </a:solidFill>
              <a:latin typeface="Futura Bk"/>
            </a:endParaRPr>
          </a:p>
        </p:txBody>
      </p:sp>
      <p:sp>
        <p:nvSpPr>
          <p:cNvPr id="223" name=""/>
          <p:cNvSpPr/>
          <p:nvPr/>
        </p:nvSpPr>
        <p:spPr>
          <a:xfrm>
            <a:off x="763560" y="2112840"/>
            <a:ext cx="2422440" cy="95904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SMB,</a:t>
            </a:r>
            <a:endParaRPr b="0" lang="en-US" sz="1800" spc="-1" strike="noStrike">
              <a:solidFill>
                <a:srgbClr val="000000"/>
              </a:solidFill>
              <a:latin typeface="Futura Bk"/>
            </a:endParaRPr>
          </a:p>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Large-scale service providers</a:t>
            </a:r>
            <a:endParaRPr b="0" lang="en-US" sz="1800" spc="-1" strike="noStrike">
              <a:solidFill>
                <a:srgbClr val="000000"/>
              </a:solidFill>
              <a:latin typeface="Futura Bk"/>
            </a:endParaRPr>
          </a:p>
        </p:txBody>
      </p:sp>
      <p:sp>
        <p:nvSpPr>
          <p:cNvPr id="224" name=""/>
          <p:cNvSpPr/>
          <p:nvPr/>
        </p:nvSpPr>
        <p:spPr>
          <a:xfrm>
            <a:off x="725400" y="4303800"/>
            <a:ext cx="2422440" cy="93024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Low cost per GB in class</a:t>
            </a:r>
            <a:endParaRPr b="0" lang="en-US" sz="1800" spc="-1" strike="noStrike">
              <a:solidFill>
                <a:srgbClr val="000000"/>
              </a:solidFill>
              <a:latin typeface="Futura Bk"/>
            </a:endParaRPr>
          </a:p>
        </p:txBody>
      </p:sp>
      <p:sp>
        <p:nvSpPr>
          <p:cNvPr id="225" name=""/>
          <p:cNvSpPr/>
          <p:nvPr/>
        </p:nvSpPr>
        <p:spPr>
          <a:xfrm>
            <a:off x="789120" y="1130400"/>
            <a:ext cx="2422440" cy="89532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 Network service providers</a:t>
            </a:r>
            <a:endParaRPr b="0" lang="en-US" sz="1800" spc="-1" strike="noStrike">
              <a:solidFill>
                <a:srgbClr val="000000"/>
              </a:solidFill>
              <a:latin typeface="Futura Bk"/>
            </a:endParaRPr>
          </a:p>
        </p:txBody>
      </p:sp>
      <p:sp>
        <p:nvSpPr>
          <p:cNvPr id="226" name=""/>
          <p:cNvSpPr/>
          <p:nvPr/>
        </p:nvSpPr>
        <p:spPr>
          <a:xfrm>
            <a:off x="750960" y="5380200"/>
            <a:ext cx="2422440" cy="91728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Flexibility to option</a:t>
            </a:r>
            <a:endParaRPr b="0" lang="en-US" sz="1800" spc="-1" strike="noStrike">
              <a:solidFill>
                <a:srgbClr val="000000"/>
              </a:solidFill>
              <a:latin typeface="Futura Bk"/>
            </a:endParaRPr>
          </a:p>
        </p:txBody>
      </p:sp>
      <p:pic>
        <p:nvPicPr>
          <p:cNvPr id="227" name="" descr=""/>
          <p:cNvPicPr/>
          <p:nvPr/>
        </p:nvPicPr>
        <p:blipFill>
          <a:blip r:embed="rId1"/>
          <a:stretch/>
        </p:blipFill>
        <p:spPr>
          <a:xfrm>
            <a:off x="3830760" y="4552920"/>
            <a:ext cx="3946320" cy="1104840"/>
          </a:xfrm>
          <a:prstGeom prst="rect">
            <a:avLst/>
          </a:prstGeom>
          <a:ln w="0">
            <a:noFill/>
          </a:ln>
        </p:spPr>
      </p:pic>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1F66A07D-66BB-4C82-8250-D0C77BD46F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ＭＳ Ｐゴシック"/>
              </a:rPr>
              <a:t>Use case scenario 1 — Lights-Out 100 remote management</a:t>
            </a:r>
            <a:endParaRPr b="0" lang="en-US" sz="3200" spc="-1" strike="noStrike">
              <a:solidFill>
                <a:srgbClr val="000000"/>
              </a:solidFill>
              <a:latin typeface="Futura Bk"/>
            </a:endParaRPr>
          </a:p>
        </p:txBody>
      </p:sp>
      <p:sp>
        <p:nvSpPr>
          <p:cNvPr id="229"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Purposes include:</a:t>
            </a:r>
            <a:endParaRPr b="0" lang="en-US" sz="1900" spc="-1" strike="noStrike">
              <a:solidFill>
                <a:srgbClr val="0071b4"/>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trouble shooting and recovery</a:t>
            </a:r>
            <a:endParaRPr b="0" lang="en-US" sz="1800" spc="-1" strike="noStrike">
              <a:solidFill>
                <a:srgbClr val="000000"/>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system event log</a:t>
            </a:r>
            <a:endParaRPr b="0" lang="en-US" sz="1800" spc="-1" strike="noStrike">
              <a:solidFill>
                <a:srgbClr val="000000"/>
              </a:solidFill>
              <a:latin typeface="Futura Bk"/>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Lights-Out solution:</a:t>
            </a:r>
            <a:endParaRPr b="0" lang="en-US" sz="1900" spc="-1" strike="noStrike">
              <a:solidFill>
                <a:srgbClr val="0071b4"/>
              </a:solidFill>
              <a:latin typeface="Futura Bk"/>
            </a:endParaRPr>
          </a:p>
          <a:p>
            <a:pPr lvl="1" marL="345960" indent="-231480">
              <a:lnSpc>
                <a:spcPct val="80000"/>
              </a:lnSpc>
              <a:spcBef>
                <a:spcPts val="113"/>
              </a:spcBef>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st-effective, entry level remote management solution for the ProLiant 100 series servers</a:t>
            </a:r>
            <a:endParaRPr b="0" lang="en-US" sz="1800" spc="-1" strike="noStrike">
              <a:solidFill>
                <a:srgbClr val="000000"/>
              </a:solidFill>
              <a:latin typeface="Futura Bk"/>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Benefits:</a:t>
            </a:r>
            <a:endParaRPr b="0" lang="en-US" sz="1900" spc="-1" strike="noStrike">
              <a:solidFill>
                <a:srgbClr val="0071b4"/>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f something goes wrong with a server, IT can connect with out having to drive or walk to the site</a:t>
            </a:r>
            <a:endParaRPr b="0" lang="en-US" sz="1800" spc="-1" strike="noStrike">
              <a:solidFill>
                <a:srgbClr val="000000"/>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ntrol is from the comfort of one’s own location saving customers time and money</a:t>
            </a:r>
            <a:endParaRPr b="0" lang="en-US" sz="1800" spc="-1" strike="noStrike">
              <a:solidFill>
                <a:srgbClr val="000000"/>
              </a:solidFill>
              <a:latin typeface="Futura Bk"/>
            </a:endParaRPr>
          </a:p>
        </p:txBody>
      </p:sp>
      <p:grpSp>
        <p:nvGrpSpPr>
          <p:cNvPr id="230" name=""/>
          <p:cNvGrpSpPr/>
          <p:nvPr/>
        </p:nvGrpSpPr>
        <p:grpSpPr>
          <a:xfrm>
            <a:off x="4662360" y="1382760"/>
            <a:ext cx="4481280" cy="1676520"/>
            <a:chOff x="4662360" y="1382760"/>
            <a:chExt cx="4481280" cy="1676520"/>
          </a:xfrm>
        </p:grpSpPr>
        <p:sp>
          <p:nvSpPr>
            <p:cNvPr id="231" name=""/>
            <p:cNvSpPr/>
            <p:nvPr/>
          </p:nvSpPr>
          <p:spPr>
            <a:xfrm>
              <a:off x="4662360" y="1684440"/>
              <a:ext cx="4481280" cy="1374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32" name=""/>
            <p:cNvGrpSpPr/>
            <p:nvPr/>
          </p:nvGrpSpPr>
          <p:grpSpPr>
            <a:xfrm>
              <a:off x="4773960" y="1751040"/>
              <a:ext cx="4276800" cy="1133640"/>
              <a:chOff x="4773960" y="1751040"/>
              <a:chExt cx="4276800" cy="1133640"/>
            </a:xfrm>
          </p:grpSpPr>
          <p:grpSp>
            <p:nvGrpSpPr>
              <p:cNvPr id="233" name=""/>
              <p:cNvGrpSpPr/>
              <p:nvPr/>
            </p:nvGrpSpPr>
            <p:grpSpPr>
              <a:xfrm>
                <a:off x="4773960" y="1751040"/>
                <a:ext cx="971640" cy="1133640"/>
                <a:chOff x="4773960" y="1751040"/>
                <a:chExt cx="971640" cy="1133640"/>
              </a:xfrm>
            </p:grpSpPr>
            <p:sp>
              <p:nvSpPr>
                <p:cNvPr id="234" name=""/>
                <p:cNvSpPr/>
                <p:nvPr/>
              </p:nvSpPr>
              <p:spPr>
                <a:xfrm>
                  <a:off x="4852800" y="1751040"/>
                  <a:ext cx="892800" cy="1133640"/>
                </a:xfrm>
                <a:custGeom>
                  <a:avLst/>
                  <a:gdLst/>
                  <a:ahLst/>
                  <a:rect l="l" t="t" r="r" b="b"/>
                  <a:pathLst>
                    <a:path w="2577" h="2285">
                      <a:moveTo>
                        <a:pt x="2197" y="2285"/>
                      </a:moveTo>
                      <a:lnTo>
                        <a:pt x="2077" y="2285"/>
                      </a:lnTo>
                      <a:lnTo>
                        <a:pt x="1945" y="2285"/>
                      </a:lnTo>
                      <a:lnTo>
                        <a:pt x="1800" y="2285"/>
                      </a:lnTo>
                      <a:lnTo>
                        <a:pt x="1650" y="2285"/>
                      </a:lnTo>
                      <a:lnTo>
                        <a:pt x="1492" y="2285"/>
                      </a:lnTo>
                      <a:lnTo>
                        <a:pt x="1331" y="2285"/>
                      </a:lnTo>
                      <a:lnTo>
                        <a:pt x="1169" y="2285"/>
                      </a:lnTo>
                      <a:lnTo>
                        <a:pt x="1007" y="2285"/>
                      </a:lnTo>
                      <a:lnTo>
                        <a:pt x="847" y="2285"/>
                      </a:lnTo>
                      <a:lnTo>
                        <a:pt x="695" y="2285"/>
                      </a:lnTo>
                      <a:lnTo>
                        <a:pt x="550" y="2285"/>
                      </a:lnTo>
                      <a:lnTo>
                        <a:pt x="416" y="2285"/>
                      </a:lnTo>
                      <a:lnTo>
                        <a:pt x="292" y="2285"/>
                      </a:lnTo>
                      <a:lnTo>
                        <a:pt x="186" y="2285"/>
                      </a:lnTo>
                      <a:lnTo>
                        <a:pt x="95" y="2285"/>
                      </a:lnTo>
                      <a:lnTo>
                        <a:pt x="25" y="2285"/>
                      </a:lnTo>
                      <a:lnTo>
                        <a:pt x="36" y="2272"/>
                      </a:lnTo>
                      <a:lnTo>
                        <a:pt x="53" y="2227"/>
                      </a:lnTo>
                      <a:lnTo>
                        <a:pt x="71" y="2172"/>
                      </a:lnTo>
                      <a:lnTo>
                        <a:pt x="94" y="2110"/>
                      </a:lnTo>
                      <a:lnTo>
                        <a:pt x="117" y="2039"/>
                      </a:lnTo>
                      <a:lnTo>
                        <a:pt x="144" y="1966"/>
                      </a:lnTo>
                      <a:lnTo>
                        <a:pt x="171" y="1891"/>
                      </a:lnTo>
                      <a:lnTo>
                        <a:pt x="198" y="1816"/>
                      </a:lnTo>
                      <a:lnTo>
                        <a:pt x="224" y="1740"/>
                      </a:lnTo>
                      <a:lnTo>
                        <a:pt x="248" y="1670"/>
                      </a:lnTo>
                      <a:lnTo>
                        <a:pt x="271" y="1604"/>
                      </a:lnTo>
                      <a:lnTo>
                        <a:pt x="292" y="1548"/>
                      </a:lnTo>
                      <a:lnTo>
                        <a:pt x="309" y="1499"/>
                      </a:lnTo>
                      <a:lnTo>
                        <a:pt x="322" y="1462"/>
                      </a:lnTo>
                      <a:lnTo>
                        <a:pt x="330" y="1439"/>
                      </a:lnTo>
                      <a:lnTo>
                        <a:pt x="334" y="1431"/>
                      </a:lnTo>
                      <a:lnTo>
                        <a:pt x="0" y="1273"/>
                      </a:lnTo>
                      <a:lnTo>
                        <a:pt x="258" y="0"/>
                      </a:lnTo>
                      <a:lnTo>
                        <a:pt x="1572" y="260"/>
                      </a:lnTo>
                      <a:lnTo>
                        <a:pt x="2577" y="659"/>
                      </a:lnTo>
                      <a:lnTo>
                        <a:pt x="2119" y="951"/>
                      </a:lnTo>
                      <a:lnTo>
                        <a:pt x="2119" y="963"/>
                      </a:lnTo>
                      <a:lnTo>
                        <a:pt x="2121" y="998"/>
                      </a:lnTo>
                      <a:lnTo>
                        <a:pt x="2125" y="1052"/>
                      </a:lnTo>
                      <a:lnTo>
                        <a:pt x="2129" y="1125"/>
                      </a:lnTo>
                      <a:lnTo>
                        <a:pt x="2133" y="1209"/>
                      </a:lnTo>
                      <a:lnTo>
                        <a:pt x="2139" y="1309"/>
                      </a:lnTo>
                      <a:lnTo>
                        <a:pt x="2145" y="1414"/>
                      </a:lnTo>
                      <a:lnTo>
                        <a:pt x="2152" y="1529"/>
                      </a:lnTo>
                      <a:lnTo>
                        <a:pt x="2158" y="1643"/>
                      </a:lnTo>
                      <a:lnTo>
                        <a:pt x="2165" y="1759"/>
                      </a:lnTo>
                      <a:lnTo>
                        <a:pt x="2172" y="1873"/>
                      </a:lnTo>
                      <a:lnTo>
                        <a:pt x="2179" y="1981"/>
                      </a:lnTo>
                      <a:lnTo>
                        <a:pt x="2183" y="2080"/>
                      </a:lnTo>
                      <a:lnTo>
                        <a:pt x="2189" y="2171"/>
                      </a:lnTo>
                      <a:lnTo>
                        <a:pt x="2194" y="2246"/>
                      </a:lnTo>
                      <a:lnTo>
                        <a:pt x="2197" y="2285"/>
                      </a:lnTo>
                      <a:lnTo>
                        <a:pt x="2197" y="2285"/>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5" name=""/>
                <p:cNvSpPr/>
                <p:nvPr/>
              </p:nvSpPr>
              <p:spPr>
                <a:xfrm>
                  <a:off x="4904640" y="1841760"/>
                  <a:ext cx="715320" cy="1042560"/>
                </a:xfrm>
                <a:custGeom>
                  <a:avLst/>
                  <a:gdLst/>
                  <a:ahLst/>
                  <a:rect l="l" t="t" r="r" b="b"/>
                  <a:pathLst>
                    <a:path w="2062" h="2100">
                      <a:moveTo>
                        <a:pt x="1996" y="2100"/>
                      </a:moveTo>
                      <a:lnTo>
                        <a:pt x="1886" y="2100"/>
                      </a:lnTo>
                      <a:lnTo>
                        <a:pt x="1769" y="2100"/>
                      </a:lnTo>
                      <a:lnTo>
                        <a:pt x="1642" y="2100"/>
                      </a:lnTo>
                      <a:lnTo>
                        <a:pt x="1511" y="2100"/>
                      </a:lnTo>
                      <a:lnTo>
                        <a:pt x="1374" y="2100"/>
                      </a:lnTo>
                      <a:lnTo>
                        <a:pt x="1234" y="2100"/>
                      </a:lnTo>
                      <a:lnTo>
                        <a:pt x="1092" y="2100"/>
                      </a:lnTo>
                      <a:lnTo>
                        <a:pt x="952" y="2100"/>
                      </a:lnTo>
                      <a:lnTo>
                        <a:pt x="811" y="2100"/>
                      </a:lnTo>
                      <a:lnTo>
                        <a:pt x="674" y="2100"/>
                      </a:lnTo>
                      <a:lnTo>
                        <a:pt x="541" y="2100"/>
                      </a:lnTo>
                      <a:lnTo>
                        <a:pt x="415" y="2100"/>
                      </a:lnTo>
                      <a:lnTo>
                        <a:pt x="296" y="2100"/>
                      </a:lnTo>
                      <a:lnTo>
                        <a:pt x="186" y="2100"/>
                      </a:lnTo>
                      <a:lnTo>
                        <a:pt x="86" y="2100"/>
                      </a:lnTo>
                      <a:lnTo>
                        <a:pt x="0" y="2100"/>
                      </a:lnTo>
                      <a:lnTo>
                        <a:pt x="9" y="2091"/>
                      </a:lnTo>
                      <a:lnTo>
                        <a:pt x="23" y="2056"/>
                      </a:lnTo>
                      <a:lnTo>
                        <a:pt x="37" y="2014"/>
                      </a:lnTo>
                      <a:lnTo>
                        <a:pt x="53" y="1968"/>
                      </a:lnTo>
                      <a:lnTo>
                        <a:pt x="72" y="1918"/>
                      </a:lnTo>
                      <a:lnTo>
                        <a:pt x="90" y="1865"/>
                      </a:lnTo>
                      <a:lnTo>
                        <a:pt x="110" y="1812"/>
                      </a:lnTo>
                      <a:lnTo>
                        <a:pt x="129" y="1759"/>
                      </a:lnTo>
                      <a:lnTo>
                        <a:pt x="147" y="1707"/>
                      </a:lnTo>
                      <a:lnTo>
                        <a:pt x="165" y="1658"/>
                      </a:lnTo>
                      <a:lnTo>
                        <a:pt x="181" y="1613"/>
                      </a:lnTo>
                      <a:lnTo>
                        <a:pt x="197" y="1574"/>
                      </a:lnTo>
                      <a:lnTo>
                        <a:pt x="208" y="1540"/>
                      </a:lnTo>
                      <a:lnTo>
                        <a:pt x="217" y="1516"/>
                      </a:lnTo>
                      <a:lnTo>
                        <a:pt x="222" y="1500"/>
                      </a:lnTo>
                      <a:lnTo>
                        <a:pt x="225" y="1495"/>
                      </a:lnTo>
                      <a:lnTo>
                        <a:pt x="249" y="574"/>
                      </a:lnTo>
                      <a:lnTo>
                        <a:pt x="818" y="0"/>
                      </a:lnTo>
                      <a:lnTo>
                        <a:pt x="2062" y="472"/>
                      </a:lnTo>
                      <a:lnTo>
                        <a:pt x="1784" y="978"/>
                      </a:lnTo>
                      <a:lnTo>
                        <a:pt x="1874" y="1167"/>
                      </a:lnTo>
                      <a:lnTo>
                        <a:pt x="1874" y="1174"/>
                      </a:lnTo>
                      <a:lnTo>
                        <a:pt x="1878" y="1198"/>
                      </a:lnTo>
                      <a:lnTo>
                        <a:pt x="1884" y="1236"/>
                      </a:lnTo>
                      <a:lnTo>
                        <a:pt x="1890" y="1286"/>
                      </a:lnTo>
                      <a:lnTo>
                        <a:pt x="1896" y="1345"/>
                      </a:lnTo>
                      <a:lnTo>
                        <a:pt x="1906" y="1413"/>
                      </a:lnTo>
                      <a:lnTo>
                        <a:pt x="1914" y="1486"/>
                      </a:lnTo>
                      <a:lnTo>
                        <a:pt x="1925" y="1565"/>
                      </a:lnTo>
                      <a:lnTo>
                        <a:pt x="1935" y="1644"/>
                      </a:lnTo>
                      <a:lnTo>
                        <a:pt x="1945" y="1726"/>
                      </a:lnTo>
                      <a:lnTo>
                        <a:pt x="1955" y="1805"/>
                      </a:lnTo>
                      <a:lnTo>
                        <a:pt x="1965" y="1883"/>
                      </a:lnTo>
                      <a:lnTo>
                        <a:pt x="1975" y="1953"/>
                      </a:lnTo>
                      <a:lnTo>
                        <a:pt x="1983" y="2019"/>
                      </a:lnTo>
                      <a:lnTo>
                        <a:pt x="1989" y="2074"/>
                      </a:lnTo>
                      <a:lnTo>
                        <a:pt x="1996" y="2100"/>
                      </a:lnTo>
                      <a:lnTo>
                        <a:pt x="1996" y="210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6" name=""/>
                <p:cNvSpPr/>
                <p:nvPr/>
              </p:nvSpPr>
              <p:spPr>
                <a:xfrm>
                  <a:off x="4951440" y="1926360"/>
                  <a:ext cx="614160" cy="957960"/>
                </a:xfrm>
                <a:custGeom>
                  <a:avLst/>
                  <a:gdLst/>
                  <a:ahLst/>
                  <a:rect l="l" t="t" r="r" b="b"/>
                  <a:pathLst>
                    <a:path w="1771" h="1931">
                      <a:moveTo>
                        <a:pt x="1771" y="1931"/>
                      </a:moveTo>
                      <a:lnTo>
                        <a:pt x="1671" y="1931"/>
                      </a:lnTo>
                      <a:lnTo>
                        <a:pt x="1566" y="1931"/>
                      </a:lnTo>
                      <a:lnTo>
                        <a:pt x="1455" y="1931"/>
                      </a:lnTo>
                      <a:lnTo>
                        <a:pt x="1342" y="1931"/>
                      </a:lnTo>
                      <a:lnTo>
                        <a:pt x="1223" y="1931"/>
                      </a:lnTo>
                      <a:lnTo>
                        <a:pt x="1104" y="1931"/>
                      </a:lnTo>
                      <a:lnTo>
                        <a:pt x="983" y="1931"/>
                      </a:lnTo>
                      <a:lnTo>
                        <a:pt x="863" y="1931"/>
                      </a:lnTo>
                      <a:lnTo>
                        <a:pt x="742" y="1931"/>
                      </a:lnTo>
                      <a:lnTo>
                        <a:pt x="623" y="1931"/>
                      </a:lnTo>
                      <a:lnTo>
                        <a:pt x="506" y="1931"/>
                      </a:lnTo>
                      <a:lnTo>
                        <a:pt x="395" y="1931"/>
                      </a:lnTo>
                      <a:lnTo>
                        <a:pt x="286" y="1931"/>
                      </a:lnTo>
                      <a:lnTo>
                        <a:pt x="184" y="1931"/>
                      </a:lnTo>
                      <a:lnTo>
                        <a:pt x="88" y="1931"/>
                      </a:lnTo>
                      <a:lnTo>
                        <a:pt x="0" y="1931"/>
                      </a:lnTo>
                      <a:lnTo>
                        <a:pt x="5" y="1912"/>
                      </a:lnTo>
                      <a:lnTo>
                        <a:pt x="17" y="1863"/>
                      </a:lnTo>
                      <a:lnTo>
                        <a:pt x="28" y="1802"/>
                      </a:lnTo>
                      <a:lnTo>
                        <a:pt x="42" y="1731"/>
                      </a:lnTo>
                      <a:lnTo>
                        <a:pt x="57" y="1653"/>
                      </a:lnTo>
                      <a:lnTo>
                        <a:pt x="74" y="1570"/>
                      </a:lnTo>
                      <a:lnTo>
                        <a:pt x="90" y="1485"/>
                      </a:lnTo>
                      <a:lnTo>
                        <a:pt x="109" y="1400"/>
                      </a:lnTo>
                      <a:lnTo>
                        <a:pt x="124" y="1314"/>
                      </a:lnTo>
                      <a:lnTo>
                        <a:pt x="140" y="1234"/>
                      </a:lnTo>
                      <a:lnTo>
                        <a:pt x="154" y="1160"/>
                      </a:lnTo>
                      <a:lnTo>
                        <a:pt x="168" y="1095"/>
                      </a:lnTo>
                      <a:lnTo>
                        <a:pt x="178" y="1040"/>
                      </a:lnTo>
                      <a:lnTo>
                        <a:pt x="186" y="999"/>
                      </a:lnTo>
                      <a:lnTo>
                        <a:pt x="191" y="971"/>
                      </a:lnTo>
                      <a:lnTo>
                        <a:pt x="194" y="963"/>
                      </a:lnTo>
                      <a:lnTo>
                        <a:pt x="126" y="638"/>
                      </a:lnTo>
                      <a:lnTo>
                        <a:pt x="477" y="83"/>
                      </a:lnTo>
                      <a:lnTo>
                        <a:pt x="1064" y="0"/>
                      </a:lnTo>
                      <a:lnTo>
                        <a:pt x="1639" y="425"/>
                      </a:lnTo>
                      <a:lnTo>
                        <a:pt x="1575" y="1233"/>
                      </a:lnTo>
                      <a:lnTo>
                        <a:pt x="1576" y="1238"/>
                      </a:lnTo>
                      <a:lnTo>
                        <a:pt x="1581" y="1255"/>
                      </a:lnTo>
                      <a:lnTo>
                        <a:pt x="1589" y="1284"/>
                      </a:lnTo>
                      <a:lnTo>
                        <a:pt x="1599" y="1323"/>
                      </a:lnTo>
                      <a:lnTo>
                        <a:pt x="1611" y="1368"/>
                      </a:lnTo>
                      <a:lnTo>
                        <a:pt x="1626" y="1419"/>
                      </a:lnTo>
                      <a:lnTo>
                        <a:pt x="1640" y="1474"/>
                      </a:lnTo>
                      <a:lnTo>
                        <a:pt x="1658" y="1535"/>
                      </a:lnTo>
                      <a:lnTo>
                        <a:pt x="1673" y="1595"/>
                      </a:lnTo>
                      <a:lnTo>
                        <a:pt x="1690" y="1656"/>
                      </a:lnTo>
                      <a:lnTo>
                        <a:pt x="1706" y="1716"/>
                      </a:lnTo>
                      <a:lnTo>
                        <a:pt x="1723" y="1774"/>
                      </a:lnTo>
                      <a:lnTo>
                        <a:pt x="1737" y="1827"/>
                      </a:lnTo>
                      <a:lnTo>
                        <a:pt x="1751" y="1876"/>
                      </a:lnTo>
                      <a:lnTo>
                        <a:pt x="1761" y="1917"/>
                      </a:lnTo>
                      <a:lnTo>
                        <a:pt x="1771" y="1931"/>
                      </a:lnTo>
                      <a:lnTo>
                        <a:pt x="1771" y="1931"/>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7" name=""/>
                <p:cNvSpPr/>
                <p:nvPr/>
              </p:nvSpPr>
              <p:spPr>
                <a:xfrm>
                  <a:off x="4973400" y="1951920"/>
                  <a:ext cx="538560" cy="932400"/>
                </a:xfrm>
                <a:custGeom>
                  <a:avLst/>
                  <a:gdLst/>
                  <a:ahLst/>
                  <a:rect l="l" t="t" r="r" b="b"/>
                  <a:pathLst>
                    <a:path w="1555" h="1878">
                      <a:moveTo>
                        <a:pt x="1555" y="1878"/>
                      </a:moveTo>
                      <a:lnTo>
                        <a:pt x="1461" y="1878"/>
                      </a:lnTo>
                      <a:lnTo>
                        <a:pt x="1365" y="1878"/>
                      </a:lnTo>
                      <a:lnTo>
                        <a:pt x="1266" y="1878"/>
                      </a:lnTo>
                      <a:lnTo>
                        <a:pt x="1166" y="1878"/>
                      </a:lnTo>
                      <a:lnTo>
                        <a:pt x="1062" y="1878"/>
                      </a:lnTo>
                      <a:lnTo>
                        <a:pt x="959" y="1878"/>
                      </a:lnTo>
                      <a:lnTo>
                        <a:pt x="854" y="1878"/>
                      </a:lnTo>
                      <a:lnTo>
                        <a:pt x="751" y="1878"/>
                      </a:lnTo>
                      <a:lnTo>
                        <a:pt x="647" y="1878"/>
                      </a:lnTo>
                      <a:lnTo>
                        <a:pt x="546" y="1878"/>
                      </a:lnTo>
                      <a:lnTo>
                        <a:pt x="445" y="1878"/>
                      </a:lnTo>
                      <a:lnTo>
                        <a:pt x="349" y="1878"/>
                      </a:lnTo>
                      <a:lnTo>
                        <a:pt x="254" y="1878"/>
                      </a:lnTo>
                      <a:lnTo>
                        <a:pt x="164" y="1878"/>
                      </a:lnTo>
                      <a:lnTo>
                        <a:pt x="79" y="1878"/>
                      </a:lnTo>
                      <a:lnTo>
                        <a:pt x="0" y="1878"/>
                      </a:lnTo>
                      <a:lnTo>
                        <a:pt x="8" y="1870"/>
                      </a:lnTo>
                      <a:lnTo>
                        <a:pt x="20" y="1836"/>
                      </a:lnTo>
                      <a:lnTo>
                        <a:pt x="34" y="1793"/>
                      </a:lnTo>
                      <a:lnTo>
                        <a:pt x="52" y="1744"/>
                      </a:lnTo>
                      <a:lnTo>
                        <a:pt x="70" y="1688"/>
                      </a:lnTo>
                      <a:lnTo>
                        <a:pt x="91" y="1630"/>
                      </a:lnTo>
                      <a:lnTo>
                        <a:pt x="112" y="1571"/>
                      </a:lnTo>
                      <a:lnTo>
                        <a:pt x="133" y="1512"/>
                      </a:lnTo>
                      <a:lnTo>
                        <a:pt x="153" y="1453"/>
                      </a:lnTo>
                      <a:lnTo>
                        <a:pt x="172" y="1397"/>
                      </a:lnTo>
                      <a:lnTo>
                        <a:pt x="190" y="1345"/>
                      </a:lnTo>
                      <a:lnTo>
                        <a:pt x="206" y="1301"/>
                      </a:lnTo>
                      <a:lnTo>
                        <a:pt x="219" y="1262"/>
                      </a:lnTo>
                      <a:lnTo>
                        <a:pt x="230" y="1233"/>
                      </a:lnTo>
                      <a:lnTo>
                        <a:pt x="237" y="1214"/>
                      </a:lnTo>
                      <a:lnTo>
                        <a:pt x="239" y="1209"/>
                      </a:lnTo>
                      <a:lnTo>
                        <a:pt x="151" y="762"/>
                      </a:lnTo>
                      <a:lnTo>
                        <a:pt x="310" y="238"/>
                      </a:lnTo>
                      <a:lnTo>
                        <a:pt x="837" y="0"/>
                      </a:lnTo>
                      <a:lnTo>
                        <a:pt x="1519" y="634"/>
                      </a:lnTo>
                      <a:lnTo>
                        <a:pt x="1408" y="880"/>
                      </a:lnTo>
                      <a:lnTo>
                        <a:pt x="1409" y="889"/>
                      </a:lnTo>
                      <a:lnTo>
                        <a:pt x="1414" y="915"/>
                      </a:lnTo>
                      <a:lnTo>
                        <a:pt x="1419" y="958"/>
                      </a:lnTo>
                      <a:lnTo>
                        <a:pt x="1428" y="1014"/>
                      </a:lnTo>
                      <a:lnTo>
                        <a:pt x="1437" y="1080"/>
                      </a:lnTo>
                      <a:lnTo>
                        <a:pt x="1448" y="1156"/>
                      </a:lnTo>
                      <a:lnTo>
                        <a:pt x="1460" y="1237"/>
                      </a:lnTo>
                      <a:lnTo>
                        <a:pt x="1473" y="1324"/>
                      </a:lnTo>
                      <a:lnTo>
                        <a:pt x="1484" y="1411"/>
                      </a:lnTo>
                      <a:lnTo>
                        <a:pt x="1496" y="1499"/>
                      </a:lnTo>
                      <a:lnTo>
                        <a:pt x="1509" y="1584"/>
                      </a:lnTo>
                      <a:lnTo>
                        <a:pt x="1521" y="1665"/>
                      </a:lnTo>
                      <a:lnTo>
                        <a:pt x="1531" y="1738"/>
                      </a:lnTo>
                      <a:lnTo>
                        <a:pt x="1540" y="1803"/>
                      </a:lnTo>
                      <a:lnTo>
                        <a:pt x="1549" y="1857"/>
                      </a:lnTo>
                      <a:lnTo>
                        <a:pt x="1555" y="1878"/>
                      </a:lnTo>
                      <a:lnTo>
                        <a:pt x="1555" y="1878"/>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8" name=""/>
                <p:cNvSpPr/>
                <p:nvPr/>
              </p:nvSpPr>
              <p:spPr>
                <a:xfrm>
                  <a:off x="5000400" y="1977120"/>
                  <a:ext cx="462600" cy="907200"/>
                </a:xfrm>
                <a:custGeom>
                  <a:avLst/>
                  <a:gdLst/>
                  <a:ahLst/>
                  <a:rect l="l" t="t" r="r" b="b"/>
                  <a:pathLst>
                    <a:path w="1335" h="1828">
                      <a:moveTo>
                        <a:pt x="1335" y="1828"/>
                      </a:moveTo>
                      <a:lnTo>
                        <a:pt x="1251" y="1828"/>
                      </a:lnTo>
                      <a:lnTo>
                        <a:pt x="1168" y="1828"/>
                      </a:lnTo>
                      <a:lnTo>
                        <a:pt x="1081" y="1828"/>
                      </a:lnTo>
                      <a:lnTo>
                        <a:pt x="995" y="1828"/>
                      </a:lnTo>
                      <a:lnTo>
                        <a:pt x="907" y="1828"/>
                      </a:lnTo>
                      <a:lnTo>
                        <a:pt x="819" y="1828"/>
                      </a:lnTo>
                      <a:lnTo>
                        <a:pt x="732" y="1828"/>
                      </a:lnTo>
                      <a:lnTo>
                        <a:pt x="645" y="1828"/>
                      </a:lnTo>
                      <a:lnTo>
                        <a:pt x="557" y="1828"/>
                      </a:lnTo>
                      <a:lnTo>
                        <a:pt x="472" y="1828"/>
                      </a:lnTo>
                      <a:lnTo>
                        <a:pt x="387" y="1828"/>
                      </a:lnTo>
                      <a:lnTo>
                        <a:pt x="305" y="1828"/>
                      </a:lnTo>
                      <a:lnTo>
                        <a:pt x="224" y="1828"/>
                      </a:lnTo>
                      <a:lnTo>
                        <a:pt x="146" y="1828"/>
                      </a:lnTo>
                      <a:lnTo>
                        <a:pt x="70" y="1828"/>
                      </a:lnTo>
                      <a:lnTo>
                        <a:pt x="0" y="1828"/>
                      </a:lnTo>
                      <a:lnTo>
                        <a:pt x="15" y="1816"/>
                      </a:lnTo>
                      <a:lnTo>
                        <a:pt x="36" y="1776"/>
                      </a:lnTo>
                      <a:lnTo>
                        <a:pt x="59" y="1730"/>
                      </a:lnTo>
                      <a:lnTo>
                        <a:pt x="86" y="1680"/>
                      </a:lnTo>
                      <a:lnTo>
                        <a:pt x="115" y="1623"/>
                      </a:lnTo>
                      <a:lnTo>
                        <a:pt x="146" y="1566"/>
                      </a:lnTo>
                      <a:lnTo>
                        <a:pt x="177" y="1505"/>
                      </a:lnTo>
                      <a:lnTo>
                        <a:pt x="209" y="1446"/>
                      </a:lnTo>
                      <a:lnTo>
                        <a:pt x="238" y="1388"/>
                      </a:lnTo>
                      <a:lnTo>
                        <a:pt x="267" y="1332"/>
                      </a:lnTo>
                      <a:lnTo>
                        <a:pt x="294" y="1281"/>
                      </a:lnTo>
                      <a:lnTo>
                        <a:pt x="318" y="1237"/>
                      </a:lnTo>
                      <a:lnTo>
                        <a:pt x="337" y="1199"/>
                      </a:lnTo>
                      <a:lnTo>
                        <a:pt x="353" y="1172"/>
                      </a:lnTo>
                      <a:lnTo>
                        <a:pt x="362" y="1153"/>
                      </a:lnTo>
                      <a:lnTo>
                        <a:pt x="365" y="1148"/>
                      </a:lnTo>
                      <a:lnTo>
                        <a:pt x="161" y="1005"/>
                      </a:lnTo>
                      <a:lnTo>
                        <a:pt x="214" y="376"/>
                      </a:lnTo>
                      <a:lnTo>
                        <a:pt x="537" y="182"/>
                      </a:lnTo>
                      <a:lnTo>
                        <a:pt x="660" y="0"/>
                      </a:lnTo>
                      <a:lnTo>
                        <a:pt x="1066" y="259"/>
                      </a:lnTo>
                      <a:lnTo>
                        <a:pt x="1324" y="570"/>
                      </a:lnTo>
                      <a:lnTo>
                        <a:pt x="1224" y="1159"/>
                      </a:lnTo>
                      <a:lnTo>
                        <a:pt x="1317" y="1269"/>
                      </a:lnTo>
                      <a:lnTo>
                        <a:pt x="1317" y="1274"/>
                      </a:lnTo>
                      <a:lnTo>
                        <a:pt x="1317" y="1291"/>
                      </a:lnTo>
                      <a:lnTo>
                        <a:pt x="1318" y="1314"/>
                      </a:lnTo>
                      <a:lnTo>
                        <a:pt x="1319" y="1348"/>
                      </a:lnTo>
                      <a:lnTo>
                        <a:pt x="1320" y="1386"/>
                      </a:lnTo>
                      <a:lnTo>
                        <a:pt x="1322" y="1430"/>
                      </a:lnTo>
                      <a:lnTo>
                        <a:pt x="1323" y="1477"/>
                      </a:lnTo>
                      <a:lnTo>
                        <a:pt x="1325" y="1527"/>
                      </a:lnTo>
                      <a:lnTo>
                        <a:pt x="1326" y="1577"/>
                      </a:lnTo>
                      <a:lnTo>
                        <a:pt x="1327" y="1626"/>
                      </a:lnTo>
                      <a:lnTo>
                        <a:pt x="1328" y="1675"/>
                      </a:lnTo>
                      <a:lnTo>
                        <a:pt x="1330" y="1721"/>
                      </a:lnTo>
                      <a:lnTo>
                        <a:pt x="1331" y="1762"/>
                      </a:lnTo>
                      <a:lnTo>
                        <a:pt x="1332" y="1798"/>
                      </a:lnTo>
                      <a:lnTo>
                        <a:pt x="1334" y="1826"/>
                      </a:lnTo>
                      <a:lnTo>
                        <a:pt x="1335" y="1828"/>
                      </a:lnTo>
                      <a:lnTo>
                        <a:pt x="1335" y="1828"/>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9" name=""/>
                <p:cNvSpPr/>
                <p:nvPr/>
              </p:nvSpPr>
              <p:spPr>
                <a:xfrm>
                  <a:off x="5031360" y="2029680"/>
                  <a:ext cx="408600" cy="854640"/>
                </a:xfrm>
                <a:custGeom>
                  <a:avLst/>
                  <a:gdLst/>
                  <a:ahLst/>
                  <a:rect l="l" t="t" r="r" b="b"/>
                  <a:pathLst>
                    <a:path w="1180" h="1722">
                      <a:moveTo>
                        <a:pt x="0" y="1722"/>
                      </a:moveTo>
                      <a:lnTo>
                        <a:pt x="1104" y="1722"/>
                      </a:lnTo>
                      <a:lnTo>
                        <a:pt x="1180" y="1357"/>
                      </a:lnTo>
                      <a:lnTo>
                        <a:pt x="1050" y="925"/>
                      </a:lnTo>
                      <a:lnTo>
                        <a:pt x="1134" y="912"/>
                      </a:lnTo>
                      <a:lnTo>
                        <a:pt x="1163" y="413"/>
                      </a:lnTo>
                      <a:lnTo>
                        <a:pt x="781" y="137"/>
                      </a:lnTo>
                      <a:lnTo>
                        <a:pt x="804" y="82"/>
                      </a:lnTo>
                      <a:lnTo>
                        <a:pt x="534" y="0"/>
                      </a:lnTo>
                      <a:lnTo>
                        <a:pt x="464" y="188"/>
                      </a:lnTo>
                      <a:lnTo>
                        <a:pt x="153" y="377"/>
                      </a:lnTo>
                      <a:lnTo>
                        <a:pt x="117" y="724"/>
                      </a:lnTo>
                      <a:lnTo>
                        <a:pt x="177" y="942"/>
                      </a:lnTo>
                      <a:lnTo>
                        <a:pt x="376" y="884"/>
                      </a:lnTo>
                      <a:lnTo>
                        <a:pt x="177" y="1413"/>
                      </a:lnTo>
                      <a:lnTo>
                        <a:pt x="71" y="1483"/>
                      </a:lnTo>
                      <a:lnTo>
                        <a:pt x="0" y="1722"/>
                      </a:lnTo>
                      <a:lnTo>
                        <a:pt x="0" y="17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0" name=""/>
                <p:cNvSpPr/>
                <p:nvPr/>
              </p:nvSpPr>
              <p:spPr>
                <a:xfrm>
                  <a:off x="5254200" y="2358720"/>
                  <a:ext cx="121320" cy="525600"/>
                </a:xfrm>
                <a:custGeom>
                  <a:avLst/>
                  <a:gdLst/>
                  <a:ahLst/>
                  <a:rect l="l" t="t" r="r" b="b"/>
                  <a:pathLst>
                    <a:path w="351" h="1060">
                      <a:moveTo>
                        <a:pt x="57" y="292"/>
                      </a:moveTo>
                      <a:lnTo>
                        <a:pt x="52" y="0"/>
                      </a:lnTo>
                      <a:lnTo>
                        <a:pt x="351" y="591"/>
                      </a:lnTo>
                      <a:lnTo>
                        <a:pt x="348" y="595"/>
                      </a:lnTo>
                      <a:lnTo>
                        <a:pt x="341" y="608"/>
                      </a:lnTo>
                      <a:lnTo>
                        <a:pt x="330" y="629"/>
                      </a:lnTo>
                      <a:lnTo>
                        <a:pt x="316" y="658"/>
                      </a:lnTo>
                      <a:lnTo>
                        <a:pt x="299" y="689"/>
                      </a:lnTo>
                      <a:lnTo>
                        <a:pt x="279" y="726"/>
                      </a:lnTo>
                      <a:lnTo>
                        <a:pt x="258" y="765"/>
                      </a:lnTo>
                      <a:lnTo>
                        <a:pt x="238" y="808"/>
                      </a:lnTo>
                      <a:lnTo>
                        <a:pt x="214" y="850"/>
                      </a:lnTo>
                      <a:lnTo>
                        <a:pt x="193" y="892"/>
                      </a:lnTo>
                      <a:lnTo>
                        <a:pt x="170" y="933"/>
                      </a:lnTo>
                      <a:lnTo>
                        <a:pt x="152" y="971"/>
                      </a:lnTo>
                      <a:lnTo>
                        <a:pt x="132" y="1005"/>
                      </a:lnTo>
                      <a:lnTo>
                        <a:pt x="118" y="1035"/>
                      </a:lnTo>
                      <a:lnTo>
                        <a:pt x="105" y="1058"/>
                      </a:lnTo>
                      <a:lnTo>
                        <a:pt x="95" y="1060"/>
                      </a:lnTo>
                      <a:lnTo>
                        <a:pt x="89" y="1060"/>
                      </a:lnTo>
                      <a:lnTo>
                        <a:pt x="84" y="1060"/>
                      </a:lnTo>
                      <a:lnTo>
                        <a:pt x="77" y="1060"/>
                      </a:lnTo>
                      <a:lnTo>
                        <a:pt x="72" y="1060"/>
                      </a:lnTo>
                      <a:lnTo>
                        <a:pt x="65" y="1060"/>
                      </a:lnTo>
                      <a:lnTo>
                        <a:pt x="60" y="1060"/>
                      </a:lnTo>
                      <a:lnTo>
                        <a:pt x="54" y="1060"/>
                      </a:lnTo>
                      <a:lnTo>
                        <a:pt x="48" y="1060"/>
                      </a:lnTo>
                      <a:lnTo>
                        <a:pt x="41" y="1060"/>
                      </a:lnTo>
                      <a:lnTo>
                        <a:pt x="35" y="1060"/>
                      </a:lnTo>
                      <a:lnTo>
                        <a:pt x="28" y="1060"/>
                      </a:lnTo>
                      <a:lnTo>
                        <a:pt x="23" y="1060"/>
                      </a:lnTo>
                      <a:lnTo>
                        <a:pt x="17" y="1060"/>
                      </a:lnTo>
                      <a:lnTo>
                        <a:pt x="12" y="1060"/>
                      </a:lnTo>
                      <a:lnTo>
                        <a:pt x="5" y="1060"/>
                      </a:lnTo>
                      <a:lnTo>
                        <a:pt x="0" y="1060"/>
                      </a:lnTo>
                      <a:lnTo>
                        <a:pt x="3" y="1060"/>
                      </a:lnTo>
                      <a:lnTo>
                        <a:pt x="9" y="1043"/>
                      </a:lnTo>
                      <a:lnTo>
                        <a:pt x="16" y="1017"/>
                      </a:lnTo>
                      <a:lnTo>
                        <a:pt x="27" y="985"/>
                      </a:lnTo>
                      <a:lnTo>
                        <a:pt x="37" y="948"/>
                      </a:lnTo>
                      <a:lnTo>
                        <a:pt x="49" y="910"/>
                      </a:lnTo>
                      <a:lnTo>
                        <a:pt x="62" y="869"/>
                      </a:lnTo>
                      <a:lnTo>
                        <a:pt x="74" y="829"/>
                      </a:lnTo>
                      <a:lnTo>
                        <a:pt x="85" y="787"/>
                      </a:lnTo>
                      <a:lnTo>
                        <a:pt x="97" y="750"/>
                      </a:lnTo>
                      <a:lnTo>
                        <a:pt x="109" y="713"/>
                      </a:lnTo>
                      <a:lnTo>
                        <a:pt x="119" y="682"/>
                      </a:lnTo>
                      <a:lnTo>
                        <a:pt x="127" y="653"/>
                      </a:lnTo>
                      <a:lnTo>
                        <a:pt x="133" y="633"/>
                      </a:lnTo>
                      <a:lnTo>
                        <a:pt x="138" y="620"/>
                      </a:lnTo>
                      <a:lnTo>
                        <a:pt x="140" y="616"/>
                      </a:lnTo>
                      <a:lnTo>
                        <a:pt x="57" y="292"/>
                      </a:lnTo>
                      <a:lnTo>
                        <a:pt x="57" y="292"/>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1" name=""/>
                <p:cNvSpPr/>
                <p:nvPr/>
              </p:nvSpPr>
              <p:spPr>
                <a:xfrm>
                  <a:off x="5267520" y="2269440"/>
                  <a:ext cx="112320" cy="614880"/>
                </a:xfrm>
                <a:custGeom>
                  <a:avLst/>
                  <a:gdLst/>
                  <a:ahLst/>
                  <a:rect l="l" t="t" r="r" b="b"/>
                  <a:pathLst>
                    <a:path w="323" h="1239">
                      <a:moveTo>
                        <a:pt x="31" y="302"/>
                      </a:moveTo>
                      <a:lnTo>
                        <a:pt x="31" y="0"/>
                      </a:lnTo>
                      <a:lnTo>
                        <a:pt x="306" y="672"/>
                      </a:lnTo>
                      <a:lnTo>
                        <a:pt x="323" y="1030"/>
                      </a:lnTo>
                      <a:lnTo>
                        <a:pt x="321" y="1032"/>
                      </a:lnTo>
                      <a:lnTo>
                        <a:pt x="317" y="1038"/>
                      </a:lnTo>
                      <a:lnTo>
                        <a:pt x="308" y="1047"/>
                      </a:lnTo>
                      <a:lnTo>
                        <a:pt x="300" y="1061"/>
                      </a:lnTo>
                      <a:lnTo>
                        <a:pt x="287" y="1075"/>
                      </a:lnTo>
                      <a:lnTo>
                        <a:pt x="275" y="1092"/>
                      </a:lnTo>
                      <a:lnTo>
                        <a:pt x="261" y="1112"/>
                      </a:lnTo>
                      <a:lnTo>
                        <a:pt x="249" y="1131"/>
                      </a:lnTo>
                      <a:lnTo>
                        <a:pt x="233" y="1151"/>
                      </a:lnTo>
                      <a:lnTo>
                        <a:pt x="218" y="1171"/>
                      </a:lnTo>
                      <a:lnTo>
                        <a:pt x="205" y="1188"/>
                      </a:lnTo>
                      <a:lnTo>
                        <a:pt x="192" y="1207"/>
                      </a:lnTo>
                      <a:lnTo>
                        <a:pt x="180" y="1222"/>
                      </a:lnTo>
                      <a:lnTo>
                        <a:pt x="170" y="1236"/>
                      </a:lnTo>
                      <a:lnTo>
                        <a:pt x="161" y="1239"/>
                      </a:lnTo>
                      <a:lnTo>
                        <a:pt x="157" y="1239"/>
                      </a:lnTo>
                      <a:lnTo>
                        <a:pt x="146" y="1239"/>
                      </a:lnTo>
                      <a:lnTo>
                        <a:pt x="137" y="1239"/>
                      </a:lnTo>
                      <a:lnTo>
                        <a:pt x="127" y="1239"/>
                      </a:lnTo>
                      <a:lnTo>
                        <a:pt x="119" y="1239"/>
                      </a:lnTo>
                      <a:lnTo>
                        <a:pt x="109" y="1239"/>
                      </a:lnTo>
                      <a:lnTo>
                        <a:pt x="99" y="1239"/>
                      </a:lnTo>
                      <a:lnTo>
                        <a:pt x="90" y="1239"/>
                      </a:lnTo>
                      <a:lnTo>
                        <a:pt x="80" y="1239"/>
                      </a:lnTo>
                      <a:lnTo>
                        <a:pt x="70" y="1239"/>
                      </a:lnTo>
                      <a:lnTo>
                        <a:pt x="59" y="1239"/>
                      </a:lnTo>
                      <a:lnTo>
                        <a:pt x="49" y="1239"/>
                      </a:lnTo>
                      <a:lnTo>
                        <a:pt x="40" y="1239"/>
                      </a:lnTo>
                      <a:lnTo>
                        <a:pt x="30" y="1239"/>
                      </a:lnTo>
                      <a:lnTo>
                        <a:pt x="20" y="1239"/>
                      </a:lnTo>
                      <a:lnTo>
                        <a:pt x="9" y="1239"/>
                      </a:lnTo>
                      <a:lnTo>
                        <a:pt x="0" y="1239"/>
                      </a:lnTo>
                      <a:lnTo>
                        <a:pt x="5" y="1239"/>
                      </a:lnTo>
                      <a:lnTo>
                        <a:pt x="13" y="1222"/>
                      </a:lnTo>
                      <a:lnTo>
                        <a:pt x="24" y="1200"/>
                      </a:lnTo>
                      <a:lnTo>
                        <a:pt x="36" y="1174"/>
                      </a:lnTo>
                      <a:lnTo>
                        <a:pt x="48" y="1146"/>
                      </a:lnTo>
                      <a:lnTo>
                        <a:pt x="63" y="1116"/>
                      </a:lnTo>
                      <a:lnTo>
                        <a:pt x="77" y="1085"/>
                      </a:lnTo>
                      <a:lnTo>
                        <a:pt x="91" y="1055"/>
                      </a:lnTo>
                      <a:lnTo>
                        <a:pt x="104" y="1024"/>
                      </a:lnTo>
                      <a:lnTo>
                        <a:pt x="119" y="996"/>
                      </a:lnTo>
                      <a:lnTo>
                        <a:pt x="131" y="970"/>
                      </a:lnTo>
                      <a:lnTo>
                        <a:pt x="142" y="947"/>
                      </a:lnTo>
                      <a:lnTo>
                        <a:pt x="150" y="927"/>
                      </a:lnTo>
                      <a:lnTo>
                        <a:pt x="159" y="912"/>
                      </a:lnTo>
                      <a:lnTo>
                        <a:pt x="163" y="903"/>
                      </a:lnTo>
                      <a:lnTo>
                        <a:pt x="165" y="900"/>
                      </a:lnTo>
                      <a:lnTo>
                        <a:pt x="165" y="702"/>
                      </a:lnTo>
                      <a:lnTo>
                        <a:pt x="31" y="302"/>
                      </a:lnTo>
                      <a:lnTo>
                        <a:pt x="31" y="30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2" name=""/>
                <p:cNvSpPr/>
                <p:nvPr/>
              </p:nvSpPr>
              <p:spPr>
                <a:xfrm>
                  <a:off x="5292360" y="2305080"/>
                  <a:ext cx="101520" cy="579240"/>
                </a:xfrm>
                <a:custGeom>
                  <a:avLst/>
                  <a:gdLst/>
                  <a:ahLst/>
                  <a:rect l="l" t="t" r="r" b="b"/>
                  <a:pathLst>
                    <a:path w="292" h="1168">
                      <a:moveTo>
                        <a:pt x="0" y="43"/>
                      </a:moveTo>
                      <a:lnTo>
                        <a:pt x="52" y="0"/>
                      </a:lnTo>
                      <a:lnTo>
                        <a:pt x="182" y="270"/>
                      </a:lnTo>
                      <a:lnTo>
                        <a:pt x="292" y="606"/>
                      </a:lnTo>
                      <a:lnTo>
                        <a:pt x="286" y="841"/>
                      </a:lnTo>
                      <a:lnTo>
                        <a:pt x="284" y="844"/>
                      </a:lnTo>
                      <a:lnTo>
                        <a:pt x="280" y="853"/>
                      </a:lnTo>
                      <a:lnTo>
                        <a:pt x="275" y="867"/>
                      </a:lnTo>
                      <a:lnTo>
                        <a:pt x="268" y="886"/>
                      </a:lnTo>
                      <a:lnTo>
                        <a:pt x="258" y="909"/>
                      </a:lnTo>
                      <a:lnTo>
                        <a:pt x="249" y="934"/>
                      </a:lnTo>
                      <a:lnTo>
                        <a:pt x="239" y="962"/>
                      </a:lnTo>
                      <a:lnTo>
                        <a:pt x="229" y="992"/>
                      </a:lnTo>
                      <a:lnTo>
                        <a:pt x="217" y="1020"/>
                      </a:lnTo>
                      <a:lnTo>
                        <a:pt x="205" y="1050"/>
                      </a:lnTo>
                      <a:lnTo>
                        <a:pt x="194" y="1079"/>
                      </a:lnTo>
                      <a:lnTo>
                        <a:pt x="185" y="1106"/>
                      </a:lnTo>
                      <a:lnTo>
                        <a:pt x="175" y="1131"/>
                      </a:lnTo>
                      <a:lnTo>
                        <a:pt x="166" y="1152"/>
                      </a:lnTo>
                      <a:lnTo>
                        <a:pt x="160" y="1168"/>
                      </a:lnTo>
                      <a:lnTo>
                        <a:pt x="156" y="1168"/>
                      </a:lnTo>
                      <a:lnTo>
                        <a:pt x="149" y="1168"/>
                      </a:lnTo>
                      <a:lnTo>
                        <a:pt x="142" y="1168"/>
                      </a:lnTo>
                      <a:lnTo>
                        <a:pt x="134" y="1168"/>
                      </a:lnTo>
                      <a:lnTo>
                        <a:pt x="128" y="1168"/>
                      </a:lnTo>
                      <a:lnTo>
                        <a:pt x="120" y="1168"/>
                      </a:lnTo>
                      <a:lnTo>
                        <a:pt x="112" y="1168"/>
                      </a:lnTo>
                      <a:lnTo>
                        <a:pt x="105" y="1168"/>
                      </a:lnTo>
                      <a:lnTo>
                        <a:pt x="98" y="1168"/>
                      </a:lnTo>
                      <a:lnTo>
                        <a:pt x="90" y="1168"/>
                      </a:lnTo>
                      <a:lnTo>
                        <a:pt x="83" y="1168"/>
                      </a:lnTo>
                      <a:lnTo>
                        <a:pt x="74" y="1168"/>
                      </a:lnTo>
                      <a:lnTo>
                        <a:pt x="66" y="1168"/>
                      </a:lnTo>
                      <a:lnTo>
                        <a:pt x="58" y="1168"/>
                      </a:lnTo>
                      <a:lnTo>
                        <a:pt x="51" y="1168"/>
                      </a:lnTo>
                      <a:lnTo>
                        <a:pt x="43" y="1168"/>
                      </a:lnTo>
                      <a:lnTo>
                        <a:pt x="36" y="1168"/>
                      </a:lnTo>
                      <a:lnTo>
                        <a:pt x="37" y="1168"/>
                      </a:lnTo>
                      <a:lnTo>
                        <a:pt x="39" y="1164"/>
                      </a:lnTo>
                      <a:lnTo>
                        <a:pt x="41" y="1151"/>
                      </a:lnTo>
                      <a:lnTo>
                        <a:pt x="45" y="1138"/>
                      </a:lnTo>
                      <a:lnTo>
                        <a:pt x="48" y="1124"/>
                      </a:lnTo>
                      <a:lnTo>
                        <a:pt x="51" y="1108"/>
                      </a:lnTo>
                      <a:lnTo>
                        <a:pt x="54" y="1092"/>
                      </a:lnTo>
                      <a:lnTo>
                        <a:pt x="58" y="1078"/>
                      </a:lnTo>
                      <a:lnTo>
                        <a:pt x="61" y="1061"/>
                      </a:lnTo>
                      <a:lnTo>
                        <a:pt x="64" y="1047"/>
                      </a:lnTo>
                      <a:lnTo>
                        <a:pt x="66" y="1033"/>
                      </a:lnTo>
                      <a:lnTo>
                        <a:pt x="69" y="1022"/>
                      </a:lnTo>
                      <a:lnTo>
                        <a:pt x="71" y="1012"/>
                      </a:lnTo>
                      <a:lnTo>
                        <a:pt x="73" y="1006"/>
                      </a:lnTo>
                      <a:lnTo>
                        <a:pt x="74" y="1001"/>
                      </a:lnTo>
                      <a:lnTo>
                        <a:pt x="75" y="1000"/>
                      </a:lnTo>
                      <a:lnTo>
                        <a:pt x="133" y="1007"/>
                      </a:lnTo>
                      <a:lnTo>
                        <a:pt x="199" y="676"/>
                      </a:lnTo>
                      <a:lnTo>
                        <a:pt x="104" y="582"/>
                      </a:lnTo>
                      <a:lnTo>
                        <a:pt x="0" y="43"/>
                      </a:lnTo>
                      <a:lnTo>
                        <a:pt x="0" y="4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3" name=""/>
                <p:cNvSpPr/>
                <p:nvPr/>
              </p:nvSpPr>
              <p:spPr>
                <a:xfrm>
                  <a:off x="5302800" y="2322720"/>
                  <a:ext cx="101520" cy="561600"/>
                </a:xfrm>
                <a:custGeom>
                  <a:avLst/>
                  <a:gdLst/>
                  <a:ahLst/>
                  <a:rect l="l" t="t" r="r" b="b"/>
                  <a:pathLst>
                    <a:path w="295" h="1132">
                      <a:moveTo>
                        <a:pt x="39" y="0"/>
                      </a:moveTo>
                      <a:lnTo>
                        <a:pt x="41" y="3"/>
                      </a:lnTo>
                      <a:lnTo>
                        <a:pt x="48" y="15"/>
                      </a:lnTo>
                      <a:lnTo>
                        <a:pt x="60" y="32"/>
                      </a:lnTo>
                      <a:lnTo>
                        <a:pt x="76" y="56"/>
                      </a:lnTo>
                      <a:lnTo>
                        <a:pt x="93" y="86"/>
                      </a:lnTo>
                      <a:lnTo>
                        <a:pt x="115" y="121"/>
                      </a:lnTo>
                      <a:lnTo>
                        <a:pt x="136" y="159"/>
                      </a:lnTo>
                      <a:lnTo>
                        <a:pt x="159" y="204"/>
                      </a:lnTo>
                      <a:lnTo>
                        <a:pt x="181" y="250"/>
                      </a:lnTo>
                      <a:lnTo>
                        <a:pt x="204" y="301"/>
                      </a:lnTo>
                      <a:lnTo>
                        <a:pt x="225" y="353"/>
                      </a:lnTo>
                      <a:lnTo>
                        <a:pt x="246" y="409"/>
                      </a:lnTo>
                      <a:lnTo>
                        <a:pt x="261" y="465"/>
                      </a:lnTo>
                      <a:lnTo>
                        <a:pt x="275" y="523"/>
                      </a:lnTo>
                      <a:lnTo>
                        <a:pt x="286" y="581"/>
                      </a:lnTo>
                      <a:lnTo>
                        <a:pt x="293" y="640"/>
                      </a:lnTo>
                      <a:lnTo>
                        <a:pt x="294" y="692"/>
                      </a:lnTo>
                      <a:lnTo>
                        <a:pt x="295" y="743"/>
                      </a:lnTo>
                      <a:lnTo>
                        <a:pt x="293" y="790"/>
                      </a:lnTo>
                      <a:lnTo>
                        <a:pt x="291" y="836"/>
                      </a:lnTo>
                      <a:lnTo>
                        <a:pt x="287" y="878"/>
                      </a:lnTo>
                      <a:lnTo>
                        <a:pt x="283" y="918"/>
                      </a:lnTo>
                      <a:lnTo>
                        <a:pt x="276" y="956"/>
                      </a:lnTo>
                      <a:lnTo>
                        <a:pt x="272" y="990"/>
                      </a:lnTo>
                      <a:lnTo>
                        <a:pt x="264" y="1020"/>
                      </a:lnTo>
                      <a:lnTo>
                        <a:pt x="259" y="1049"/>
                      </a:lnTo>
                      <a:lnTo>
                        <a:pt x="252" y="1073"/>
                      </a:lnTo>
                      <a:lnTo>
                        <a:pt x="247" y="1096"/>
                      </a:lnTo>
                      <a:lnTo>
                        <a:pt x="240" y="1113"/>
                      </a:lnTo>
                      <a:lnTo>
                        <a:pt x="236" y="1128"/>
                      </a:lnTo>
                      <a:lnTo>
                        <a:pt x="231" y="1132"/>
                      </a:lnTo>
                      <a:lnTo>
                        <a:pt x="229" y="1132"/>
                      </a:lnTo>
                      <a:lnTo>
                        <a:pt x="220" y="1132"/>
                      </a:lnTo>
                      <a:lnTo>
                        <a:pt x="211" y="1132"/>
                      </a:lnTo>
                      <a:lnTo>
                        <a:pt x="202" y="1132"/>
                      </a:lnTo>
                      <a:lnTo>
                        <a:pt x="193" y="1132"/>
                      </a:lnTo>
                      <a:lnTo>
                        <a:pt x="182" y="1132"/>
                      </a:lnTo>
                      <a:lnTo>
                        <a:pt x="173" y="1132"/>
                      </a:lnTo>
                      <a:lnTo>
                        <a:pt x="164" y="1132"/>
                      </a:lnTo>
                      <a:lnTo>
                        <a:pt x="155" y="1132"/>
                      </a:lnTo>
                      <a:lnTo>
                        <a:pt x="145" y="1132"/>
                      </a:lnTo>
                      <a:lnTo>
                        <a:pt x="134" y="1132"/>
                      </a:lnTo>
                      <a:lnTo>
                        <a:pt x="124" y="1132"/>
                      </a:lnTo>
                      <a:lnTo>
                        <a:pt x="114" y="1132"/>
                      </a:lnTo>
                      <a:lnTo>
                        <a:pt x="103" y="1132"/>
                      </a:lnTo>
                      <a:lnTo>
                        <a:pt x="91" y="1132"/>
                      </a:lnTo>
                      <a:lnTo>
                        <a:pt x="81" y="1132"/>
                      </a:lnTo>
                      <a:lnTo>
                        <a:pt x="71" y="1132"/>
                      </a:lnTo>
                      <a:lnTo>
                        <a:pt x="75" y="1132"/>
                      </a:lnTo>
                      <a:lnTo>
                        <a:pt x="82" y="1122"/>
                      </a:lnTo>
                      <a:lnTo>
                        <a:pt x="91" y="1102"/>
                      </a:lnTo>
                      <a:lnTo>
                        <a:pt x="103" y="1079"/>
                      </a:lnTo>
                      <a:lnTo>
                        <a:pt x="115" y="1054"/>
                      </a:lnTo>
                      <a:lnTo>
                        <a:pt x="128" y="1025"/>
                      </a:lnTo>
                      <a:lnTo>
                        <a:pt x="142" y="997"/>
                      </a:lnTo>
                      <a:lnTo>
                        <a:pt x="157" y="968"/>
                      </a:lnTo>
                      <a:lnTo>
                        <a:pt x="169" y="939"/>
                      </a:lnTo>
                      <a:lnTo>
                        <a:pt x="181" y="912"/>
                      </a:lnTo>
                      <a:lnTo>
                        <a:pt x="194" y="886"/>
                      </a:lnTo>
                      <a:lnTo>
                        <a:pt x="205" y="864"/>
                      </a:lnTo>
                      <a:lnTo>
                        <a:pt x="214" y="844"/>
                      </a:lnTo>
                      <a:lnTo>
                        <a:pt x="221" y="831"/>
                      </a:lnTo>
                      <a:lnTo>
                        <a:pt x="226" y="822"/>
                      </a:lnTo>
                      <a:lnTo>
                        <a:pt x="227" y="819"/>
                      </a:lnTo>
                      <a:lnTo>
                        <a:pt x="175" y="787"/>
                      </a:lnTo>
                      <a:lnTo>
                        <a:pt x="240" y="640"/>
                      </a:lnTo>
                      <a:lnTo>
                        <a:pt x="81" y="364"/>
                      </a:lnTo>
                      <a:lnTo>
                        <a:pt x="147" y="299"/>
                      </a:lnTo>
                      <a:lnTo>
                        <a:pt x="0" y="0"/>
                      </a:lnTo>
                      <a:lnTo>
                        <a:pt x="39" y="0"/>
                      </a:lnTo>
                      <a:lnTo>
                        <a:pt x="3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4" name=""/>
                <p:cNvSpPr/>
                <p:nvPr/>
              </p:nvSpPr>
              <p:spPr>
                <a:xfrm>
                  <a:off x="5054400" y="2390040"/>
                  <a:ext cx="171360" cy="494280"/>
                </a:xfrm>
                <a:custGeom>
                  <a:avLst/>
                  <a:gdLst/>
                  <a:ahLst/>
                  <a:rect l="l" t="t" r="r" b="b"/>
                  <a:pathLst>
                    <a:path w="493" h="998">
                      <a:moveTo>
                        <a:pt x="364" y="94"/>
                      </a:moveTo>
                      <a:lnTo>
                        <a:pt x="493" y="0"/>
                      </a:lnTo>
                      <a:lnTo>
                        <a:pt x="464" y="554"/>
                      </a:lnTo>
                      <a:lnTo>
                        <a:pt x="460" y="558"/>
                      </a:lnTo>
                      <a:lnTo>
                        <a:pt x="451" y="570"/>
                      </a:lnTo>
                      <a:lnTo>
                        <a:pt x="436" y="588"/>
                      </a:lnTo>
                      <a:lnTo>
                        <a:pt x="419" y="614"/>
                      </a:lnTo>
                      <a:lnTo>
                        <a:pt x="396" y="644"/>
                      </a:lnTo>
                      <a:lnTo>
                        <a:pt x="372" y="677"/>
                      </a:lnTo>
                      <a:lnTo>
                        <a:pt x="344" y="713"/>
                      </a:lnTo>
                      <a:lnTo>
                        <a:pt x="318" y="753"/>
                      </a:lnTo>
                      <a:lnTo>
                        <a:pt x="287" y="793"/>
                      </a:lnTo>
                      <a:lnTo>
                        <a:pt x="259" y="832"/>
                      </a:lnTo>
                      <a:lnTo>
                        <a:pt x="230" y="871"/>
                      </a:lnTo>
                      <a:lnTo>
                        <a:pt x="205" y="908"/>
                      </a:lnTo>
                      <a:lnTo>
                        <a:pt x="180" y="940"/>
                      </a:lnTo>
                      <a:lnTo>
                        <a:pt x="158" y="970"/>
                      </a:lnTo>
                      <a:lnTo>
                        <a:pt x="140" y="994"/>
                      </a:lnTo>
                      <a:lnTo>
                        <a:pt x="127" y="998"/>
                      </a:lnTo>
                      <a:lnTo>
                        <a:pt x="116" y="998"/>
                      </a:lnTo>
                      <a:lnTo>
                        <a:pt x="107" y="998"/>
                      </a:lnTo>
                      <a:lnTo>
                        <a:pt x="98" y="998"/>
                      </a:lnTo>
                      <a:lnTo>
                        <a:pt x="90" y="998"/>
                      </a:lnTo>
                      <a:lnTo>
                        <a:pt x="80" y="998"/>
                      </a:lnTo>
                      <a:lnTo>
                        <a:pt x="71" y="998"/>
                      </a:lnTo>
                      <a:lnTo>
                        <a:pt x="63" y="998"/>
                      </a:lnTo>
                      <a:lnTo>
                        <a:pt x="56" y="998"/>
                      </a:lnTo>
                      <a:lnTo>
                        <a:pt x="48" y="998"/>
                      </a:lnTo>
                      <a:lnTo>
                        <a:pt x="39" y="998"/>
                      </a:lnTo>
                      <a:lnTo>
                        <a:pt x="31" y="998"/>
                      </a:lnTo>
                      <a:lnTo>
                        <a:pt x="25" y="998"/>
                      </a:lnTo>
                      <a:lnTo>
                        <a:pt x="17" y="998"/>
                      </a:lnTo>
                      <a:lnTo>
                        <a:pt x="11" y="998"/>
                      </a:lnTo>
                      <a:lnTo>
                        <a:pt x="5" y="998"/>
                      </a:lnTo>
                      <a:lnTo>
                        <a:pt x="0" y="998"/>
                      </a:lnTo>
                      <a:lnTo>
                        <a:pt x="6" y="959"/>
                      </a:lnTo>
                      <a:lnTo>
                        <a:pt x="18" y="909"/>
                      </a:lnTo>
                      <a:lnTo>
                        <a:pt x="34" y="858"/>
                      </a:lnTo>
                      <a:lnTo>
                        <a:pt x="55" y="813"/>
                      </a:lnTo>
                      <a:lnTo>
                        <a:pt x="76" y="771"/>
                      </a:lnTo>
                      <a:lnTo>
                        <a:pt x="101" y="732"/>
                      </a:lnTo>
                      <a:lnTo>
                        <a:pt x="126" y="695"/>
                      </a:lnTo>
                      <a:lnTo>
                        <a:pt x="153" y="663"/>
                      </a:lnTo>
                      <a:lnTo>
                        <a:pt x="178" y="632"/>
                      </a:lnTo>
                      <a:lnTo>
                        <a:pt x="202" y="608"/>
                      </a:lnTo>
                      <a:lnTo>
                        <a:pt x="225" y="585"/>
                      </a:lnTo>
                      <a:lnTo>
                        <a:pt x="246" y="568"/>
                      </a:lnTo>
                      <a:lnTo>
                        <a:pt x="262" y="553"/>
                      </a:lnTo>
                      <a:lnTo>
                        <a:pt x="276" y="542"/>
                      </a:lnTo>
                      <a:lnTo>
                        <a:pt x="285" y="537"/>
                      </a:lnTo>
                      <a:lnTo>
                        <a:pt x="288" y="535"/>
                      </a:lnTo>
                      <a:lnTo>
                        <a:pt x="364" y="94"/>
                      </a:lnTo>
                      <a:lnTo>
                        <a:pt x="364" y="94"/>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5" name=""/>
                <p:cNvSpPr/>
                <p:nvPr/>
              </p:nvSpPr>
              <p:spPr>
                <a:xfrm>
                  <a:off x="5070240" y="2392920"/>
                  <a:ext cx="191160" cy="491400"/>
                </a:xfrm>
                <a:custGeom>
                  <a:avLst/>
                  <a:gdLst/>
                  <a:ahLst/>
                  <a:rect l="l" t="t" r="r" b="b"/>
                  <a:pathLst>
                    <a:path w="553" h="992">
                      <a:moveTo>
                        <a:pt x="425" y="36"/>
                      </a:moveTo>
                      <a:lnTo>
                        <a:pt x="553" y="0"/>
                      </a:lnTo>
                      <a:lnTo>
                        <a:pt x="466" y="665"/>
                      </a:lnTo>
                      <a:lnTo>
                        <a:pt x="462" y="668"/>
                      </a:lnTo>
                      <a:lnTo>
                        <a:pt x="454" y="676"/>
                      </a:lnTo>
                      <a:lnTo>
                        <a:pt x="439" y="690"/>
                      </a:lnTo>
                      <a:lnTo>
                        <a:pt x="423" y="708"/>
                      </a:lnTo>
                      <a:lnTo>
                        <a:pt x="402" y="730"/>
                      </a:lnTo>
                      <a:lnTo>
                        <a:pt x="380" y="755"/>
                      </a:lnTo>
                      <a:lnTo>
                        <a:pt x="354" y="782"/>
                      </a:lnTo>
                      <a:lnTo>
                        <a:pt x="329" y="810"/>
                      </a:lnTo>
                      <a:lnTo>
                        <a:pt x="300" y="839"/>
                      </a:lnTo>
                      <a:lnTo>
                        <a:pt x="274" y="869"/>
                      </a:lnTo>
                      <a:lnTo>
                        <a:pt x="246" y="897"/>
                      </a:lnTo>
                      <a:lnTo>
                        <a:pt x="222" y="926"/>
                      </a:lnTo>
                      <a:lnTo>
                        <a:pt x="197" y="951"/>
                      </a:lnTo>
                      <a:lnTo>
                        <a:pt x="177" y="973"/>
                      </a:lnTo>
                      <a:lnTo>
                        <a:pt x="159" y="992"/>
                      </a:lnTo>
                      <a:lnTo>
                        <a:pt x="146" y="992"/>
                      </a:lnTo>
                      <a:lnTo>
                        <a:pt x="135" y="992"/>
                      </a:lnTo>
                      <a:lnTo>
                        <a:pt x="124" y="992"/>
                      </a:lnTo>
                      <a:lnTo>
                        <a:pt x="114" y="992"/>
                      </a:lnTo>
                      <a:lnTo>
                        <a:pt x="105" y="992"/>
                      </a:lnTo>
                      <a:lnTo>
                        <a:pt x="94" y="992"/>
                      </a:lnTo>
                      <a:lnTo>
                        <a:pt x="85" y="992"/>
                      </a:lnTo>
                      <a:lnTo>
                        <a:pt x="74" y="992"/>
                      </a:lnTo>
                      <a:lnTo>
                        <a:pt x="66" y="992"/>
                      </a:lnTo>
                      <a:lnTo>
                        <a:pt x="57" y="992"/>
                      </a:lnTo>
                      <a:lnTo>
                        <a:pt x="48" y="992"/>
                      </a:lnTo>
                      <a:lnTo>
                        <a:pt x="39" y="992"/>
                      </a:lnTo>
                      <a:lnTo>
                        <a:pt x="30" y="992"/>
                      </a:lnTo>
                      <a:lnTo>
                        <a:pt x="22" y="992"/>
                      </a:lnTo>
                      <a:lnTo>
                        <a:pt x="14" y="992"/>
                      </a:lnTo>
                      <a:lnTo>
                        <a:pt x="6" y="992"/>
                      </a:lnTo>
                      <a:lnTo>
                        <a:pt x="0" y="992"/>
                      </a:lnTo>
                      <a:lnTo>
                        <a:pt x="2" y="992"/>
                      </a:lnTo>
                      <a:lnTo>
                        <a:pt x="5" y="989"/>
                      </a:lnTo>
                      <a:lnTo>
                        <a:pt x="9" y="978"/>
                      </a:lnTo>
                      <a:lnTo>
                        <a:pt x="14" y="966"/>
                      </a:lnTo>
                      <a:lnTo>
                        <a:pt x="17" y="951"/>
                      </a:lnTo>
                      <a:lnTo>
                        <a:pt x="22" y="937"/>
                      </a:lnTo>
                      <a:lnTo>
                        <a:pt x="27" y="923"/>
                      </a:lnTo>
                      <a:lnTo>
                        <a:pt x="32" y="909"/>
                      </a:lnTo>
                      <a:lnTo>
                        <a:pt x="36" y="894"/>
                      </a:lnTo>
                      <a:lnTo>
                        <a:pt x="40" y="881"/>
                      </a:lnTo>
                      <a:lnTo>
                        <a:pt x="44" y="869"/>
                      </a:lnTo>
                      <a:lnTo>
                        <a:pt x="49" y="859"/>
                      </a:lnTo>
                      <a:lnTo>
                        <a:pt x="50" y="849"/>
                      </a:lnTo>
                      <a:lnTo>
                        <a:pt x="53" y="843"/>
                      </a:lnTo>
                      <a:lnTo>
                        <a:pt x="55" y="838"/>
                      </a:lnTo>
                      <a:lnTo>
                        <a:pt x="56" y="837"/>
                      </a:lnTo>
                      <a:lnTo>
                        <a:pt x="161" y="770"/>
                      </a:lnTo>
                      <a:lnTo>
                        <a:pt x="144" y="743"/>
                      </a:lnTo>
                      <a:lnTo>
                        <a:pt x="309" y="589"/>
                      </a:lnTo>
                      <a:lnTo>
                        <a:pt x="384" y="325"/>
                      </a:lnTo>
                      <a:lnTo>
                        <a:pt x="342" y="295"/>
                      </a:lnTo>
                      <a:lnTo>
                        <a:pt x="425" y="36"/>
                      </a:lnTo>
                      <a:lnTo>
                        <a:pt x="425" y="3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6" name=""/>
                <p:cNvSpPr/>
                <p:nvPr/>
              </p:nvSpPr>
              <p:spPr>
                <a:xfrm>
                  <a:off x="5101200" y="2316960"/>
                  <a:ext cx="181800" cy="567360"/>
                </a:xfrm>
                <a:custGeom>
                  <a:avLst/>
                  <a:gdLst/>
                  <a:ahLst/>
                  <a:rect l="l" t="t" r="r" b="b"/>
                  <a:pathLst>
                    <a:path w="524" h="1144">
                      <a:moveTo>
                        <a:pt x="424" y="0"/>
                      </a:moveTo>
                      <a:lnTo>
                        <a:pt x="524" y="0"/>
                      </a:lnTo>
                      <a:lnTo>
                        <a:pt x="453" y="776"/>
                      </a:lnTo>
                      <a:lnTo>
                        <a:pt x="449" y="778"/>
                      </a:lnTo>
                      <a:lnTo>
                        <a:pt x="443" y="790"/>
                      </a:lnTo>
                      <a:lnTo>
                        <a:pt x="433" y="804"/>
                      </a:lnTo>
                      <a:lnTo>
                        <a:pt x="421" y="825"/>
                      </a:lnTo>
                      <a:lnTo>
                        <a:pt x="403" y="850"/>
                      </a:lnTo>
                      <a:lnTo>
                        <a:pt x="387" y="878"/>
                      </a:lnTo>
                      <a:lnTo>
                        <a:pt x="368" y="907"/>
                      </a:lnTo>
                      <a:lnTo>
                        <a:pt x="348" y="941"/>
                      </a:lnTo>
                      <a:lnTo>
                        <a:pt x="327" y="974"/>
                      </a:lnTo>
                      <a:lnTo>
                        <a:pt x="306" y="1007"/>
                      </a:lnTo>
                      <a:lnTo>
                        <a:pt x="286" y="1039"/>
                      </a:lnTo>
                      <a:lnTo>
                        <a:pt x="266" y="1070"/>
                      </a:lnTo>
                      <a:lnTo>
                        <a:pt x="249" y="1097"/>
                      </a:lnTo>
                      <a:lnTo>
                        <a:pt x="233" y="1123"/>
                      </a:lnTo>
                      <a:lnTo>
                        <a:pt x="220" y="1144"/>
                      </a:lnTo>
                      <a:lnTo>
                        <a:pt x="210" y="1144"/>
                      </a:lnTo>
                      <a:lnTo>
                        <a:pt x="196" y="1144"/>
                      </a:lnTo>
                      <a:lnTo>
                        <a:pt x="181" y="1144"/>
                      </a:lnTo>
                      <a:lnTo>
                        <a:pt x="166" y="1144"/>
                      </a:lnTo>
                      <a:lnTo>
                        <a:pt x="153" y="1144"/>
                      </a:lnTo>
                      <a:lnTo>
                        <a:pt x="140" y="1144"/>
                      </a:lnTo>
                      <a:lnTo>
                        <a:pt x="125" y="1144"/>
                      </a:lnTo>
                      <a:lnTo>
                        <a:pt x="112" y="1144"/>
                      </a:lnTo>
                      <a:lnTo>
                        <a:pt x="99" y="1144"/>
                      </a:lnTo>
                      <a:lnTo>
                        <a:pt x="84" y="1144"/>
                      </a:lnTo>
                      <a:lnTo>
                        <a:pt x="72" y="1144"/>
                      </a:lnTo>
                      <a:lnTo>
                        <a:pt x="60" y="1144"/>
                      </a:lnTo>
                      <a:lnTo>
                        <a:pt x="48" y="1144"/>
                      </a:lnTo>
                      <a:lnTo>
                        <a:pt x="34" y="1144"/>
                      </a:lnTo>
                      <a:lnTo>
                        <a:pt x="22" y="1144"/>
                      </a:lnTo>
                      <a:lnTo>
                        <a:pt x="11" y="1144"/>
                      </a:lnTo>
                      <a:lnTo>
                        <a:pt x="0" y="1144"/>
                      </a:lnTo>
                      <a:lnTo>
                        <a:pt x="3" y="1144"/>
                      </a:lnTo>
                      <a:lnTo>
                        <a:pt x="5" y="1144"/>
                      </a:lnTo>
                      <a:lnTo>
                        <a:pt x="9" y="1133"/>
                      </a:lnTo>
                      <a:lnTo>
                        <a:pt x="13" y="1123"/>
                      </a:lnTo>
                      <a:lnTo>
                        <a:pt x="16" y="1112"/>
                      </a:lnTo>
                      <a:lnTo>
                        <a:pt x="20" y="1102"/>
                      </a:lnTo>
                      <a:lnTo>
                        <a:pt x="24" y="1090"/>
                      </a:lnTo>
                      <a:lnTo>
                        <a:pt x="28" y="1080"/>
                      </a:lnTo>
                      <a:lnTo>
                        <a:pt x="31" y="1069"/>
                      </a:lnTo>
                      <a:lnTo>
                        <a:pt x="35" y="1060"/>
                      </a:lnTo>
                      <a:lnTo>
                        <a:pt x="38" y="1051"/>
                      </a:lnTo>
                      <a:lnTo>
                        <a:pt x="42" y="1043"/>
                      </a:lnTo>
                      <a:lnTo>
                        <a:pt x="44" y="1037"/>
                      </a:lnTo>
                      <a:lnTo>
                        <a:pt x="46" y="1032"/>
                      </a:lnTo>
                      <a:lnTo>
                        <a:pt x="47" y="1029"/>
                      </a:lnTo>
                      <a:lnTo>
                        <a:pt x="48" y="1029"/>
                      </a:lnTo>
                      <a:lnTo>
                        <a:pt x="100" y="1035"/>
                      </a:lnTo>
                      <a:lnTo>
                        <a:pt x="158" y="877"/>
                      </a:lnTo>
                      <a:lnTo>
                        <a:pt x="306" y="781"/>
                      </a:lnTo>
                      <a:lnTo>
                        <a:pt x="346" y="558"/>
                      </a:lnTo>
                      <a:lnTo>
                        <a:pt x="424" y="0"/>
                      </a:lnTo>
                      <a:lnTo>
                        <a:pt x="42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7" name=""/>
                <p:cNvSpPr/>
                <p:nvPr/>
              </p:nvSpPr>
              <p:spPr>
                <a:xfrm>
                  <a:off x="5138640" y="2325960"/>
                  <a:ext cx="151560" cy="558720"/>
                </a:xfrm>
                <a:custGeom>
                  <a:avLst/>
                  <a:gdLst/>
                  <a:ahLst/>
                  <a:rect l="l" t="t" r="r" b="b"/>
                  <a:pathLst>
                    <a:path w="439" h="1125">
                      <a:moveTo>
                        <a:pt x="439" y="9"/>
                      </a:moveTo>
                      <a:lnTo>
                        <a:pt x="386" y="734"/>
                      </a:lnTo>
                      <a:lnTo>
                        <a:pt x="384" y="736"/>
                      </a:lnTo>
                      <a:lnTo>
                        <a:pt x="378" y="747"/>
                      </a:lnTo>
                      <a:lnTo>
                        <a:pt x="370" y="762"/>
                      </a:lnTo>
                      <a:lnTo>
                        <a:pt x="359" y="784"/>
                      </a:lnTo>
                      <a:lnTo>
                        <a:pt x="344" y="809"/>
                      </a:lnTo>
                      <a:lnTo>
                        <a:pt x="328" y="839"/>
                      </a:lnTo>
                      <a:lnTo>
                        <a:pt x="311" y="870"/>
                      </a:lnTo>
                      <a:lnTo>
                        <a:pt x="293" y="905"/>
                      </a:lnTo>
                      <a:lnTo>
                        <a:pt x="275" y="938"/>
                      </a:lnTo>
                      <a:lnTo>
                        <a:pt x="257" y="974"/>
                      </a:lnTo>
                      <a:lnTo>
                        <a:pt x="237" y="1007"/>
                      </a:lnTo>
                      <a:lnTo>
                        <a:pt x="221" y="1041"/>
                      </a:lnTo>
                      <a:lnTo>
                        <a:pt x="203" y="1070"/>
                      </a:lnTo>
                      <a:lnTo>
                        <a:pt x="189" y="1098"/>
                      </a:lnTo>
                      <a:lnTo>
                        <a:pt x="177" y="1121"/>
                      </a:lnTo>
                      <a:lnTo>
                        <a:pt x="168" y="1125"/>
                      </a:lnTo>
                      <a:lnTo>
                        <a:pt x="156" y="1125"/>
                      </a:lnTo>
                      <a:lnTo>
                        <a:pt x="146" y="1125"/>
                      </a:lnTo>
                      <a:lnTo>
                        <a:pt x="135" y="1125"/>
                      </a:lnTo>
                      <a:lnTo>
                        <a:pt x="124" y="1125"/>
                      </a:lnTo>
                      <a:lnTo>
                        <a:pt x="112" y="1125"/>
                      </a:lnTo>
                      <a:lnTo>
                        <a:pt x="102" y="1125"/>
                      </a:lnTo>
                      <a:lnTo>
                        <a:pt x="92" y="1125"/>
                      </a:lnTo>
                      <a:lnTo>
                        <a:pt x="82" y="1125"/>
                      </a:lnTo>
                      <a:lnTo>
                        <a:pt x="71" y="1125"/>
                      </a:lnTo>
                      <a:lnTo>
                        <a:pt x="60" y="1125"/>
                      </a:lnTo>
                      <a:lnTo>
                        <a:pt x="50" y="1125"/>
                      </a:lnTo>
                      <a:lnTo>
                        <a:pt x="40" y="1125"/>
                      </a:lnTo>
                      <a:lnTo>
                        <a:pt x="29" y="1125"/>
                      </a:lnTo>
                      <a:lnTo>
                        <a:pt x="19" y="1125"/>
                      </a:lnTo>
                      <a:lnTo>
                        <a:pt x="9" y="1125"/>
                      </a:lnTo>
                      <a:lnTo>
                        <a:pt x="0" y="1125"/>
                      </a:lnTo>
                      <a:lnTo>
                        <a:pt x="4" y="1125"/>
                      </a:lnTo>
                      <a:lnTo>
                        <a:pt x="10" y="1114"/>
                      </a:lnTo>
                      <a:lnTo>
                        <a:pt x="16" y="1097"/>
                      </a:lnTo>
                      <a:lnTo>
                        <a:pt x="25" y="1082"/>
                      </a:lnTo>
                      <a:lnTo>
                        <a:pt x="32" y="1062"/>
                      </a:lnTo>
                      <a:lnTo>
                        <a:pt x="39" y="1044"/>
                      </a:lnTo>
                      <a:lnTo>
                        <a:pt x="46" y="1024"/>
                      </a:lnTo>
                      <a:lnTo>
                        <a:pt x="55" y="1006"/>
                      </a:lnTo>
                      <a:lnTo>
                        <a:pt x="61" y="987"/>
                      </a:lnTo>
                      <a:lnTo>
                        <a:pt x="69" y="971"/>
                      </a:lnTo>
                      <a:lnTo>
                        <a:pt x="75" y="956"/>
                      </a:lnTo>
                      <a:lnTo>
                        <a:pt x="81" y="942"/>
                      </a:lnTo>
                      <a:lnTo>
                        <a:pt x="85" y="931"/>
                      </a:lnTo>
                      <a:lnTo>
                        <a:pt x="89" y="922"/>
                      </a:lnTo>
                      <a:lnTo>
                        <a:pt x="90" y="917"/>
                      </a:lnTo>
                      <a:lnTo>
                        <a:pt x="92" y="916"/>
                      </a:lnTo>
                      <a:lnTo>
                        <a:pt x="122" y="1003"/>
                      </a:lnTo>
                      <a:lnTo>
                        <a:pt x="192" y="822"/>
                      </a:lnTo>
                      <a:lnTo>
                        <a:pt x="309" y="770"/>
                      </a:lnTo>
                      <a:lnTo>
                        <a:pt x="299" y="497"/>
                      </a:lnTo>
                      <a:lnTo>
                        <a:pt x="345" y="387"/>
                      </a:lnTo>
                      <a:lnTo>
                        <a:pt x="380" y="0"/>
                      </a:lnTo>
                      <a:lnTo>
                        <a:pt x="439" y="9"/>
                      </a:lnTo>
                      <a:lnTo>
                        <a:pt x="439" y="9"/>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8" name=""/>
                <p:cNvSpPr/>
                <p:nvPr/>
              </p:nvSpPr>
              <p:spPr>
                <a:xfrm>
                  <a:off x="5357880" y="2412360"/>
                  <a:ext cx="45720" cy="66600"/>
                </a:xfrm>
                <a:custGeom>
                  <a:avLst/>
                  <a:gdLst/>
                  <a:ahLst/>
                  <a:rect l="l" t="t" r="r" b="b"/>
                  <a:pathLst>
                    <a:path w="132" h="136">
                      <a:moveTo>
                        <a:pt x="45" y="4"/>
                      </a:moveTo>
                      <a:lnTo>
                        <a:pt x="0" y="35"/>
                      </a:lnTo>
                      <a:lnTo>
                        <a:pt x="11" y="96"/>
                      </a:lnTo>
                      <a:lnTo>
                        <a:pt x="26" y="96"/>
                      </a:lnTo>
                      <a:lnTo>
                        <a:pt x="26" y="65"/>
                      </a:lnTo>
                      <a:lnTo>
                        <a:pt x="40" y="68"/>
                      </a:lnTo>
                      <a:lnTo>
                        <a:pt x="50" y="136"/>
                      </a:lnTo>
                      <a:lnTo>
                        <a:pt x="68" y="132"/>
                      </a:lnTo>
                      <a:lnTo>
                        <a:pt x="68" y="109"/>
                      </a:lnTo>
                      <a:lnTo>
                        <a:pt x="78" y="105"/>
                      </a:lnTo>
                      <a:lnTo>
                        <a:pt x="83" y="127"/>
                      </a:lnTo>
                      <a:lnTo>
                        <a:pt x="102" y="117"/>
                      </a:lnTo>
                      <a:lnTo>
                        <a:pt x="106" y="94"/>
                      </a:lnTo>
                      <a:lnTo>
                        <a:pt x="132" y="78"/>
                      </a:lnTo>
                      <a:lnTo>
                        <a:pt x="129" y="0"/>
                      </a:lnTo>
                      <a:lnTo>
                        <a:pt x="45" y="4"/>
                      </a:lnTo>
                      <a:lnTo>
                        <a:pt x="45" y="4"/>
                      </a:lnTo>
                      <a:close/>
                    </a:path>
                  </a:pathLst>
                </a:custGeom>
                <a:solidFill>
                  <a:srgbClr val="ffcc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49" name=""/>
                <p:cNvSpPr/>
                <p:nvPr/>
              </p:nvSpPr>
              <p:spPr>
                <a:xfrm>
                  <a:off x="5325840" y="2166480"/>
                  <a:ext cx="92520" cy="256320"/>
                </a:xfrm>
                <a:custGeom>
                  <a:avLst/>
                  <a:gdLst/>
                  <a:ahLst/>
                  <a:rect l="l" t="t" r="r" b="b"/>
                  <a:pathLst>
                    <a:path w="265" h="517">
                      <a:moveTo>
                        <a:pt x="42" y="0"/>
                      </a:moveTo>
                      <a:lnTo>
                        <a:pt x="0" y="203"/>
                      </a:lnTo>
                      <a:lnTo>
                        <a:pt x="168" y="271"/>
                      </a:lnTo>
                      <a:lnTo>
                        <a:pt x="164" y="517"/>
                      </a:lnTo>
                      <a:lnTo>
                        <a:pt x="205" y="517"/>
                      </a:lnTo>
                      <a:lnTo>
                        <a:pt x="265" y="239"/>
                      </a:lnTo>
                      <a:lnTo>
                        <a:pt x="42" y="0"/>
                      </a:lnTo>
                      <a:lnTo>
                        <a:pt x="4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0" name=""/>
                <p:cNvSpPr/>
                <p:nvPr/>
              </p:nvSpPr>
              <p:spPr>
                <a:xfrm>
                  <a:off x="5333040" y="2150280"/>
                  <a:ext cx="92520" cy="272520"/>
                </a:xfrm>
                <a:custGeom>
                  <a:avLst/>
                  <a:gdLst/>
                  <a:ahLst/>
                  <a:rect l="l" t="t" r="r" b="b"/>
                  <a:pathLst>
                    <a:path w="267" h="550">
                      <a:moveTo>
                        <a:pt x="43" y="0"/>
                      </a:moveTo>
                      <a:lnTo>
                        <a:pt x="267" y="256"/>
                      </a:lnTo>
                      <a:lnTo>
                        <a:pt x="200" y="550"/>
                      </a:lnTo>
                      <a:lnTo>
                        <a:pt x="173" y="545"/>
                      </a:lnTo>
                      <a:lnTo>
                        <a:pt x="195" y="350"/>
                      </a:lnTo>
                      <a:lnTo>
                        <a:pt x="208" y="356"/>
                      </a:lnTo>
                      <a:lnTo>
                        <a:pt x="217" y="277"/>
                      </a:lnTo>
                      <a:lnTo>
                        <a:pt x="123" y="217"/>
                      </a:lnTo>
                      <a:lnTo>
                        <a:pt x="151" y="184"/>
                      </a:lnTo>
                      <a:lnTo>
                        <a:pt x="0" y="72"/>
                      </a:lnTo>
                      <a:lnTo>
                        <a:pt x="43" y="0"/>
                      </a:lnTo>
                      <a:lnTo>
                        <a:pt x="43"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1" name=""/>
                <p:cNvSpPr/>
                <p:nvPr/>
              </p:nvSpPr>
              <p:spPr>
                <a:xfrm>
                  <a:off x="5325840" y="2243880"/>
                  <a:ext cx="67320" cy="180000"/>
                </a:xfrm>
                <a:custGeom>
                  <a:avLst/>
                  <a:gdLst/>
                  <a:ahLst/>
                  <a:rect l="l" t="t" r="r" b="b"/>
                  <a:pathLst>
                    <a:path w="194" h="362">
                      <a:moveTo>
                        <a:pt x="0" y="0"/>
                      </a:moveTo>
                      <a:lnTo>
                        <a:pt x="194" y="94"/>
                      </a:lnTo>
                      <a:lnTo>
                        <a:pt x="173" y="362"/>
                      </a:lnTo>
                      <a:lnTo>
                        <a:pt x="146" y="355"/>
                      </a:lnTo>
                      <a:lnTo>
                        <a:pt x="137" y="152"/>
                      </a:lnTo>
                      <a:lnTo>
                        <a:pt x="0" y="60"/>
                      </a:lnTo>
                      <a:lnTo>
                        <a:pt x="0" y="0"/>
                      </a:lnTo>
                      <a:lnTo>
                        <a:pt x="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2" name=""/>
                <p:cNvSpPr/>
                <p:nvPr/>
              </p:nvSpPr>
              <p:spPr>
                <a:xfrm>
                  <a:off x="5321880" y="2269440"/>
                  <a:ext cx="61920" cy="151920"/>
                </a:xfrm>
                <a:custGeom>
                  <a:avLst/>
                  <a:gdLst/>
                  <a:ahLst/>
                  <a:rect l="l" t="t" r="r" b="b"/>
                  <a:pathLst>
                    <a:path w="180" h="304">
                      <a:moveTo>
                        <a:pt x="0" y="38"/>
                      </a:moveTo>
                      <a:lnTo>
                        <a:pt x="2" y="38"/>
                      </a:lnTo>
                      <a:lnTo>
                        <a:pt x="7" y="39"/>
                      </a:lnTo>
                      <a:lnTo>
                        <a:pt x="16" y="40"/>
                      </a:lnTo>
                      <a:lnTo>
                        <a:pt x="29" y="44"/>
                      </a:lnTo>
                      <a:lnTo>
                        <a:pt x="43" y="48"/>
                      </a:lnTo>
                      <a:lnTo>
                        <a:pt x="59" y="55"/>
                      </a:lnTo>
                      <a:lnTo>
                        <a:pt x="74" y="64"/>
                      </a:lnTo>
                      <a:lnTo>
                        <a:pt x="91" y="77"/>
                      </a:lnTo>
                      <a:lnTo>
                        <a:pt x="104" y="91"/>
                      </a:lnTo>
                      <a:lnTo>
                        <a:pt x="119" y="108"/>
                      </a:lnTo>
                      <a:lnTo>
                        <a:pt x="130" y="130"/>
                      </a:lnTo>
                      <a:lnTo>
                        <a:pt x="140" y="155"/>
                      </a:lnTo>
                      <a:lnTo>
                        <a:pt x="145" y="184"/>
                      </a:lnTo>
                      <a:lnTo>
                        <a:pt x="148" y="218"/>
                      </a:lnTo>
                      <a:lnTo>
                        <a:pt x="145" y="257"/>
                      </a:lnTo>
                      <a:lnTo>
                        <a:pt x="138" y="302"/>
                      </a:lnTo>
                      <a:lnTo>
                        <a:pt x="162" y="304"/>
                      </a:lnTo>
                      <a:lnTo>
                        <a:pt x="180" y="207"/>
                      </a:lnTo>
                      <a:lnTo>
                        <a:pt x="164" y="161"/>
                      </a:lnTo>
                      <a:lnTo>
                        <a:pt x="180" y="73"/>
                      </a:lnTo>
                      <a:lnTo>
                        <a:pt x="0" y="0"/>
                      </a:lnTo>
                      <a:lnTo>
                        <a:pt x="0" y="38"/>
                      </a:lnTo>
                      <a:lnTo>
                        <a:pt x="0" y="3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3" name=""/>
                <p:cNvSpPr/>
                <p:nvPr/>
              </p:nvSpPr>
              <p:spPr>
                <a:xfrm>
                  <a:off x="5291640" y="2136600"/>
                  <a:ext cx="55800" cy="201240"/>
                </a:xfrm>
                <a:custGeom>
                  <a:avLst/>
                  <a:gdLst/>
                  <a:ahLst/>
                  <a:rect l="l" t="t" r="r" b="b"/>
                  <a:pathLst>
                    <a:path w="162" h="405">
                      <a:moveTo>
                        <a:pt x="62" y="0"/>
                      </a:moveTo>
                      <a:lnTo>
                        <a:pt x="162" y="26"/>
                      </a:lnTo>
                      <a:lnTo>
                        <a:pt x="132" y="198"/>
                      </a:lnTo>
                      <a:lnTo>
                        <a:pt x="106" y="318"/>
                      </a:lnTo>
                      <a:lnTo>
                        <a:pt x="96" y="405"/>
                      </a:lnTo>
                      <a:lnTo>
                        <a:pt x="0" y="404"/>
                      </a:lnTo>
                      <a:lnTo>
                        <a:pt x="26" y="119"/>
                      </a:lnTo>
                      <a:lnTo>
                        <a:pt x="62" y="0"/>
                      </a:lnTo>
                      <a:lnTo>
                        <a:pt x="62"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4" name=""/>
                <p:cNvSpPr/>
                <p:nvPr/>
              </p:nvSpPr>
              <p:spPr>
                <a:xfrm>
                  <a:off x="5239440" y="2136600"/>
                  <a:ext cx="78840" cy="201240"/>
                </a:xfrm>
                <a:custGeom>
                  <a:avLst/>
                  <a:gdLst/>
                  <a:ahLst/>
                  <a:rect l="l" t="t" r="r" b="b"/>
                  <a:pathLst>
                    <a:path w="228" h="407">
                      <a:moveTo>
                        <a:pt x="27" y="0"/>
                      </a:moveTo>
                      <a:lnTo>
                        <a:pt x="211" y="6"/>
                      </a:lnTo>
                      <a:lnTo>
                        <a:pt x="207" y="153"/>
                      </a:lnTo>
                      <a:lnTo>
                        <a:pt x="183" y="167"/>
                      </a:lnTo>
                      <a:lnTo>
                        <a:pt x="228" y="269"/>
                      </a:lnTo>
                      <a:lnTo>
                        <a:pt x="197" y="407"/>
                      </a:lnTo>
                      <a:lnTo>
                        <a:pt x="134" y="407"/>
                      </a:lnTo>
                      <a:lnTo>
                        <a:pt x="0" y="100"/>
                      </a:lnTo>
                      <a:lnTo>
                        <a:pt x="27" y="0"/>
                      </a:lnTo>
                      <a:lnTo>
                        <a:pt x="27"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5" name=""/>
                <p:cNvSpPr/>
                <p:nvPr/>
              </p:nvSpPr>
              <p:spPr>
                <a:xfrm>
                  <a:off x="5207400" y="2139840"/>
                  <a:ext cx="87120" cy="199440"/>
                </a:xfrm>
                <a:custGeom>
                  <a:avLst/>
                  <a:gdLst/>
                  <a:ahLst/>
                  <a:rect l="l" t="t" r="r" b="b"/>
                  <a:pathLst>
                    <a:path w="251" h="404">
                      <a:moveTo>
                        <a:pt x="22" y="0"/>
                      </a:moveTo>
                      <a:lnTo>
                        <a:pt x="118" y="0"/>
                      </a:lnTo>
                      <a:lnTo>
                        <a:pt x="175" y="203"/>
                      </a:lnTo>
                      <a:lnTo>
                        <a:pt x="243" y="285"/>
                      </a:lnTo>
                      <a:lnTo>
                        <a:pt x="251" y="404"/>
                      </a:lnTo>
                      <a:lnTo>
                        <a:pt x="126" y="401"/>
                      </a:lnTo>
                      <a:lnTo>
                        <a:pt x="0" y="67"/>
                      </a:lnTo>
                      <a:lnTo>
                        <a:pt x="22" y="0"/>
                      </a:lnTo>
                      <a:lnTo>
                        <a:pt x="22"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6" name=""/>
                <p:cNvSpPr/>
                <p:nvPr/>
              </p:nvSpPr>
              <p:spPr>
                <a:xfrm>
                  <a:off x="5187600" y="2139840"/>
                  <a:ext cx="79920" cy="198000"/>
                </a:xfrm>
                <a:custGeom>
                  <a:avLst/>
                  <a:gdLst/>
                  <a:ahLst/>
                  <a:rect l="l" t="t" r="r" b="b"/>
                  <a:pathLst>
                    <a:path w="233" h="401">
                      <a:moveTo>
                        <a:pt x="0" y="10"/>
                      </a:moveTo>
                      <a:lnTo>
                        <a:pt x="82" y="0"/>
                      </a:lnTo>
                      <a:lnTo>
                        <a:pt x="128" y="178"/>
                      </a:lnTo>
                      <a:lnTo>
                        <a:pt x="171" y="182"/>
                      </a:lnTo>
                      <a:lnTo>
                        <a:pt x="233" y="401"/>
                      </a:lnTo>
                      <a:lnTo>
                        <a:pt x="15" y="401"/>
                      </a:lnTo>
                      <a:lnTo>
                        <a:pt x="0" y="10"/>
                      </a:lnTo>
                      <a:lnTo>
                        <a:pt x="0" y="1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7" name=""/>
                <p:cNvSpPr/>
                <p:nvPr/>
              </p:nvSpPr>
              <p:spPr>
                <a:xfrm>
                  <a:off x="5092920" y="2276640"/>
                  <a:ext cx="163080" cy="184680"/>
                </a:xfrm>
                <a:custGeom>
                  <a:avLst/>
                  <a:gdLst/>
                  <a:ahLst/>
                  <a:rect l="l" t="t" r="r" b="b"/>
                  <a:pathLst>
                    <a:path w="470" h="370">
                      <a:moveTo>
                        <a:pt x="0" y="74"/>
                      </a:moveTo>
                      <a:lnTo>
                        <a:pt x="403" y="0"/>
                      </a:lnTo>
                      <a:lnTo>
                        <a:pt x="422" y="23"/>
                      </a:lnTo>
                      <a:lnTo>
                        <a:pt x="449" y="7"/>
                      </a:lnTo>
                      <a:lnTo>
                        <a:pt x="470" y="299"/>
                      </a:lnTo>
                      <a:lnTo>
                        <a:pt x="59" y="370"/>
                      </a:lnTo>
                      <a:lnTo>
                        <a:pt x="0" y="348"/>
                      </a:lnTo>
                      <a:lnTo>
                        <a:pt x="0" y="74"/>
                      </a:lnTo>
                      <a:lnTo>
                        <a:pt x="0" y="74"/>
                      </a:lnTo>
                      <a:close/>
                    </a:path>
                  </a:pathLst>
                </a:custGeom>
                <a:solidFill>
                  <a:srgbClr val="9cb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8" name=""/>
                <p:cNvSpPr/>
                <p:nvPr/>
              </p:nvSpPr>
              <p:spPr>
                <a:xfrm>
                  <a:off x="5091840" y="2401920"/>
                  <a:ext cx="159840" cy="59760"/>
                </a:xfrm>
                <a:custGeom>
                  <a:avLst/>
                  <a:gdLst/>
                  <a:ahLst/>
                  <a:rect l="l" t="t" r="r" b="b"/>
                  <a:pathLst>
                    <a:path w="460" h="119">
                      <a:moveTo>
                        <a:pt x="0" y="97"/>
                      </a:moveTo>
                      <a:lnTo>
                        <a:pt x="300" y="43"/>
                      </a:lnTo>
                      <a:lnTo>
                        <a:pt x="310" y="0"/>
                      </a:lnTo>
                      <a:lnTo>
                        <a:pt x="354" y="23"/>
                      </a:lnTo>
                      <a:lnTo>
                        <a:pt x="400" y="15"/>
                      </a:lnTo>
                      <a:lnTo>
                        <a:pt x="460" y="53"/>
                      </a:lnTo>
                      <a:lnTo>
                        <a:pt x="61" y="119"/>
                      </a:lnTo>
                      <a:lnTo>
                        <a:pt x="0" y="97"/>
                      </a:lnTo>
                      <a:lnTo>
                        <a:pt x="0" y="97"/>
                      </a:lnTo>
                      <a:close/>
                    </a:path>
                  </a:pathLst>
                </a:custGeom>
                <a:solidFill>
                  <a:srgbClr val="75783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Futura Bk"/>
                  </a:endParaRPr>
                </a:p>
              </p:txBody>
            </p:sp>
            <p:sp>
              <p:nvSpPr>
                <p:cNvPr id="259" name=""/>
                <p:cNvSpPr/>
                <p:nvPr/>
              </p:nvSpPr>
              <p:spPr>
                <a:xfrm>
                  <a:off x="5169960" y="2394360"/>
                  <a:ext cx="52920" cy="54720"/>
                </a:xfrm>
                <a:custGeom>
                  <a:avLst/>
                  <a:gdLst/>
                  <a:ahLst/>
                  <a:rect l="l" t="t" r="r" b="b"/>
                  <a:pathLst>
                    <a:path w="153" h="111">
                      <a:moveTo>
                        <a:pt x="51" y="16"/>
                      </a:moveTo>
                      <a:lnTo>
                        <a:pt x="99" y="0"/>
                      </a:lnTo>
                      <a:lnTo>
                        <a:pt x="133" y="31"/>
                      </a:lnTo>
                      <a:lnTo>
                        <a:pt x="126" y="43"/>
                      </a:lnTo>
                      <a:lnTo>
                        <a:pt x="103" y="29"/>
                      </a:lnTo>
                      <a:lnTo>
                        <a:pt x="91" y="35"/>
                      </a:lnTo>
                      <a:lnTo>
                        <a:pt x="153" y="81"/>
                      </a:lnTo>
                      <a:lnTo>
                        <a:pt x="141" y="100"/>
                      </a:lnTo>
                      <a:lnTo>
                        <a:pt x="115" y="75"/>
                      </a:lnTo>
                      <a:lnTo>
                        <a:pt x="103" y="81"/>
                      </a:lnTo>
                      <a:lnTo>
                        <a:pt x="128" y="106"/>
                      </a:lnTo>
                      <a:lnTo>
                        <a:pt x="105" y="111"/>
                      </a:lnTo>
                      <a:lnTo>
                        <a:pt x="87" y="96"/>
                      </a:lnTo>
                      <a:lnTo>
                        <a:pt x="59" y="105"/>
                      </a:lnTo>
                      <a:lnTo>
                        <a:pt x="0" y="67"/>
                      </a:lnTo>
                      <a:lnTo>
                        <a:pt x="51" y="16"/>
                      </a:lnTo>
                      <a:lnTo>
                        <a:pt x="51" y="16"/>
                      </a:lnTo>
                      <a:close/>
                    </a:path>
                  </a:pathLst>
                </a:custGeom>
                <a:solidFill>
                  <a:srgbClr val="ffcc8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Futura Bk"/>
                  </a:endParaRPr>
                </a:p>
              </p:txBody>
            </p:sp>
            <p:sp>
              <p:nvSpPr>
                <p:cNvPr id="260" name=""/>
                <p:cNvSpPr/>
                <p:nvPr/>
              </p:nvSpPr>
              <p:spPr>
                <a:xfrm>
                  <a:off x="5144760" y="2236680"/>
                  <a:ext cx="68400" cy="166680"/>
                </a:xfrm>
                <a:custGeom>
                  <a:avLst/>
                  <a:gdLst/>
                  <a:ahLst/>
                  <a:rect l="l" t="t" r="r" b="b"/>
                  <a:pathLst>
                    <a:path w="196" h="335">
                      <a:moveTo>
                        <a:pt x="196" y="0"/>
                      </a:moveTo>
                      <a:lnTo>
                        <a:pt x="173" y="92"/>
                      </a:lnTo>
                      <a:lnTo>
                        <a:pt x="67" y="124"/>
                      </a:lnTo>
                      <a:lnTo>
                        <a:pt x="129" y="335"/>
                      </a:lnTo>
                      <a:lnTo>
                        <a:pt x="14" y="304"/>
                      </a:lnTo>
                      <a:lnTo>
                        <a:pt x="0" y="36"/>
                      </a:lnTo>
                      <a:lnTo>
                        <a:pt x="196" y="0"/>
                      </a:lnTo>
                      <a:lnTo>
                        <a:pt x="196"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1" name=""/>
                <p:cNvSpPr/>
                <p:nvPr/>
              </p:nvSpPr>
              <p:spPr>
                <a:xfrm>
                  <a:off x="5118840" y="2175480"/>
                  <a:ext cx="94320" cy="242640"/>
                </a:xfrm>
                <a:custGeom>
                  <a:avLst/>
                  <a:gdLst/>
                  <a:ahLst/>
                  <a:rect l="l" t="t" r="r" b="b"/>
                  <a:pathLst>
                    <a:path w="273" h="489">
                      <a:moveTo>
                        <a:pt x="267" y="22"/>
                      </a:moveTo>
                      <a:lnTo>
                        <a:pt x="273" y="124"/>
                      </a:lnTo>
                      <a:lnTo>
                        <a:pt x="98" y="190"/>
                      </a:lnTo>
                      <a:lnTo>
                        <a:pt x="134" y="370"/>
                      </a:lnTo>
                      <a:lnTo>
                        <a:pt x="206" y="466"/>
                      </a:lnTo>
                      <a:lnTo>
                        <a:pt x="192" y="489"/>
                      </a:lnTo>
                      <a:lnTo>
                        <a:pt x="26" y="409"/>
                      </a:lnTo>
                      <a:lnTo>
                        <a:pt x="0" y="206"/>
                      </a:lnTo>
                      <a:lnTo>
                        <a:pt x="121" y="0"/>
                      </a:lnTo>
                      <a:lnTo>
                        <a:pt x="267" y="22"/>
                      </a:lnTo>
                      <a:lnTo>
                        <a:pt x="267" y="2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2" name=""/>
                <p:cNvSpPr/>
                <p:nvPr/>
              </p:nvSpPr>
              <p:spPr>
                <a:xfrm>
                  <a:off x="5106600" y="2157480"/>
                  <a:ext cx="104760" cy="266400"/>
                </a:xfrm>
                <a:custGeom>
                  <a:avLst/>
                  <a:gdLst/>
                  <a:ahLst/>
                  <a:rect l="l" t="t" r="r" b="b"/>
                  <a:pathLst>
                    <a:path w="301" h="536">
                      <a:moveTo>
                        <a:pt x="284" y="0"/>
                      </a:moveTo>
                      <a:lnTo>
                        <a:pt x="301" y="58"/>
                      </a:lnTo>
                      <a:lnTo>
                        <a:pt x="157" y="110"/>
                      </a:lnTo>
                      <a:lnTo>
                        <a:pt x="63" y="263"/>
                      </a:lnTo>
                      <a:lnTo>
                        <a:pt x="111" y="263"/>
                      </a:lnTo>
                      <a:lnTo>
                        <a:pt x="142" y="450"/>
                      </a:lnTo>
                      <a:lnTo>
                        <a:pt x="176" y="435"/>
                      </a:lnTo>
                      <a:lnTo>
                        <a:pt x="226" y="523"/>
                      </a:lnTo>
                      <a:lnTo>
                        <a:pt x="212" y="536"/>
                      </a:lnTo>
                      <a:lnTo>
                        <a:pt x="102" y="498"/>
                      </a:lnTo>
                      <a:lnTo>
                        <a:pt x="0" y="362"/>
                      </a:lnTo>
                      <a:lnTo>
                        <a:pt x="14" y="160"/>
                      </a:lnTo>
                      <a:lnTo>
                        <a:pt x="170" y="8"/>
                      </a:lnTo>
                      <a:lnTo>
                        <a:pt x="284" y="0"/>
                      </a:lnTo>
                      <a:lnTo>
                        <a:pt x="28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3" name=""/>
                <p:cNvSpPr/>
                <p:nvPr/>
              </p:nvSpPr>
              <p:spPr>
                <a:xfrm>
                  <a:off x="5253120" y="2166480"/>
                  <a:ext cx="32040" cy="178920"/>
                </a:xfrm>
                <a:custGeom>
                  <a:avLst/>
                  <a:gdLst/>
                  <a:ahLst/>
                  <a:rect l="l" t="t" r="r" b="b"/>
                  <a:pathLst>
                    <a:path w="94" h="361">
                      <a:moveTo>
                        <a:pt x="0" y="56"/>
                      </a:moveTo>
                      <a:lnTo>
                        <a:pt x="23" y="85"/>
                      </a:lnTo>
                      <a:lnTo>
                        <a:pt x="10" y="322"/>
                      </a:lnTo>
                      <a:lnTo>
                        <a:pt x="66" y="361"/>
                      </a:lnTo>
                      <a:lnTo>
                        <a:pt x="94" y="313"/>
                      </a:lnTo>
                      <a:lnTo>
                        <a:pt x="50" y="83"/>
                      </a:lnTo>
                      <a:lnTo>
                        <a:pt x="73" y="47"/>
                      </a:lnTo>
                      <a:lnTo>
                        <a:pt x="25"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4" name=""/>
                <p:cNvSpPr/>
                <p:nvPr/>
              </p:nvSpPr>
              <p:spPr>
                <a:xfrm>
                  <a:off x="5226120" y="2126160"/>
                  <a:ext cx="70560" cy="87840"/>
                </a:xfrm>
                <a:custGeom>
                  <a:avLst/>
                  <a:gdLst/>
                  <a:ahLst/>
                  <a:rect l="l" t="t" r="r" b="b"/>
                  <a:pathLst>
                    <a:path w="204" h="177">
                      <a:moveTo>
                        <a:pt x="0" y="21"/>
                      </a:moveTo>
                      <a:lnTo>
                        <a:pt x="29" y="159"/>
                      </a:lnTo>
                      <a:lnTo>
                        <a:pt x="110" y="109"/>
                      </a:lnTo>
                      <a:lnTo>
                        <a:pt x="178" y="177"/>
                      </a:lnTo>
                      <a:lnTo>
                        <a:pt x="204" y="35"/>
                      </a:lnTo>
                      <a:lnTo>
                        <a:pt x="184" y="0"/>
                      </a:lnTo>
                      <a:lnTo>
                        <a:pt x="0" y="21"/>
                      </a:lnTo>
                      <a:lnTo>
                        <a:pt x="0" y="21"/>
                      </a:lnTo>
                      <a:close/>
                    </a:path>
                  </a:pathLst>
                </a:custGeom>
                <a:solidFill>
                  <a:srgbClr val="e6e6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Futura Bk"/>
                  </a:endParaRPr>
                </a:p>
              </p:txBody>
            </p:sp>
            <p:sp>
              <p:nvSpPr>
                <p:cNvPr id="265" name=""/>
                <p:cNvSpPr/>
                <p:nvPr/>
              </p:nvSpPr>
              <p:spPr>
                <a:xfrm>
                  <a:off x="5216400" y="2059200"/>
                  <a:ext cx="74880" cy="117360"/>
                </a:xfrm>
                <a:custGeom>
                  <a:avLst/>
                  <a:gdLst/>
                  <a:ahLst/>
                  <a:rect l="l" t="t" r="r" b="b"/>
                  <a:pathLst>
                    <a:path w="217" h="238">
                      <a:moveTo>
                        <a:pt x="141" y="5"/>
                      </a:moveTo>
                      <a:lnTo>
                        <a:pt x="142" y="6"/>
                      </a:lnTo>
                      <a:lnTo>
                        <a:pt x="147" y="11"/>
                      </a:lnTo>
                      <a:lnTo>
                        <a:pt x="153" y="16"/>
                      </a:lnTo>
                      <a:lnTo>
                        <a:pt x="162" y="24"/>
                      </a:lnTo>
                      <a:lnTo>
                        <a:pt x="167" y="28"/>
                      </a:lnTo>
                      <a:lnTo>
                        <a:pt x="172" y="33"/>
                      </a:lnTo>
                      <a:lnTo>
                        <a:pt x="177" y="37"/>
                      </a:lnTo>
                      <a:lnTo>
                        <a:pt x="182" y="43"/>
                      </a:lnTo>
                      <a:lnTo>
                        <a:pt x="187" y="48"/>
                      </a:lnTo>
                      <a:lnTo>
                        <a:pt x="193" y="55"/>
                      </a:lnTo>
                      <a:lnTo>
                        <a:pt x="198" y="60"/>
                      </a:lnTo>
                      <a:lnTo>
                        <a:pt x="204" y="66"/>
                      </a:lnTo>
                      <a:lnTo>
                        <a:pt x="185" y="77"/>
                      </a:lnTo>
                      <a:lnTo>
                        <a:pt x="217" y="146"/>
                      </a:lnTo>
                      <a:lnTo>
                        <a:pt x="182" y="234"/>
                      </a:lnTo>
                      <a:lnTo>
                        <a:pt x="100" y="238"/>
                      </a:lnTo>
                      <a:lnTo>
                        <a:pt x="20" y="146"/>
                      </a:lnTo>
                      <a:lnTo>
                        <a:pt x="0" y="64"/>
                      </a:lnTo>
                      <a:lnTo>
                        <a:pt x="87" y="0"/>
                      </a:lnTo>
                      <a:lnTo>
                        <a:pt x="141" y="5"/>
                      </a:lnTo>
                      <a:lnTo>
                        <a:pt x="141" y="5"/>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6" name=""/>
                <p:cNvSpPr/>
                <p:nvPr/>
              </p:nvSpPr>
              <p:spPr>
                <a:xfrm>
                  <a:off x="5248800" y="2077200"/>
                  <a:ext cx="34200" cy="20880"/>
                </a:xfrm>
                <a:custGeom>
                  <a:avLst/>
                  <a:gdLst/>
                  <a:ahLst/>
                  <a:rect l="l" t="t" r="r" b="b"/>
                  <a:pathLst>
                    <a:path w="97" h="41">
                      <a:moveTo>
                        <a:pt x="82" y="0"/>
                      </a:moveTo>
                      <a:lnTo>
                        <a:pt x="0" y="16"/>
                      </a:lnTo>
                      <a:lnTo>
                        <a:pt x="7" y="41"/>
                      </a:lnTo>
                      <a:lnTo>
                        <a:pt x="97" y="16"/>
                      </a:lnTo>
                      <a:lnTo>
                        <a:pt x="82" y="0"/>
                      </a:lnTo>
                      <a:lnTo>
                        <a:pt x="82" y="0"/>
                      </a:lnTo>
                      <a:close/>
                    </a:path>
                  </a:pathLst>
                </a:custGeom>
                <a:solidFill>
                  <a:srgbClr val="eb995c"/>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Futura Bk"/>
                  </a:endParaRPr>
                </a:p>
              </p:txBody>
            </p:sp>
            <p:sp>
              <p:nvSpPr>
                <p:cNvPr id="267" name=""/>
                <p:cNvSpPr/>
                <p:nvPr/>
              </p:nvSpPr>
              <p:spPr>
                <a:xfrm>
                  <a:off x="5235480" y="2102400"/>
                  <a:ext cx="55800" cy="74160"/>
                </a:xfrm>
                <a:custGeom>
                  <a:avLst/>
                  <a:gdLst/>
                  <a:ahLst/>
                  <a:rect l="l" t="t" r="r" b="b"/>
                  <a:pathLst>
                    <a:path w="163" h="151">
                      <a:moveTo>
                        <a:pt x="0" y="0"/>
                      </a:moveTo>
                      <a:lnTo>
                        <a:pt x="52" y="27"/>
                      </a:lnTo>
                      <a:lnTo>
                        <a:pt x="62" y="71"/>
                      </a:lnTo>
                      <a:lnTo>
                        <a:pt x="163" y="61"/>
                      </a:lnTo>
                      <a:lnTo>
                        <a:pt x="157" y="75"/>
                      </a:lnTo>
                      <a:lnTo>
                        <a:pt x="56" y="96"/>
                      </a:lnTo>
                      <a:lnTo>
                        <a:pt x="90" y="147"/>
                      </a:lnTo>
                      <a:lnTo>
                        <a:pt x="67" y="151"/>
                      </a:lnTo>
                      <a:lnTo>
                        <a:pt x="6" y="67"/>
                      </a:lnTo>
                      <a:lnTo>
                        <a:pt x="0" y="0"/>
                      </a:lnTo>
                      <a:lnTo>
                        <a:pt x="0" y="0"/>
                      </a:lnTo>
                      <a:close/>
                    </a:path>
                  </a:pathLst>
                </a:custGeom>
                <a:solidFill>
                  <a:srgbClr val="eb995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268" name=""/>
                <p:cNvSpPr/>
                <p:nvPr/>
              </p:nvSpPr>
              <p:spPr>
                <a:xfrm>
                  <a:off x="5098320" y="2144160"/>
                  <a:ext cx="105840" cy="290160"/>
                </a:xfrm>
                <a:custGeom>
                  <a:avLst/>
                  <a:gdLst/>
                  <a:ahLst/>
                  <a:rect l="l" t="t" r="r" b="b"/>
                  <a:pathLst>
                    <a:path w="305" h="584">
                      <a:moveTo>
                        <a:pt x="259" y="0"/>
                      </a:moveTo>
                      <a:lnTo>
                        <a:pt x="255" y="0"/>
                      </a:lnTo>
                      <a:lnTo>
                        <a:pt x="248" y="3"/>
                      </a:lnTo>
                      <a:lnTo>
                        <a:pt x="235" y="7"/>
                      </a:lnTo>
                      <a:lnTo>
                        <a:pt x="218" y="14"/>
                      </a:lnTo>
                      <a:lnTo>
                        <a:pt x="199" y="23"/>
                      </a:lnTo>
                      <a:lnTo>
                        <a:pt x="177" y="35"/>
                      </a:lnTo>
                      <a:lnTo>
                        <a:pt x="154" y="49"/>
                      </a:lnTo>
                      <a:lnTo>
                        <a:pt x="130" y="67"/>
                      </a:lnTo>
                      <a:lnTo>
                        <a:pt x="106" y="85"/>
                      </a:lnTo>
                      <a:lnTo>
                        <a:pt x="82" y="108"/>
                      </a:lnTo>
                      <a:lnTo>
                        <a:pt x="60" y="133"/>
                      </a:lnTo>
                      <a:lnTo>
                        <a:pt x="41" y="162"/>
                      </a:lnTo>
                      <a:lnTo>
                        <a:pt x="25" y="195"/>
                      </a:lnTo>
                      <a:lnTo>
                        <a:pt x="12" y="229"/>
                      </a:lnTo>
                      <a:lnTo>
                        <a:pt x="4" y="269"/>
                      </a:lnTo>
                      <a:lnTo>
                        <a:pt x="0" y="312"/>
                      </a:lnTo>
                      <a:lnTo>
                        <a:pt x="1" y="354"/>
                      </a:lnTo>
                      <a:lnTo>
                        <a:pt x="9" y="392"/>
                      </a:lnTo>
                      <a:lnTo>
                        <a:pt x="19" y="426"/>
                      </a:lnTo>
                      <a:lnTo>
                        <a:pt x="34" y="455"/>
                      </a:lnTo>
                      <a:lnTo>
                        <a:pt x="51" y="480"/>
                      </a:lnTo>
                      <a:lnTo>
                        <a:pt x="71" y="502"/>
                      </a:lnTo>
                      <a:lnTo>
                        <a:pt x="90" y="521"/>
                      </a:lnTo>
                      <a:lnTo>
                        <a:pt x="113" y="537"/>
                      </a:lnTo>
                      <a:lnTo>
                        <a:pt x="133" y="549"/>
                      </a:lnTo>
                      <a:lnTo>
                        <a:pt x="154" y="560"/>
                      </a:lnTo>
                      <a:lnTo>
                        <a:pt x="173" y="568"/>
                      </a:lnTo>
                      <a:lnTo>
                        <a:pt x="192" y="574"/>
                      </a:lnTo>
                      <a:lnTo>
                        <a:pt x="206" y="578"/>
                      </a:lnTo>
                      <a:lnTo>
                        <a:pt x="217" y="581"/>
                      </a:lnTo>
                      <a:lnTo>
                        <a:pt x="225" y="583"/>
                      </a:lnTo>
                      <a:lnTo>
                        <a:pt x="228" y="584"/>
                      </a:lnTo>
                      <a:lnTo>
                        <a:pt x="237" y="562"/>
                      </a:lnTo>
                      <a:lnTo>
                        <a:pt x="182" y="494"/>
                      </a:lnTo>
                      <a:lnTo>
                        <a:pt x="163" y="521"/>
                      </a:lnTo>
                      <a:lnTo>
                        <a:pt x="39" y="381"/>
                      </a:lnTo>
                      <a:lnTo>
                        <a:pt x="57" y="199"/>
                      </a:lnTo>
                      <a:lnTo>
                        <a:pt x="93" y="210"/>
                      </a:lnTo>
                      <a:lnTo>
                        <a:pt x="195" y="50"/>
                      </a:lnTo>
                      <a:lnTo>
                        <a:pt x="223" y="74"/>
                      </a:lnTo>
                      <a:lnTo>
                        <a:pt x="305" y="28"/>
                      </a:lnTo>
                      <a:lnTo>
                        <a:pt x="259" y="0"/>
                      </a:lnTo>
                      <a:lnTo>
                        <a:pt x="25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9" name=""/>
                <p:cNvSpPr/>
                <p:nvPr/>
              </p:nvSpPr>
              <p:spPr>
                <a:xfrm>
                  <a:off x="5233320" y="2276640"/>
                  <a:ext cx="13320" cy="136800"/>
                </a:xfrm>
                <a:custGeom>
                  <a:avLst/>
                  <a:gdLst/>
                  <a:ahLst/>
                  <a:rect l="l" t="t" r="r" b="b"/>
                  <a:pathLst>
                    <a:path w="38" h="276">
                      <a:moveTo>
                        <a:pt x="0" y="0"/>
                      </a:moveTo>
                      <a:lnTo>
                        <a:pt x="7" y="258"/>
                      </a:lnTo>
                      <a:lnTo>
                        <a:pt x="38" y="276"/>
                      </a:lnTo>
                      <a:lnTo>
                        <a:pt x="31" y="1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70" name=""/>
                <p:cNvSpPr/>
                <p:nvPr/>
              </p:nvSpPr>
              <p:spPr>
                <a:xfrm>
                  <a:off x="5310360" y="2071080"/>
                  <a:ext cx="401040" cy="23760"/>
                </a:xfrm>
                <a:custGeom>
                  <a:avLst/>
                  <a:gdLst/>
                  <a:ahLst/>
                  <a:rect l="l" t="t" r="r" b="b"/>
                  <a:pathLst>
                    <a:path w="1157" h="48">
                      <a:moveTo>
                        <a:pt x="0" y="48"/>
                      </a:moveTo>
                      <a:lnTo>
                        <a:pt x="1157" y="48"/>
                      </a:lnTo>
                      <a:lnTo>
                        <a:pt x="1157" y="0"/>
                      </a:lnTo>
                      <a:lnTo>
                        <a:pt x="0" y="0"/>
                      </a:lnTo>
                      <a:lnTo>
                        <a:pt x="0" y="48"/>
                      </a:lnTo>
                      <a:lnTo>
                        <a:pt x="0" y="48"/>
                      </a:lnTo>
                      <a:close/>
                    </a:path>
                  </a:pathLst>
                </a:custGeom>
                <a:solidFill>
                  <a:srgbClr val="ffffc2"/>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sp>
              <p:nvSpPr>
                <p:cNvPr id="271" name=""/>
                <p:cNvSpPr/>
                <p:nvPr/>
              </p:nvSpPr>
              <p:spPr>
                <a:xfrm>
                  <a:off x="4773960" y="2080080"/>
                  <a:ext cx="87120" cy="25200"/>
                </a:xfrm>
                <a:custGeom>
                  <a:avLst/>
                  <a:gdLst/>
                  <a:ahLst/>
                  <a:rect l="l" t="t" r="r" b="b"/>
                  <a:pathLst>
                    <a:path w="253" h="52">
                      <a:moveTo>
                        <a:pt x="0" y="52"/>
                      </a:moveTo>
                      <a:lnTo>
                        <a:pt x="253" y="52"/>
                      </a:lnTo>
                      <a:lnTo>
                        <a:pt x="253" y="0"/>
                      </a:lnTo>
                      <a:lnTo>
                        <a:pt x="0" y="0"/>
                      </a:lnTo>
                      <a:lnTo>
                        <a:pt x="0" y="52"/>
                      </a:lnTo>
                      <a:lnTo>
                        <a:pt x="0" y="52"/>
                      </a:lnTo>
                      <a:close/>
                    </a:path>
                  </a:pathLst>
                </a:custGeom>
                <a:solidFill>
                  <a:srgbClr val="d1d14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2" name=""/>
                <p:cNvSpPr/>
                <p:nvPr/>
              </p:nvSpPr>
              <p:spPr>
                <a:xfrm>
                  <a:off x="4803840" y="2254680"/>
                  <a:ext cx="91440" cy="66600"/>
                </a:xfrm>
                <a:custGeom>
                  <a:avLst/>
                  <a:gdLst/>
                  <a:ahLst/>
                  <a:rect l="l" t="t" r="r" b="b"/>
                  <a:pathLst>
                    <a:path w="265" h="136">
                      <a:moveTo>
                        <a:pt x="16" y="136"/>
                      </a:moveTo>
                      <a:lnTo>
                        <a:pt x="265" y="50"/>
                      </a:lnTo>
                      <a:lnTo>
                        <a:pt x="248" y="0"/>
                      </a:lnTo>
                      <a:lnTo>
                        <a:pt x="0" y="86"/>
                      </a:lnTo>
                      <a:lnTo>
                        <a:pt x="16" y="136"/>
                      </a:lnTo>
                      <a:lnTo>
                        <a:pt x="16" y="136"/>
                      </a:lnTo>
                      <a:close/>
                    </a:path>
                  </a:pathLst>
                </a:custGeom>
                <a:solidFill>
                  <a:srgbClr val="d1d14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73" name=""/>
                <p:cNvSpPr/>
                <p:nvPr/>
              </p:nvSpPr>
              <p:spPr>
                <a:xfrm>
                  <a:off x="4926600" y="2190240"/>
                  <a:ext cx="92160" cy="66600"/>
                </a:xfrm>
                <a:custGeom>
                  <a:avLst/>
                  <a:gdLst/>
                  <a:ahLst/>
                  <a:rect l="l" t="t" r="r" b="b"/>
                  <a:pathLst>
                    <a:path w="267" h="137">
                      <a:moveTo>
                        <a:pt x="17" y="137"/>
                      </a:moveTo>
                      <a:lnTo>
                        <a:pt x="267" y="50"/>
                      </a:lnTo>
                      <a:lnTo>
                        <a:pt x="251" y="0"/>
                      </a:lnTo>
                      <a:lnTo>
                        <a:pt x="0" y="88"/>
                      </a:lnTo>
                      <a:lnTo>
                        <a:pt x="17" y="137"/>
                      </a:lnTo>
                      <a:lnTo>
                        <a:pt x="17" y="137"/>
                      </a:lnTo>
                      <a:close/>
                    </a:path>
                  </a:pathLst>
                </a:custGeom>
                <a:solidFill>
                  <a:srgbClr val="ffffc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74" name=""/>
                <p:cNvSpPr/>
                <p:nvPr/>
              </p:nvSpPr>
              <p:spPr>
                <a:xfrm>
                  <a:off x="5056560" y="2116080"/>
                  <a:ext cx="93600" cy="68040"/>
                </a:xfrm>
                <a:custGeom>
                  <a:avLst/>
                  <a:gdLst/>
                  <a:ahLst/>
                  <a:rect l="l" t="t" r="r" b="b"/>
                  <a:pathLst>
                    <a:path w="268" h="137">
                      <a:moveTo>
                        <a:pt x="17" y="137"/>
                      </a:moveTo>
                      <a:lnTo>
                        <a:pt x="268" y="50"/>
                      </a:lnTo>
                      <a:lnTo>
                        <a:pt x="250" y="0"/>
                      </a:lnTo>
                      <a:lnTo>
                        <a:pt x="0" y="86"/>
                      </a:lnTo>
                      <a:lnTo>
                        <a:pt x="17" y="137"/>
                      </a:lnTo>
                      <a:lnTo>
                        <a:pt x="17" y="137"/>
                      </a:lnTo>
                      <a:close/>
                    </a:path>
                  </a:pathLst>
                </a:custGeom>
                <a:solidFill>
                  <a:srgbClr val="ffffc2"/>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275" name=""/>
                <p:cNvSpPr/>
                <p:nvPr/>
              </p:nvSpPr>
              <p:spPr>
                <a:xfrm>
                  <a:off x="4829760" y="1828080"/>
                  <a:ext cx="91440" cy="77400"/>
                </a:xfrm>
                <a:custGeom>
                  <a:avLst/>
                  <a:gdLst/>
                  <a:ahLst/>
                  <a:rect l="l" t="t" r="r" b="b"/>
                  <a:pathLst>
                    <a:path w="264" h="156">
                      <a:moveTo>
                        <a:pt x="0" y="48"/>
                      </a:moveTo>
                      <a:lnTo>
                        <a:pt x="244" y="156"/>
                      </a:lnTo>
                      <a:lnTo>
                        <a:pt x="264" y="106"/>
                      </a:lnTo>
                      <a:lnTo>
                        <a:pt x="21" y="0"/>
                      </a:lnTo>
                      <a:lnTo>
                        <a:pt x="0" y="48"/>
                      </a:lnTo>
                      <a:lnTo>
                        <a:pt x="0" y="48"/>
                      </a:lnTo>
                      <a:close/>
                    </a:path>
                  </a:pathLst>
                </a:custGeom>
                <a:solidFill>
                  <a:srgbClr val="d1d142"/>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Futura Bk"/>
                  </a:endParaRPr>
                </a:p>
              </p:txBody>
            </p:sp>
            <p:sp>
              <p:nvSpPr>
                <p:cNvPr id="276" name=""/>
                <p:cNvSpPr/>
                <p:nvPr/>
              </p:nvSpPr>
              <p:spPr>
                <a:xfrm>
                  <a:off x="4945320" y="1902960"/>
                  <a:ext cx="79200" cy="68400"/>
                </a:xfrm>
                <a:custGeom>
                  <a:avLst/>
                  <a:gdLst/>
                  <a:ahLst/>
                  <a:rect l="l" t="t" r="r" b="b"/>
                  <a:pathLst>
                    <a:path w="228" h="138">
                      <a:moveTo>
                        <a:pt x="0" y="48"/>
                      </a:moveTo>
                      <a:lnTo>
                        <a:pt x="206" y="138"/>
                      </a:lnTo>
                      <a:lnTo>
                        <a:pt x="228" y="90"/>
                      </a:lnTo>
                      <a:lnTo>
                        <a:pt x="28" y="0"/>
                      </a:lnTo>
                      <a:lnTo>
                        <a:pt x="0" y="48"/>
                      </a:lnTo>
                      <a:lnTo>
                        <a:pt x="0" y="48"/>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7" name=""/>
                <p:cNvSpPr/>
                <p:nvPr/>
              </p:nvSpPr>
              <p:spPr>
                <a:xfrm>
                  <a:off x="5051160" y="1971360"/>
                  <a:ext cx="90360" cy="77040"/>
                </a:xfrm>
                <a:custGeom>
                  <a:avLst/>
                  <a:gdLst/>
                  <a:ahLst/>
                  <a:rect l="l" t="t" r="r" b="b"/>
                  <a:pathLst>
                    <a:path w="263" h="157">
                      <a:moveTo>
                        <a:pt x="0" y="48"/>
                      </a:moveTo>
                      <a:lnTo>
                        <a:pt x="243" y="157"/>
                      </a:lnTo>
                      <a:lnTo>
                        <a:pt x="263" y="107"/>
                      </a:lnTo>
                      <a:lnTo>
                        <a:pt x="24" y="0"/>
                      </a:lnTo>
                      <a:lnTo>
                        <a:pt x="0" y="48"/>
                      </a:lnTo>
                      <a:lnTo>
                        <a:pt x="0" y="48"/>
                      </a:lnTo>
                      <a:close/>
                    </a:path>
                  </a:pathLst>
                </a:custGeom>
                <a:solidFill>
                  <a:srgbClr val="ffffc2"/>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Futura Bk"/>
                  </a:endParaRPr>
                </a:p>
              </p:txBody>
            </p:sp>
            <p:sp>
              <p:nvSpPr>
                <p:cNvPr id="278" name=""/>
                <p:cNvSpPr/>
                <p:nvPr/>
              </p:nvSpPr>
              <p:spPr>
                <a:xfrm>
                  <a:off x="4903560" y="2080080"/>
                  <a:ext cx="91440" cy="25200"/>
                </a:xfrm>
                <a:custGeom>
                  <a:avLst/>
                  <a:gdLst/>
                  <a:ahLst/>
                  <a:rect l="l" t="t" r="r" b="b"/>
                  <a:pathLst>
                    <a:path w="266" h="52">
                      <a:moveTo>
                        <a:pt x="0" y="52"/>
                      </a:moveTo>
                      <a:lnTo>
                        <a:pt x="266" y="52"/>
                      </a:lnTo>
                      <a:lnTo>
                        <a:pt x="266"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9" name=""/>
                <p:cNvSpPr/>
                <p:nvPr/>
              </p:nvSpPr>
              <p:spPr>
                <a:xfrm>
                  <a:off x="5036760" y="2080080"/>
                  <a:ext cx="90360" cy="25200"/>
                </a:xfrm>
                <a:custGeom>
                  <a:avLst/>
                  <a:gdLst/>
                  <a:ahLst/>
                  <a:rect l="l" t="t" r="r" b="b"/>
                  <a:pathLst>
                    <a:path w="261" h="52">
                      <a:moveTo>
                        <a:pt x="0" y="52"/>
                      </a:moveTo>
                      <a:lnTo>
                        <a:pt x="261" y="52"/>
                      </a:lnTo>
                      <a:lnTo>
                        <a:pt x="261"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80" name=""/>
                <p:cNvSpPr/>
                <p:nvPr/>
              </p:nvSpPr>
              <p:spPr>
                <a:xfrm>
                  <a:off x="5212440" y="2045880"/>
                  <a:ext cx="56880" cy="90720"/>
                </a:xfrm>
                <a:custGeom>
                  <a:avLst/>
                  <a:gdLst/>
                  <a:ahLst/>
                  <a:rect l="l" t="t" r="r" b="b"/>
                  <a:pathLst>
                    <a:path w="166" h="182">
                      <a:moveTo>
                        <a:pt x="166" y="29"/>
                      </a:moveTo>
                      <a:lnTo>
                        <a:pt x="66" y="69"/>
                      </a:lnTo>
                      <a:lnTo>
                        <a:pt x="66" y="113"/>
                      </a:lnTo>
                      <a:lnTo>
                        <a:pt x="34" y="105"/>
                      </a:lnTo>
                      <a:lnTo>
                        <a:pt x="32" y="106"/>
                      </a:lnTo>
                      <a:lnTo>
                        <a:pt x="30" y="110"/>
                      </a:lnTo>
                      <a:lnTo>
                        <a:pt x="28" y="117"/>
                      </a:lnTo>
                      <a:lnTo>
                        <a:pt x="27" y="126"/>
                      </a:lnTo>
                      <a:lnTo>
                        <a:pt x="27" y="134"/>
                      </a:lnTo>
                      <a:lnTo>
                        <a:pt x="30" y="142"/>
                      </a:lnTo>
                      <a:lnTo>
                        <a:pt x="33" y="146"/>
                      </a:lnTo>
                      <a:lnTo>
                        <a:pt x="36" y="150"/>
                      </a:lnTo>
                      <a:lnTo>
                        <a:pt x="43" y="152"/>
                      </a:lnTo>
                      <a:lnTo>
                        <a:pt x="49" y="156"/>
                      </a:lnTo>
                      <a:lnTo>
                        <a:pt x="39" y="182"/>
                      </a:lnTo>
                      <a:lnTo>
                        <a:pt x="36" y="180"/>
                      </a:lnTo>
                      <a:lnTo>
                        <a:pt x="30" y="176"/>
                      </a:lnTo>
                      <a:lnTo>
                        <a:pt x="25" y="172"/>
                      </a:lnTo>
                      <a:lnTo>
                        <a:pt x="23" y="166"/>
                      </a:lnTo>
                      <a:lnTo>
                        <a:pt x="18" y="161"/>
                      </a:lnTo>
                      <a:lnTo>
                        <a:pt x="15" y="156"/>
                      </a:lnTo>
                      <a:lnTo>
                        <a:pt x="11" y="149"/>
                      </a:lnTo>
                      <a:lnTo>
                        <a:pt x="7" y="141"/>
                      </a:lnTo>
                      <a:lnTo>
                        <a:pt x="4" y="132"/>
                      </a:lnTo>
                      <a:lnTo>
                        <a:pt x="2" y="122"/>
                      </a:lnTo>
                      <a:lnTo>
                        <a:pt x="0" y="110"/>
                      </a:lnTo>
                      <a:lnTo>
                        <a:pt x="0" y="99"/>
                      </a:lnTo>
                      <a:lnTo>
                        <a:pt x="1" y="86"/>
                      </a:lnTo>
                      <a:lnTo>
                        <a:pt x="3" y="72"/>
                      </a:lnTo>
                      <a:lnTo>
                        <a:pt x="133" y="0"/>
                      </a:lnTo>
                      <a:lnTo>
                        <a:pt x="166" y="29"/>
                      </a:lnTo>
                      <a:lnTo>
                        <a:pt x="166" y="29"/>
                      </a:lnTo>
                      <a:close/>
                    </a:path>
                  </a:pathLst>
                </a:custGeom>
                <a:solidFill>
                  <a:srgbClr val="b3b02c"/>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Futura Bk"/>
                  </a:endParaRPr>
                </a:p>
              </p:txBody>
            </p:sp>
          </p:grpSp>
          <p:sp>
            <p:nvSpPr>
              <p:cNvPr id="281" name=""/>
              <p:cNvSpPr/>
              <p:nvPr/>
            </p:nvSpPr>
            <p:spPr>
              <a:xfrm>
                <a:off x="6261480" y="2444040"/>
                <a:ext cx="701280" cy="326880"/>
              </a:xfrm>
              <a:custGeom>
                <a:avLst/>
                <a:gdLst/>
                <a:ahLst/>
                <a:rect l="l" t="t" r="r" b="b"/>
                <a:pathLst>
                  <a:path w="1596" h="795">
                    <a:moveTo>
                      <a:pt x="1063" y="264"/>
                    </a:moveTo>
                    <a:lnTo>
                      <a:pt x="1061" y="292"/>
                    </a:lnTo>
                    <a:lnTo>
                      <a:pt x="1056" y="318"/>
                    </a:lnTo>
                    <a:lnTo>
                      <a:pt x="1046" y="342"/>
                    </a:lnTo>
                    <a:lnTo>
                      <a:pt x="1035" y="368"/>
                    </a:lnTo>
                    <a:lnTo>
                      <a:pt x="1020" y="391"/>
                    </a:lnTo>
                    <a:lnTo>
                      <a:pt x="1003"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59"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6" y="731"/>
                    </a:lnTo>
                    <a:lnTo>
                      <a:pt x="1106" y="705"/>
                    </a:lnTo>
                    <a:lnTo>
                      <a:pt x="1160" y="673"/>
                    </a:lnTo>
                    <a:lnTo>
                      <a:pt x="1211" y="640"/>
                    </a:lnTo>
                    <a:lnTo>
                      <a:pt x="1256" y="602"/>
                    </a:lnTo>
                    <a:lnTo>
                      <a:pt x="1297" y="561"/>
                    </a:lnTo>
                    <a:lnTo>
                      <a:pt x="1332" y="518"/>
                    </a:lnTo>
                    <a:lnTo>
                      <a:pt x="1362" y="471"/>
                    </a:lnTo>
                    <a:lnTo>
                      <a:pt x="1387" y="423"/>
                    </a:lnTo>
                    <a:lnTo>
                      <a:pt x="1403" y="372"/>
                    </a:lnTo>
                    <a:lnTo>
                      <a:pt x="1415" y="320"/>
                    </a:lnTo>
                    <a:lnTo>
                      <a:pt x="1418" y="265"/>
                    </a:lnTo>
                    <a:lnTo>
                      <a:pt x="1418"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82" name=""/>
              <p:cNvGrpSpPr/>
              <p:nvPr/>
            </p:nvGrpSpPr>
            <p:grpSpPr>
              <a:xfrm>
                <a:off x="5970600" y="2115360"/>
                <a:ext cx="2892600" cy="178920"/>
                <a:chOff x="5970600" y="2115360"/>
                <a:chExt cx="2892600" cy="178920"/>
              </a:xfrm>
            </p:grpSpPr>
            <p:grpSp>
              <p:nvGrpSpPr>
                <p:cNvPr id="283" name=""/>
                <p:cNvGrpSpPr/>
                <p:nvPr/>
              </p:nvGrpSpPr>
              <p:grpSpPr>
                <a:xfrm>
                  <a:off x="8601120" y="2115360"/>
                  <a:ext cx="262080" cy="178920"/>
                  <a:chOff x="8601120" y="2115360"/>
                  <a:chExt cx="262080" cy="178920"/>
                </a:xfrm>
              </p:grpSpPr>
              <p:grpSp>
                <p:nvGrpSpPr>
                  <p:cNvPr id="284" name=""/>
                  <p:cNvGrpSpPr/>
                  <p:nvPr/>
                </p:nvGrpSpPr>
                <p:grpSpPr>
                  <a:xfrm>
                    <a:off x="8609760" y="2115360"/>
                    <a:ext cx="253440" cy="171000"/>
                    <a:chOff x="8609760" y="2115360"/>
                    <a:chExt cx="253440" cy="171000"/>
                  </a:xfrm>
                </p:grpSpPr>
                <p:sp>
                  <p:nvSpPr>
                    <p:cNvPr id="285" name=""/>
                    <p:cNvSpPr/>
                    <p:nvPr/>
                  </p:nvSpPr>
                  <p:spPr>
                    <a:xfrm>
                      <a:off x="8632440" y="222408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6" name=""/>
                    <p:cNvSpPr/>
                    <p:nvPr/>
                  </p:nvSpPr>
                  <p:spPr>
                    <a:xfrm>
                      <a:off x="8632440" y="221760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7" name=""/>
                    <p:cNvSpPr/>
                    <p:nvPr/>
                  </p:nvSpPr>
                  <p:spPr>
                    <a:xfrm>
                      <a:off x="8667360" y="218880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88" name=""/>
                    <p:cNvSpPr/>
                    <p:nvPr/>
                  </p:nvSpPr>
                  <p:spPr>
                    <a:xfrm>
                      <a:off x="8698320" y="220932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289" name=""/>
                    <p:cNvSpPr/>
                    <p:nvPr/>
                  </p:nvSpPr>
                  <p:spPr>
                    <a:xfrm>
                      <a:off x="8617680" y="211536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290" name=""/>
                    <p:cNvSpPr/>
                    <p:nvPr/>
                  </p:nvSpPr>
                  <p:spPr>
                    <a:xfrm>
                      <a:off x="8639280" y="212976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91" name=""/>
                    <p:cNvSpPr/>
                    <p:nvPr/>
                  </p:nvSpPr>
                  <p:spPr>
                    <a:xfrm>
                      <a:off x="8654400" y="214128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92" name=""/>
                    <p:cNvSpPr/>
                    <p:nvPr/>
                  </p:nvSpPr>
                  <p:spPr>
                    <a:xfrm>
                      <a:off x="8653320" y="214128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93" name=""/>
                    <p:cNvSpPr/>
                    <p:nvPr/>
                  </p:nvSpPr>
                  <p:spPr>
                    <a:xfrm>
                      <a:off x="866196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294" name=""/>
                    <p:cNvGrpSpPr/>
                    <p:nvPr/>
                  </p:nvGrpSpPr>
                  <p:grpSpPr>
                    <a:xfrm>
                      <a:off x="8609760" y="2252880"/>
                      <a:ext cx="253440" cy="33480"/>
                      <a:chOff x="8609760" y="2252880"/>
                      <a:chExt cx="253440" cy="33480"/>
                    </a:xfrm>
                  </p:grpSpPr>
                  <p:sp>
                    <p:nvSpPr>
                      <p:cNvPr id="295" name=""/>
                      <p:cNvSpPr/>
                      <p:nvPr/>
                    </p:nvSpPr>
                    <p:spPr>
                      <a:xfrm>
                        <a:off x="8609760" y="225288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296" name=""/>
                      <p:cNvSpPr/>
                      <p:nvPr/>
                    </p:nvSpPr>
                    <p:spPr>
                      <a:xfrm>
                        <a:off x="8609760" y="225288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297" name=""/>
                      <p:cNvSpPr/>
                      <p:nvPr/>
                    </p:nvSpPr>
                    <p:spPr>
                      <a:xfrm>
                        <a:off x="8639280" y="227880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298" name=""/>
                    <p:cNvSpPr/>
                    <p:nvPr/>
                  </p:nvSpPr>
                  <p:spPr>
                    <a:xfrm>
                      <a:off x="86176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299" name=""/>
                  <p:cNvGrpSpPr/>
                  <p:nvPr/>
                </p:nvGrpSpPr>
                <p:grpSpPr>
                  <a:xfrm>
                    <a:off x="8601120" y="2123280"/>
                    <a:ext cx="253440" cy="171000"/>
                    <a:chOff x="8601120" y="2123280"/>
                    <a:chExt cx="253440" cy="171000"/>
                  </a:xfrm>
                </p:grpSpPr>
                <p:sp>
                  <p:nvSpPr>
                    <p:cNvPr id="300" name=""/>
                    <p:cNvSpPr/>
                    <p:nvPr/>
                  </p:nvSpPr>
                  <p:spPr>
                    <a:xfrm>
                      <a:off x="8623800" y="223200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01" name=""/>
                    <p:cNvSpPr/>
                    <p:nvPr/>
                  </p:nvSpPr>
                  <p:spPr>
                    <a:xfrm>
                      <a:off x="8623800" y="222552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02" name=""/>
                    <p:cNvSpPr/>
                    <p:nvPr/>
                  </p:nvSpPr>
                  <p:spPr>
                    <a:xfrm>
                      <a:off x="8658720" y="219672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03" name=""/>
                    <p:cNvSpPr/>
                    <p:nvPr/>
                  </p:nvSpPr>
                  <p:spPr>
                    <a:xfrm>
                      <a:off x="8689680" y="221724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04" name=""/>
                    <p:cNvSpPr/>
                    <p:nvPr/>
                  </p:nvSpPr>
                  <p:spPr>
                    <a:xfrm>
                      <a:off x="8609040" y="212328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05" name=""/>
                    <p:cNvSpPr/>
                    <p:nvPr/>
                  </p:nvSpPr>
                  <p:spPr>
                    <a:xfrm>
                      <a:off x="8630640" y="213768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06" name=""/>
                    <p:cNvSpPr/>
                    <p:nvPr/>
                  </p:nvSpPr>
                  <p:spPr>
                    <a:xfrm>
                      <a:off x="8645760" y="214920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7" name=""/>
                    <p:cNvSpPr/>
                    <p:nvPr/>
                  </p:nvSpPr>
                  <p:spPr>
                    <a:xfrm>
                      <a:off x="8644680" y="214920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8" name=""/>
                    <p:cNvSpPr/>
                    <p:nvPr/>
                  </p:nvSpPr>
                  <p:spPr>
                    <a:xfrm>
                      <a:off x="865332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09" name=""/>
                    <p:cNvGrpSpPr/>
                    <p:nvPr/>
                  </p:nvGrpSpPr>
                  <p:grpSpPr>
                    <a:xfrm>
                      <a:off x="8601120" y="2260800"/>
                      <a:ext cx="253440" cy="33480"/>
                      <a:chOff x="8601120" y="2260800"/>
                      <a:chExt cx="253440" cy="33480"/>
                    </a:xfrm>
                  </p:grpSpPr>
                  <p:sp>
                    <p:nvSpPr>
                      <p:cNvPr id="310" name=""/>
                      <p:cNvSpPr/>
                      <p:nvPr/>
                    </p:nvSpPr>
                    <p:spPr>
                      <a:xfrm>
                        <a:off x="8601120" y="226080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11" name=""/>
                      <p:cNvSpPr/>
                      <p:nvPr/>
                    </p:nvSpPr>
                    <p:spPr>
                      <a:xfrm>
                        <a:off x="8601120" y="226080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12" name=""/>
                      <p:cNvSpPr/>
                      <p:nvPr/>
                    </p:nvSpPr>
                    <p:spPr>
                      <a:xfrm>
                        <a:off x="8630640" y="228672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13" name=""/>
                    <p:cNvSpPr/>
                    <p:nvPr/>
                  </p:nvSpPr>
                  <p:spPr>
                    <a:xfrm>
                      <a:off x="86090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314" name=""/>
                <p:cNvGrpSpPr/>
                <p:nvPr/>
              </p:nvGrpSpPr>
              <p:grpSpPr>
                <a:xfrm>
                  <a:off x="5970600" y="2115360"/>
                  <a:ext cx="890640" cy="178920"/>
                  <a:chOff x="5970600" y="2115360"/>
                  <a:chExt cx="890640" cy="178920"/>
                </a:xfrm>
              </p:grpSpPr>
              <p:grpSp>
                <p:nvGrpSpPr>
                  <p:cNvPr id="315" name=""/>
                  <p:cNvGrpSpPr/>
                  <p:nvPr/>
                </p:nvGrpSpPr>
                <p:grpSpPr>
                  <a:xfrm>
                    <a:off x="5979240" y="2115360"/>
                    <a:ext cx="254520" cy="171000"/>
                    <a:chOff x="5979240" y="2115360"/>
                    <a:chExt cx="254520" cy="171000"/>
                  </a:xfrm>
                </p:grpSpPr>
                <p:sp>
                  <p:nvSpPr>
                    <p:cNvPr id="316" name=""/>
                    <p:cNvSpPr/>
                    <p:nvPr/>
                  </p:nvSpPr>
                  <p:spPr>
                    <a:xfrm>
                      <a:off x="600264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7" name=""/>
                    <p:cNvSpPr/>
                    <p:nvPr/>
                  </p:nvSpPr>
                  <p:spPr>
                    <a:xfrm>
                      <a:off x="600264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8" name=""/>
                    <p:cNvSpPr/>
                    <p:nvPr/>
                  </p:nvSpPr>
                  <p:spPr>
                    <a:xfrm>
                      <a:off x="6037920" y="218880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19" name=""/>
                    <p:cNvSpPr/>
                    <p:nvPr/>
                  </p:nvSpPr>
                  <p:spPr>
                    <a:xfrm>
                      <a:off x="606852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20" name=""/>
                    <p:cNvSpPr/>
                    <p:nvPr/>
                  </p:nvSpPr>
                  <p:spPr>
                    <a:xfrm>
                      <a:off x="5987880" y="211536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21" name=""/>
                    <p:cNvSpPr/>
                    <p:nvPr/>
                  </p:nvSpPr>
                  <p:spPr>
                    <a:xfrm>
                      <a:off x="600876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22" name=""/>
                    <p:cNvSpPr/>
                    <p:nvPr/>
                  </p:nvSpPr>
                  <p:spPr>
                    <a:xfrm>
                      <a:off x="602388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23" name=""/>
                    <p:cNvSpPr/>
                    <p:nvPr/>
                  </p:nvSpPr>
                  <p:spPr>
                    <a:xfrm>
                      <a:off x="6023880" y="214128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24" name=""/>
                    <p:cNvSpPr/>
                    <p:nvPr/>
                  </p:nvSpPr>
                  <p:spPr>
                    <a:xfrm>
                      <a:off x="603252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25" name=""/>
                    <p:cNvGrpSpPr/>
                    <p:nvPr/>
                  </p:nvGrpSpPr>
                  <p:grpSpPr>
                    <a:xfrm>
                      <a:off x="5979240" y="2252880"/>
                      <a:ext cx="254520" cy="33480"/>
                      <a:chOff x="5979240" y="2252880"/>
                      <a:chExt cx="254520" cy="33480"/>
                    </a:xfrm>
                  </p:grpSpPr>
                  <p:sp>
                    <p:nvSpPr>
                      <p:cNvPr id="326" name=""/>
                      <p:cNvSpPr/>
                      <p:nvPr/>
                    </p:nvSpPr>
                    <p:spPr>
                      <a:xfrm>
                        <a:off x="5979240" y="225288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27" name=""/>
                      <p:cNvSpPr/>
                      <p:nvPr/>
                    </p:nvSpPr>
                    <p:spPr>
                      <a:xfrm>
                        <a:off x="597924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28" name=""/>
                      <p:cNvSpPr/>
                      <p:nvPr/>
                    </p:nvSpPr>
                    <p:spPr>
                      <a:xfrm>
                        <a:off x="600876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29" name=""/>
                    <p:cNvSpPr/>
                    <p:nvPr/>
                  </p:nvSpPr>
                  <p:spPr>
                    <a:xfrm>
                      <a:off x="59878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30" name=""/>
                  <p:cNvGrpSpPr/>
                  <p:nvPr/>
                </p:nvGrpSpPr>
                <p:grpSpPr>
                  <a:xfrm>
                    <a:off x="5970600" y="2123280"/>
                    <a:ext cx="254520" cy="171000"/>
                    <a:chOff x="5970600" y="2123280"/>
                    <a:chExt cx="254520" cy="171000"/>
                  </a:xfrm>
                </p:grpSpPr>
                <p:sp>
                  <p:nvSpPr>
                    <p:cNvPr id="331" name=""/>
                    <p:cNvSpPr/>
                    <p:nvPr/>
                  </p:nvSpPr>
                  <p:spPr>
                    <a:xfrm>
                      <a:off x="599400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32" name=""/>
                    <p:cNvSpPr/>
                    <p:nvPr/>
                  </p:nvSpPr>
                  <p:spPr>
                    <a:xfrm>
                      <a:off x="599400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33" name=""/>
                    <p:cNvSpPr/>
                    <p:nvPr/>
                  </p:nvSpPr>
                  <p:spPr>
                    <a:xfrm>
                      <a:off x="6029280" y="219672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34" name=""/>
                    <p:cNvSpPr/>
                    <p:nvPr/>
                  </p:nvSpPr>
                  <p:spPr>
                    <a:xfrm>
                      <a:off x="605988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35" name=""/>
                    <p:cNvSpPr/>
                    <p:nvPr/>
                  </p:nvSpPr>
                  <p:spPr>
                    <a:xfrm>
                      <a:off x="5979240" y="212328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36" name=""/>
                    <p:cNvSpPr/>
                    <p:nvPr/>
                  </p:nvSpPr>
                  <p:spPr>
                    <a:xfrm>
                      <a:off x="600012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37" name=""/>
                    <p:cNvSpPr/>
                    <p:nvPr/>
                  </p:nvSpPr>
                  <p:spPr>
                    <a:xfrm>
                      <a:off x="601524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8" name=""/>
                    <p:cNvSpPr/>
                    <p:nvPr/>
                  </p:nvSpPr>
                  <p:spPr>
                    <a:xfrm>
                      <a:off x="6015240" y="214920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9" name=""/>
                    <p:cNvSpPr/>
                    <p:nvPr/>
                  </p:nvSpPr>
                  <p:spPr>
                    <a:xfrm>
                      <a:off x="602388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40" name=""/>
                    <p:cNvGrpSpPr/>
                    <p:nvPr/>
                  </p:nvGrpSpPr>
                  <p:grpSpPr>
                    <a:xfrm>
                      <a:off x="5970600" y="2260800"/>
                      <a:ext cx="254520" cy="33480"/>
                      <a:chOff x="5970600" y="2260800"/>
                      <a:chExt cx="254520" cy="33480"/>
                    </a:xfrm>
                  </p:grpSpPr>
                  <p:sp>
                    <p:nvSpPr>
                      <p:cNvPr id="341" name=""/>
                      <p:cNvSpPr/>
                      <p:nvPr/>
                    </p:nvSpPr>
                    <p:spPr>
                      <a:xfrm>
                        <a:off x="5970600" y="226080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42" name=""/>
                      <p:cNvSpPr/>
                      <p:nvPr/>
                    </p:nvSpPr>
                    <p:spPr>
                      <a:xfrm>
                        <a:off x="597060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43" name=""/>
                      <p:cNvSpPr/>
                      <p:nvPr/>
                    </p:nvSpPr>
                    <p:spPr>
                      <a:xfrm>
                        <a:off x="600012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44" name=""/>
                    <p:cNvSpPr/>
                    <p:nvPr/>
                  </p:nvSpPr>
                  <p:spPr>
                    <a:xfrm>
                      <a:off x="59792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45" name=""/>
                  <p:cNvGrpSpPr/>
                  <p:nvPr/>
                </p:nvGrpSpPr>
                <p:grpSpPr>
                  <a:xfrm>
                    <a:off x="6606720" y="2115360"/>
                    <a:ext cx="254520" cy="171000"/>
                    <a:chOff x="6606720" y="2115360"/>
                    <a:chExt cx="254520" cy="171000"/>
                  </a:xfrm>
                </p:grpSpPr>
                <p:sp>
                  <p:nvSpPr>
                    <p:cNvPr id="346" name=""/>
                    <p:cNvSpPr/>
                    <p:nvPr/>
                  </p:nvSpPr>
                  <p:spPr>
                    <a:xfrm>
                      <a:off x="663012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7" name=""/>
                    <p:cNvSpPr/>
                    <p:nvPr/>
                  </p:nvSpPr>
                  <p:spPr>
                    <a:xfrm>
                      <a:off x="663012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8" name=""/>
                    <p:cNvSpPr/>
                    <p:nvPr/>
                  </p:nvSpPr>
                  <p:spPr>
                    <a:xfrm>
                      <a:off x="6665400" y="218880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49" name=""/>
                    <p:cNvSpPr/>
                    <p:nvPr/>
                  </p:nvSpPr>
                  <p:spPr>
                    <a:xfrm>
                      <a:off x="669600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50" name=""/>
                    <p:cNvSpPr/>
                    <p:nvPr/>
                  </p:nvSpPr>
                  <p:spPr>
                    <a:xfrm>
                      <a:off x="6614640" y="211536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51" name=""/>
                    <p:cNvSpPr/>
                    <p:nvPr/>
                  </p:nvSpPr>
                  <p:spPr>
                    <a:xfrm>
                      <a:off x="663624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52" name=""/>
                    <p:cNvSpPr/>
                    <p:nvPr/>
                  </p:nvSpPr>
                  <p:spPr>
                    <a:xfrm>
                      <a:off x="665136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53" name=""/>
                    <p:cNvSpPr/>
                    <p:nvPr/>
                  </p:nvSpPr>
                  <p:spPr>
                    <a:xfrm>
                      <a:off x="6650280" y="214128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54" name=""/>
                    <p:cNvSpPr/>
                    <p:nvPr/>
                  </p:nvSpPr>
                  <p:spPr>
                    <a:xfrm>
                      <a:off x="666000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55" name=""/>
                    <p:cNvGrpSpPr/>
                    <p:nvPr/>
                  </p:nvGrpSpPr>
                  <p:grpSpPr>
                    <a:xfrm>
                      <a:off x="6606720" y="2252880"/>
                      <a:ext cx="254520" cy="33480"/>
                      <a:chOff x="6606720" y="2252880"/>
                      <a:chExt cx="254520" cy="33480"/>
                    </a:xfrm>
                  </p:grpSpPr>
                  <p:sp>
                    <p:nvSpPr>
                      <p:cNvPr id="356" name=""/>
                      <p:cNvSpPr/>
                      <p:nvPr/>
                    </p:nvSpPr>
                    <p:spPr>
                      <a:xfrm>
                        <a:off x="6606720" y="225288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57" name=""/>
                      <p:cNvSpPr/>
                      <p:nvPr/>
                    </p:nvSpPr>
                    <p:spPr>
                      <a:xfrm>
                        <a:off x="660672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58" name=""/>
                      <p:cNvSpPr/>
                      <p:nvPr/>
                    </p:nvSpPr>
                    <p:spPr>
                      <a:xfrm>
                        <a:off x="663624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59" name=""/>
                    <p:cNvSpPr/>
                    <p:nvPr/>
                  </p:nvSpPr>
                  <p:spPr>
                    <a:xfrm>
                      <a:off x="6614640" y="211536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60" name=""/>
                  <p:cNvGrpSpPr/>
                  <p:nvPr/>
                </p:nvGrpSpPr>
                <p:grpSpPr>
                  <a:xfrm>
                    <a:off x="6598080" y="2123280"/>
                    <a:ext cx="254520" cy="171000"/>
                    <a:chOff x="6598080" y="2123280"/>
                    <a:chExt cx="254520" cy="171000"/>
                  </a:xfrm>
                </p:grpSpPr>
                <p:sp>
                  <p:nvSpPr>
                    <p:cNvPr id="361" name=""/>
                    <p:cNvSpPr/>
                    <p:nvPr/>
                  </p:nvSpPr>
                  <p:spPr>
                    <a:xfrm>
                      <a:off x="662148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62" name=""/>
                    <p:cNvSpPr/>
                    <p:nvPr/>
                  </p:nvSpPr>
                  <p:spPr>
                    <a:xfrm>
                      <a:off x="662148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63" name=""/>
                    <p:cNvSpPr/>
                    <p:nvPr/>
                  </p:nvSpPr>
                  <p:spPr>
                    <a:xfrm>
                      <a:off x="6656760" y="219672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64" name=""/>
                    <p:cNvSpPr/>
                    <p:nvPr/>
                  </p:nvSpPr>
                  <p:spPr>
                    <a:xfrm>
                      <a:off x="668736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65" name=""/>
                    <p:cNvSpPr/>
                    <p:nvPr/>
                  </p:nvSpPr>
                  <p:spPr>
                    <a:xfrm>
                      <a:off x="6606000" y="212328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66" name=""/>
                    <p:cNvSpPr/>
                    <p:nvPr/>
                  </p:nvSpPr>
                  <p:spPr>
                    <a:xfrm>
                      <a:off x="662760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67" name=""/>
                    <p:cNvSpPr/>
                    <p:nvPr/>
                  </p:nvSpPr>
                  <p:spPr>
                    <a:xfrm>
                      <a:off x="664272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8" name=""/>
                    <p:cNvSpPr/>
                    <p:nvPr/>
                  </p:nvSpPr>
                  <p:spPr>
                    <a:xfrm>
                      <a:off x="6641640" y="214920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9" name=""/>
                    <p:cNvSpPr/>
                    <p:nvPr/>
                  </p:nvSpPr>
                  <p:spPr>
                    <a:xfrm>
                      <a:off x="665136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70" name=""/>
                    <p:cNvGrpSpPr/>
                    <p:nvPr/>
                  </p:nvGrpSpPr>
                  <p:grpSpPr>
                    <a:xfrm>
                      <a:off x="6598080" y="2260800"/>
                      <a:ext cx="254520" cy="33480"/>
                      <a:chOff x="6598080" y="2260800"/>
                      <a:chExt cx="254520" cy="33480"/>
                    </a:xfrm>
                  </p:grpSpPr>
                  <p:sp>
                    <p:nvSpPr>
                      <p:cNvPr id="371" name=""/>
                      <p:cNvSpPr/>
                      <p:nvPr/>
                    </p:nvSpPr>
                    <p:spPr>
                      <a:xfrm>
                        <a:off x="6598080" y="226080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72" name=""/>
                      <p:cNvSpPr/>
                      <p:nvPr/>
                    </p:nvSpPr>
                    <p:spPr>
                      <a:xfrm>
                        <a:off x="659808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73" name=""/>
                      <p:cNvSpPr/>
                      <p:nvPr/>
                    </p:nvSpPr>
                    <p:spPr>
                      <a:xfrm>
                        <a:off x="662760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74" name=""/>
                    <p:cNvSpPr/>
                    <p:nvPr/>
                  </p:nvSpPr>
                  <p:spPr>
                    <a:xfrm>
                      <a:off x="6606000" y="212328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nvGrpSpPr>
              <p:cNvPr id="375" name=""/>
              <p:cNvGrpSpPr/>
              <p:nvPr/>
            </p:nvGrpSpPr>
            <p:grpSpPr>
              <a:xfrm>
                <a:off x="7341840" y="2115360"/>
                <a:ext cx="261720" cy="178920"/>
                <a:chOff x="7341840" y="2115360"/>
                <a:chExt cx="261720" cy="178920"/>
              </a:xfrm>
            </p:grpSpPr>
            <p:grpSp>
              <p:nvGrpSpPr>
                <p:cNvPr id="376" name=""/>
                <p:cNvGrpSpPr/>
                <p:nvPr/>
              </p:nvGrpSpPr>
              <p:grpSpPr>
                <a:xfrm>
                  <a:off x="7350480" y="2115360"/>
                  <a:ext cx="253080" cy="171000"/>
                  <a:chOff x="7350480" y="2115360"/>
                  <a:chExt cx="253080" cy="171000"/>
                </a:xfrm>
              </p:grpSpPr>
              <p:sp>
                <p:nvSpPr>
                  <p:cNvPr id="377" name=""/>
                  <p:cNvSpPr/>
                  <p:nvPr/>
                </p:nvSpPr>
                <p:spPr>
                  <a:xfrm>
                    <a:off x="7373160" y="222408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8" name=""/>
                  <p:cNvSpPr/>
                  <p:nvPr/>
                </p:nvSpPr>
                <p:spPr>
                  <a:xfrm>
                    <a:off x="7373160" y="221760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9" name=""/>
                  <p:cNvSpPr/>
                  <p:nvPr/>
                </p:nvSpPr>
                <p:spPr>
                  <a:xfrm>
                    <a:off x="7408080" y="218880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80" name=""/>
                  <p:cNvSpPr/>
                  <p:nvPr/>
                </p:nvSpPr>
                <p:spPr>
                  <a:xfrm>
                    <a:off x="7439760" y="220932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81" name=""/>
                  <p:cNvSpPr/>
                  <p:nvPr/>
                </p:nvSpPr>
                <p:spPr>
                  <a:xfrm>
                    <a:off x="7358400" y="211536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82" name=""/>
                  <p:cNvSpPr/>
                  <p:nvPr/>
                </p:nvSpPr>
                <p:spPr>
                  <a:xfrm>
                    <a:off x="7380000" y="212976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83" name=""/>
                  <p:cNvSpPr/>
                  <p:nvPr/>
                </p:nvSpPr>
                <p:spPr>
                  <a:xfrm>
                    <a:off x="739512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4" name=""/>
                  <p:cNvSpPr/>
                  <p:nvPr/>
                </p:nvSpPr>
                <p:spPr>
                  <a:xfrm>
                    <a:off x="7394040" y="214128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5" name=""/>
                  <p:cNvSpPr/>
                  <p:nvPr/>
                </p:nvSpPr>
                <p:spPr>
                  <a:xfrm>
                    <a:off x="7403760" y="214704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86" name=""/>
                  <p:cNvGrpSpPr/>
                  <p:nvPr/>
                </p:nvGrpSpPr>
                <p:grpSpPr>
                  <a:xfrm>
                    <a:off x="7350480" y="2252880"/>
                    <a:ext cx="253080" cy="33480"/>
                    <a:chOff x="7350480" y="2252880"/>
                    <a:chExt cx="253080" cy="33480"/>
                  </a:xfrm>
                </p:grpSpPr>
                <p:sp>
                  <p:nvSpPr>
                    <p:cNvPr id="387" name=""/>
                    <p:cNvSpPr/>
                    <p:nvPr/>
                  </p:nvSpPr>
                  <p:spPr>
                    <a:xfrm>
                      <a:off x="7350480" y="225288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88" name=""/>
                    <p:cNvSpPr/>
                    <p:nvPr/>
                  </p:nvSpPr>
                  <p:spPr>
                    <a:xfrm>
                      <a:off x="7350480" y="225288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89" name=""/>
                    <p:cNvSpPr/>
                    <p:nvPr/>
                  </p:nvSpPr>
                  <p:spPr>
                    <a:xfrm>
                      <a:off x="7380000" y="227880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90" name=""/>
                  <p:cNvSpPr/>
                  <p:nvPr/>
                </p:nvSpPr>
                <p:spPr>
                  <a:xfrm>
                    <a:off x="7358400" y="211536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91" name=""/>
                <p:cNvGrpSpPr/>
                <p:nvPr/>
              </p:nvGrpSpPr>
              <p:grpSpPr>
                <a:xfrm>
                  <a:off x="7341840" y="2123280"/>
                  <a:ext cx="253080" cy="171000"/>
                  <a:chOff x="7341840" y="2123280"/>
                  <a:chExt cx="253080" cy="171000"/>
                </a:xfrm>
              </p:grpSpPr>
              <p:sp>
                <p:nvSpPr>
                  <p:cNvPr id="392" name=""/>
                  <p:cNvSpPr/>
                  <p:nvPr/>
                </p:nvSpPr>
                <p:spPr>
                  <a:xfrm>
                    <a:off x="7364520" y="223200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93" name=""/>
                  <p:cNvSpPr/>
                  <p:nvPr/>
                </p:nvSpPr>
                <p:spPr>
                  <a:xfrm>
                    <a:off x="7364520" y="222552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94" name=""/>
                  <p:cNvSpPr/>
                  <p:nvPr/>
                </p:nvSpPr>
                <p:spPr>
                  <a:xfrm>
                    <a:off x="7399440" y="219672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95" name=""/>
                  <p:cNvSpPr/>
                  <p:nvPr/>
                </p:nvSpPr>
                <p:spPr>
                  <a:xfrm>
                    <a:off x="7431120" y="221724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96" name=""/>
                  <p:cNvSpPr/>
                  <p:nvPr/>
                </p:nvSpPr>
                <p:spPr>
                  <a:xfrm>
                    <a:off x="7349760" y="212328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97" name=""/>
                  <p:cNvSpPr/>
                  <p:nvPr/>
                </p:nvSpPr>
                <p:spPr>
                  <a:xfrm>
                    <a:off x="7371360" y="213768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98" name=""/>
                  <p:cNvSpPr/>
                  <p:nvPr/>
                </p:nvSpPr>
                <p:spPr>
                  <a:xfrm>
                    <a:off x="738648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9" name=""/>
                  <p:cNvSpPr/>
                  <p:nvPr/>
                </p:nvSpPr>
                <p:spPr>
                  <a:xfrm>
                    <a:off x="7385400" y="214920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400" name=""/>
                  <p:cNvSpPr/>
                  <p:nvPr/>
                </p:nvSpPr>
                <p:spPr>
                  <a:xfrm>
                    <a:off x="7395120" y="215496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401" name=""/>
                  <p:cNvGrpSpPr/>
                  <p:nvPr/>
                </p:nvGrpSpPr>
                <p:grpSpPr>
                  <a:xfrm>
                    <a:off x="7341840" y="2260800"/>
                    <a:ext cx="253080" cy="33480"/>
                    <a:chOff x="7341840" y="2260800"/>
                    <a:chExt cx="253080" cy="33480"/>
                  </a:xfrm>
                </p:grpSpPr>
                <p:sp>
                  <p:nvSpPr>
                    <p:cNvPr id="402" name=""/>
                    <p:cNvSpPr/>
                    <p:nvPr/>
                  </p:nvSpPr>
                  <p:spPr>
                    <a:xfrm>
                      <a:off x="7341840" y="226080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403" name=""/>
                    <p:cNvSpPr/>
                    <p:nvPr/>
                  </p:nvSpPr>
                  <p:spPr>
                    <a:xfrm>
                      <a:off x="7341840" y="226080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404" name=""/>
                    <p:cNvSpPr/>
                    <p:nvPr/>
                  </p:nvSpPr>
                  <p:spPr>
                    <a:xfrm>
                      <a:off x="7371360" y="228672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405" name=""/>
                  <p:cNvSpPr/>
                  <p:nvPr/>
                </p:nvSpPr>
                <p:spPr>
                  <a:xfrm>
                    <a:off x="7349760" y="212328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406" name=""/>
              <p:cNvSpPr/>
              <p:nvPr/>
            </p:nvSpPr>
            <p:spPr>
              <a:xfrm>
                <a:off x="8277480" y="2444040"/>
                <a:ext cx="699840" cy="326880"/>
              </a:xfrm>
              <a:custGeom>
                <a:avLst/>
                <a:gdLst/>
                <a:ahLst/>
                <a:rect l="l" t="t" r="r" b="b"/>
                <a:pathLst>
                  <a:path w="1596" h="795">
                    <a:moveTo>
                      <a:pt x="1063" y="264"/>
                    </a:moveTo>
                    <a:lnTo>
                      <a:pt x="1061" y="292"/>
                    </a:lnTo>
                    <a:lnTo>
                      <a:pt x="1056" y="318"/>
                    </a:lnTo>
                    <a:lnTo>
                      <a:pt x="1047" y="342"/>
                    </a:lnTo>
                    <a:lnTo>
                      <a:pt x="1035" y="368"/>
                    </a:lnTo>
                    <a:lnTo>
                      <a:pt x="1020" y="391"/>
                    </a:lnTo>
                    <a:lnTo>
                      <a:pt x="1004"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60"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7" y="731"/>
                    </a:lnTo>
                    <a:lnTo>
                      <a:pt x="1106" y="705"/>
                    </a:lnTo>
                    <a:lnTo>
                      <a:pt x="1161" y="673"/>
                    </a:lnTo>
                    <a:lnTo>
                      <a:pt x="1211" y="640"/>
                    </a:lnTo>
                    <a:lnTo>
                      <a:pt x="1256" y="602"/>
                    </a:lnTo>
                    <a:lnTo>
                      <a:pt x="1297" y="561"/>
                    </a:lnTo>
                    <a:lnTo>
                      <a:pt x="1333" y="518"/>
                    </a:lnTo>
                    <a:lnTo>
                      <a:pt x="1362" y="471"/>
                    </a:lnTo>
                    <a:lnTo>
                      <a:pt x="1387" y="423"/>
                    </a:lnTo>
                    <a:lnTo>
                      <a:pt x="1404" y="372"/>
                    </a:lnTo>
                    <a:lnTo>
                      <a:pt x="1415" y="320"/>
                    </a:lnTo>
                    <a:lnTo>
                      <a:pt x="1419" y="265"/>
                    </a:lnTo>
                    <a:lnTo>
                      <a:pt x="1419"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7" name=""/>
              <p:cNvSpPr/>
              <p:nvPr/>
            </p:nvSpPr>
            <p:spPr>
              <a:xfrm>
                <a:off x="6931080" y="2444040"/>
                <a:ext cx="699840" cy="326880"/>
              </a:xfrm>
              <a:custGeom>
                <a:avLst/>
                <a:gdLst/>
                <a:ahLst/>
                <a:rect l="l" t="t" r="r" b="b"/>
                <a:pathLst>
                  <a:path w="1596"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8" y="529"/>
                    </a:lnTo>
                    <a:lnTo>
                      <a:pt x="673" y="527"/>
                    </a:lnTo>
                    <a:lnTo>
                      <a:pt x="637"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1" y="561"/>
                    </a:lnTo>
                    <a:lnTo>
                      <a:pt x="163" y="602"/>
                    </a:lnTo>
                    <a:lnTo>
                      <a:pt x="207" y="640"/>
                    </a:lnTo>
                    <a:lnTo>
                      <a:pt x="258" y="673"/>
                    </a:lnTo>
                    <a:lnTo>
                      <a:pt x="312" y="705"/>
                    </a:lnTo>
                    <a:lnTo>
                      <a:pt x="372" y="731"/>
                    </a:lnTo>
                    <a:lnTo>
                      <a:pt x="434" y="754"/>
                    </a:lnTo>
                    <a:lnTo>
                      <a:pt x="497" y="771"/>
                    </a:lnTo>
                    <a:lnTo>
                      <a:pt x="566" y="784"/>
                    </a:lnTo>
                    <a:lnTo>
                      <a:pt x="636" y="793"/>
                    </a:lnTo>
                    <a:lnTo>
                      <a:pt x="708" y="795"/>
                    </a:lnTo>
                    <a:lnTo>
                      <a:pt x="781" y="793"/>
                    </a:lnTo>
                    <a:lnTo>
                      <a:pt x="852" y="784"/>
                    </a:lnTo>
                    <a:lnTo>
                      <a:pt x="920" y="771"/>
                    </a:lnTo>
                    <a:lnTo>
                      <a:pt x="985" y="754"/>
                    </a:lnTo>
                    <a:lnTo>
                      <a:pt x="1047" y="731"/>
                    </a:lnTo>
                    <a:lnTo>
                      <a:pt x="1107" y="705"/>
                    </a:lnTo>
                    <a:lnTo>
                      <a:pt x="1161" y="673"/>
                    </a:lnTo>
                    <a:lnTo>
                      <a:pt x="1211" y="640"/>
                    </a:lnTo>
                    <a:lnTo>
                      <a:pt x="1256" y="602"/>
                    </a:lnTo>
                    <a:lnTo>
                      <a:pt x="1297" y="561"/>
                    </a:lnTo>
                    <a:lnTo>
                      <a:pt x="1333" y="518"/>
                    </a:lnTo>
                    <a:lnTo>
                      <a:pt x="1363" y="471"/>
                    </a:lnTo>
                    <a:lnTo>
                      <a:pt x="1387" y="423"/>
                    </a:lnTo>
                    <a:lnTo>
                      <a:pt x="1404" y="372"/>
                    </a:lnTo>
                    <a:lnTo>
                      <a:pt x="1415" y="320"/>
                    </a:lnTo>
                    <a:lnTo>
                      <a:pt x="1419" y="265"/>
                    </a:lnTo>
                    <a:lnTo>
                      <a:pt x="1419" y="264"/>
                    </a:lnTo>
                    <a:lnTo>
                      <a:pt x="1596"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8" name=""/>
              <p:cNvSpPr/>
              <p:nvPr/>
            </p:nvSpPr>
            <p:spPr>
              <a:xfrm>
                <a:off x="5591880" y="2444040"/>
                <a:ext cx="699840" cy="32688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7" y="561"/>
                    </a:lnTo>
                    <a:lnTo>
                      <a:pt x="1333" y="518"/>
                    </a:lnTo>
                    <a:lnTo>
                      <a:pt x="1363" y="471"/>
                    </a:lnTo>
                    <a:lnTo>
                      <a:pt x="1387" y="423"/>
                    </a:lnTo>
                    <a:lnTo>
                      <a:pt x="1404" y="372"/>
                    </a:lnTo>
                    <a:lnTo>
                      <a:pt x="1415" y="320"/>
                    </a:lnTo>
                    <a:lnTo>
                      <a:pt x="1419" y="265"/>
                    </a:lnTo>
                    <a:lnTo>
                      <a:pt x="1419" y="264"/>
                    </a:lnTo>
                    <a:lnTo>
                      <a:pt x="1597"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aphicFrame>
            <p:nvGraphicFramePr>
              <p:cNvPr id="409" name=""/>
              <p:cNvGraphicFramePr/>
              <p:nvPr/>
            </p:nvGraphicFramePr>
            <p:xfrm>
              <a:off x="8017200" y="1913040"/>
              <a:ext cx="241920" cy="565200"/>
            </p:xfrm>
            <a:graphic>
              <a:graphicData uri="http://schemas.openxmlformats.org/presentationml/2006/ole">
                <p:oleObj r:id="rId1" spid="">
                  <p:embed/>
                  <p:pic>
                    <p:nvPicPr>
                      <p:cNvPr id="410" name="" descr=""/>
                      <p:cNvPicPr/>
                      <p:nvPr/>
                    </p:nvPicPr>
                    <p:blipFill>
                      <a:blip r:embed="rId2"/>
                      <a:stretch/>
                    </p:blipFill>
                    <p:spPr>
                      <a:xfrm>
                        <a:off x="8017200" y="1913040"/>
                        <a:ext cx="241920" cy="565200"/>
                      </a:xfrm>
                      <a:prstGeom prst="rect">
                        <a:avLst/>
                      </a:prstGeom>
                      <a:ln w="0">
                        <a:noFill/>
                      </a:ln>
                    </p:spPr>
                  </p:pic>
                </p:oleObj>
              </a:graphicData>
            </a:graphic>
          </p:graphicFrame>
          <p:sp>
            <p:nvSpPr>
              <p:cNvPr id="411" name=""/>
              <p:cNvSpPr/>
              <p:nvPr/>
            </p:nvSpPr>
            <p:spPr>
              <a:xfrm>
                <a:off x="7606440" y="2435040"/>
                <a:ext cx="699840" cy="32724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4"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8" y="561"/>
                    </a:lnTo>
                    <a:lnTo>
                      <a:pt x="1333" y="518"/>
                    </a:lnTo>
                    <a:lnTo>
                      <a:pt x="1363" y="471"/>
                    </a:lnTo>
                    <a:lnTo>
                      <a:pt x="1387" y="423"/>
                    </a:lnTo>
                    <a:lnTo>
                      <a:pt x="1404" y="372"/>
                    </a:lnTo>
                    <a:lnTo>
                      <a:pt x="1415" y="320"/>
                    </a:lnTo>
                    <a:lnTo>
                      <a:pt x="1419" y="265"/>
                    </a:lnTo>
                    <a:lnTo>
                      <a:pt x="1419" y="264"/>
                    </a:lnTo>
                    <a:lnTo>
                      <a:pt x="1597" y="264"/>
                    </a:lnTo>
                    <a:lnTo>
                      <a:pt x="1242"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pic>
            <p:nvPicPr>
              <p:cNvPr id="412" name="" descr=""/>
              <p:cNvPicPr/>
              <p:nvPr/>
            </p:nvPicPr>
            <p:blipFill>
              <a:blip r:embed="rId3"/>
              <a:stretch/>
            </p:blipFill>
            <p:spPr>
              <a:xfrm>
                <a:off x="5685120" y="2274840"/>
                <a:ext cx="688320" cy="150480"/>
              </a:xfrm>
              <a:prstGeom prst="rect">
                <a:avLst/>
              </a:prstGeom>
              <a:ln w="0">
                <a:noFill/>
              </a:ln>
            </p:spPr>
          </p:pic>
          <p:pic>
            <p:nvPicPr>
              <p:cNvPr id="413" name="" descr=""/>
              <p:cNvPicPr/>
              <p:nvPr/>
            </p:nvPicPr>
            <p:blipFill>
              <a:blip r:embed="rId4"/>
              <a:stretch/>
            </p:blipFill>
            <p:spPr>
              <a:xfrm>
                <a:off x="6444360" y="2289240"/>
                <a:ext cx="688320" cy="153000"/>
              </a:xfrm>
              <a:prstGeom prst="rect">
                <a:avLst/>
              </a:prstGeom>
              <a:ln w="0">
                <a:noFill/>
              </a:ln>
            </p:spPr>
          </p:pic>
          <p:pic>
            <p:nvPicPr>
              <p:cNvPr id="414" name="" descr=""/>
              <p:cNvPicPr/>
              <p:nvPr/>
            </p:nvPicPr>
            <p:blipFill>
              <a:blip r:embed="rId5"/>
              <a:stretch/>
            </p:blipFill>
            <p:spPr>
              <a:xfrm>
                <a:off x="7147080" y="2297520"/>
                <a:ext cx="685440" cy="153360"/>
              </a:xfrm>
              <a:prstGeom prst="rect">
                <a:avLst/>
              </a:prstGeom>
              <a:ln w="0">
                <a:noFill/>
              </a:ln>
            </p:spPr>
          </p:pic>
          <p:pic>
            <p:nvPicPr>
              <p:cNvPr id="415" name="" descr=""/>
              <p:cNvPicPr/>
              <p:nvPr/>
            </p:nvPicPr>
            <p:blipFill>
              <a:blip r:embed="rId6"/>
              <a:stretch/>
            </p:blipFill>
            <p:spPr>
              <a:xfrm>
                <a:off x="8365320" y="2289240"/>
                <a:ext cx="685440" cy="151920"/>
              </a:xfrm>
              <a:prstGeom prst="rect">
                <a:avLst/>
              </a:prstGeom>
              <a:ln w="0">
                <a:noFill/>
              </a:ln>
            </p:spPr>
          </p:pic>
        </p:grpSp>
        <p:sp>
          <p:nvSpPr>
            <p:cNvPr id="416" name=""/>
            <p:cNvSpPr/>
            <p:nvPr/>
          </p:nvSpPr>
          <p:spPr>
            <a:xfrm>
              <a:off x="4730400" y="1382760"/>
              <a:ext cx="2930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Before Remote Management SW</a:t>
              </a:r>
              <a:endParaRPr b="0" lang="en-US" sz="1400" spc="-1" strike="noStrike">
                <a:solidFill>
                  <a:srgbClr val="000000"/>
                </a:solidFill>
                <a:latin typeface="Futura Bk"/>
              </a:endParaRPr>
            </a:p>
          </p:txBody>
        </p:sp>
      </p:grpSp>
      <p:grpSp>
        <p:nvGrpSpPr>
          <p:cNvPr id="417" name=""/>
          <p:cNvGrpSpPr/>
          <p:nvPr/>
        </p:nvGrpSpPr>
        <p:grpSpPr>
          <a:xfrm>
            <a:off x="4665600" y="3476520"/>
            <a:ext cx="4477680" cy="1542960"/>
            <a:chOff x="4665600" y="3476520"/>
            <a:chExt cx="4477680" cy="1542960"/>
          </a:xfrm>
        </p:grpSpPr>
        <p:grpSp>
          <p:nvGrpSpPr>
            <p:cNvPr id="418" name=""/>
            <p:cNvGrpSpPr/>
            <p:nvPr/>
          </p:nvGrpSpPr>
          <p:grpSpPr>
            <a:xfrm>
              <a:off x="4665600" y="3746520"/>
              <a:ext cx="4477680" cy="1272960"/>
              <a:chOff x="4665600" y="3746520"/>
              <a:chExt cx="4477680" cy="1272960"/>
            </a:xfrm>
          </p:grpSpPr>
          <p:sp>
            <p:nvSpPr>
              <p:cNvPr id="419" name=""/>
              <p:cNvSpPr/>
              <p:nvPr/>
            </p:nvSpPr>
            <p:spPr>
              <a:xfrm>
                <a:off x="4665600" y="3746520"/>
                <a:ext cx="4477680" cy="1272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20" name=""/>
              <p:cNvGrpSpPr/>
              <p:nvPr/>
            </p:nvGrpSpPr>
            <p:grpSpPr>
              <a:xfrm>
                <a:off x="4975200" y="3782880"/>
                <a:ext cx="3535920" cy="1184400"/>
                <a:chOff x="4975200" y="3782880"/>
                <a:chExt cx="3535920" cy="1184400"/>
              </a:xfrm>
            </p:grpSpPr>
            <p:sp>
              <p:nvSpPr>
                <p:cNvPr id="421" name=""/>
                <p:cNvSpPr/>
                <p:nvPr/>
              </p:nvSpPr>
              <p:spPr>
                <a:xfrm>
                  <a:off x="6930720" y="4056120"/>
                  <a:ext cx="474480" cy="250560"/>
                </a:xfrm>
                <a:custGeom>
                  <a:avLst/>
                  <a:gdLst/>
                  <a:ahLst/>
                  <a:rect l="l" t="t" r="r" b="b"/>
                  <a:pathLst>
                    <a:path w="987" h="538">
                      <a:moveTo>
                        <a:pt x="0" y="0"/>
                      </a:moveTo>
                      <a:lnTo>
                        <a:pt x="987" y="262"/>
                      </a:lnTo>
                      <a:lnTo>
                        <a:pt x="987" y="277"/>
                      </a:lnTo>
                      <a:lnTo>
                        <a:pt x="0" y="538"/>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22" name=""/>
                <p:cNvGrpSpPr/>
                <p:nvPr/>
              </p:nvGrpSpPr>
              <p:grpSpPr>
                <a:xfrm>
                  <a:off x="5582880" y="4263840"/>
                  <a:ext cx="1175400" cy="463320"/>
                  <a:chOff x="5582880" y="4263840"/>
                  <a:chExt cx="1175400" cy="463320"/>
                </a:xfrm>
              </p:grpSpPr>
              <p:sp>
                <p:nvSpPr>
                  <p:cNvPr id="423" name=""/>
                  <p:cNvSpPr/>
                  <p:nvPr/>
                </p:nvSpPr>
                <p:spPr>
                  <a:xfrm flipH="1">
                    <a:off x="5640840" y="4263840"/>
                    <a:ext cx="1117440" cy="43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4" name=""/>
                  <p:cNvSpPr/>
                  <p:nvPr/>
                </p:nvSpPr>
                <p:spPr>
                  <a:xfrm>
                    <a:off x="5582880" y="4677840"/>
                    <a:ext cx="75960" cy="49320"/>
                  </a:xfrm>
                  <a:custGeom>
                    <a:avLst/>
                    <a:gdLst/>
                    <a:ahLst/>
                    <a:rect l="l" t="t" r="r" b="b"/>
                    <a:pathLst>
                      <a:path w="132" h="107">
                        <a:moveTo>
                          <a:pt x="82" y="0"/>
                        </a:moveTo>
                        <a:lnTo>
                          <a:pt x="0" y="103"/>
                        </a:lnTo>
                        <a:lnTo>
                          <a:pt x="132" y="107"/>
                        </a:lnTo>
                        <a:lnTo>
                          <a:pt x="8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Futura Bk"/>
                    </a:endParaRPr>
                  </a:p>
                </p:txBody>
              </p:sp>
            </p:grpSp>
            <p:grpSp>
              <p:nvGrpSpPr>
                <p:cNvPr id="425" name=""/>
                <p:cNvGrpSpPr/>
                <p:nvPr/>
              </p:nvGrpSpPr>
              <p:grpSpPr>
                <a:xfrm>
                  <a:off x="6457320" y="4306680"/>
                  <a:ext cx="301320" cy="419040"/>
                  <a:chOff x="6457320" y="4306680"/>
                  <a:chExt cx="301320" cy="419040"/>
                </a:xfrm>
              </p:grpSpPr>
              <p:sp>
                <p:nvSpPr>
                  <p:cNvPr id="426" name=""/>
                  <p:cNvSpPr/>
                  <p:nvPr/>
                </p:nvSpPr>
                <p:spPr>
                  <a:xfrm flipH="1">
                    <a:off x="6487920" y="4306680"/>
                    <a:ext cx="27072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7" name=""/>
                  <p:cNvSpPr/>
                  <p:nvPr/>
                </p:nvSpPr>
                <p:spPr>
                  <a:xfrm>
                    <a:off x="6457320" y="4666320"/>
                    <a:ext cx="56520" cy="59400"/>
                  </a:xfrm>
                  <a:custGeom>
                    <a:avLst/>
                    <a:gdLst/>
                    <a:ahLst/>
                    <a:rect l="l" t="t" r="r" b="b"/>
                    <a:pathLst>
                      <a:path w="118" h="129">
                        <a:moveTo>
                          <a:pt x="21" y="0"/>
                        </a:moveTo>
                        <a:lnTo>
                          <a:pt x="0" y="129"/>
                        </a:lnTo>
                        <a:lnTo>
                          <a:pt x="118" y="68"/>
                        </a:lnTo>
                        <a:lnTo>
                          <a:pt x="2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Futura Bk"/>
                    </a:endParaRPr>
                  </a:p>
                </p:txBody>
              </p:sp>
            </p:grpSp>
            <p:grpSp>
              <p:nvGrpSpPr>
                <p:cNvPr id="428" name=""/>
                <p:cNvGrpSpPr/>
                <p:nvPr/>
              </p:nvGrpSpPr>
              <p:grpSpPr>
                <a:xfrm>
                  <a:off x="6845760" y="4306680"/>
                  <a:ext cx="102960" cy="419040"/>
                  <a:chOff x="6845760" y="4306680"/>
                  <a:chExt cx="102960" cy="419040"/>
                </a:xfrm>
              </p:grpSpPr>
              <p:sp>
                <p:nvSpPr>
                  <p:cNvPr id="429" name=""/>
                  <p:cNvSpPr/>
                  <p:nvPr/>
                </p:nvSpPr>
                <p:spPr>
                  <a:xfrm>
                    <a:off x="6845760" y="4306680"/>
                    <a:ext cx="74880" cy="36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0" name=""/>
                  <p:cNvSpPr/>
                  <p:nvPr/>
                </p:nvSpPr>
                <p:spPr>
                  <a:xfrm>
                    <a:off x="6892920" y="4667040"/>
                    <a:ext cx="55800" cy="58680"/>
                  </a:xfrm>
                  <a:custGeom>
                    <a:avLst/>
                    <a:gdLst/>
                    <a:ahLst/>
                    <a:rect l="l" t="t" r="r" b="b"/>
                    <a:pathLst>
                      <a:path w="116" h="125">
                        <a:moveTo>
                          <a:pt x="0" y="22"/>
                        </a:moveTo>
                        <a:lnTo>
                          <a:pt x="80" y="125"/>
                        </a:lnTo>
                        <a:lnTo>
                          <a:pt x="116" y="0"/>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Futura Bk"/>
                    </a:endParaRPr>
                  </a:p>
                </p:txBody>
              </p:sp>
            </p:grpSp>
            <p:grpSp>
              <p:nvGrpSpPr>
                <p:cNvPr id="431" name=""/>
                <p:cNvGrpSpPr/>
                <p:nvPr/>
              </p:nvGrpSpPr>
              <p:grpSpPr>
                <a:xfrm>
                  <a:off x="6889320" y="4306680"/>
                  <a:ext cx="644400" cy="419400"/>
                  <a:chOff x="6889320" y="4306680"/>
                  <a:chExt cx="644400" cy="419400"/>
                </a:xfrm>
              </p:grpSpPr>
              <p:sp>
                <p:nvSpPr>
                  <p:cNvPr id="432" name=""/>
                  <p:cNvSpPr/>
                  <p:nvPr/>
                </p:nvSpPr>
                <p:spPr>
                  <a:xfrm>
                    <a:off x="6889320" y="4306680"/>
                    <a:ext cx="59940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3" name=""/>
                  <p:cNvSpPr/>
                  <p:nvPr/>
                </p:nvSpPr>
                <p:spPr>
                  <a:xfrm>
                    <a:off x="7471440" y="4673880"/>
                    <a:ext cx="62280" cy="52200"/>
                  </a:xfrm>
                  <a:custGeom>
                    <a:avLst/>
                    <a:gdLst/>
                    <a:ahLst/>
                    <a:rect l="l" t="t" r="r" b="b"/>
                    <a:pathLst>
                      <a:path w="129" h="112">
                        <a:moveTo>
                          <a:pt x="0" y="97"/>
                        </a:moveTo>
                        <a:lnTo>
                          <a:pt x="129" y="112"/>
                        </a:lnTo>
                        <a:lnTo>
                          <a:pt x="63" y="0"/>
                        </a:lnTo>
                        <a:lnTo>
                          <a:pt x="0"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Futura Bk"/>
                    </a:endParaRPr>
                  </a:p>
                </p:txBody>
              </p:sp>
            </p:grpSp>
            <p:grpSp>
              <p:nvGrpSpPr>
                <p:cNvPr id="434" name=""/>
                <p:cNvGrpSpPr/>
                <p:nvPr/>
              </p:nvGrpSpPr>
              <p:grpSpPr>
                <a:xfrm>
                  <a:off x="6930720" y="4263840"/>
                  <a:ext cx="1292760" cy="469800"/>
                  <a:chOff x="6930720" y="4263840"/>
                  <a:chExt cx="1292760" cy="469800"/>
                </a:xfrm>
              </p:grpSpPr>
              <p:sp>
                <p:nvSpPr>
                  <p:cNvPr id="435" name=""/>
                  <p:cNvSpPr/>
                  <p:nvPr/>
                </p:nvSpPr>
                <p:spPr>
                  <a:xfrm>
                    <a:off x="6930720" y="4263840"/>
                    <a:ext cx="124200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6" name=""/>
                  <p:cNvSpPr/>
                  <p:nvPr/>
                </p:nvSpPr>
                <p:spPr>
                  <a:xfrm>
                    <a:off x="8161200" y="4680360"/>
                    <a:ext cx="62280" cy="53280"/>
                  </a:xfrm>
                  <a:custGeom>
                    <a:avLst/>
                    <a:gdLst/>
                    <a:ahLst/>
                    <a:rect l="l" t="t" r="r" b="b"/>
                    <a:pathLst>
                      <a:path w="129" h="112">
                        <a:moveTo>
                          <a:pt x="0" y="112"/>
                        </a:moveTo>
                        <a:lnTo>
                          <a:pt x="129" y="95"/>
                        </a:lnTo>
                        <a:lnTo>
                          <a:pt x="39" y="0"/>
                        </a:lnTo>
                        <a:lnTo>
                          <a:pt x="0" y="11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Futura Bk"/>
                    </a:endParaRPr>
                  </a:p>
                </p:txBody>
              </p:sp>
            </p:grpSp>
            <p:grpSp>
              <p:nvGrpSpPr>
                <p:cNvPr id="437" name=""/>
                <p:cNvGrpSpPr/>
                <p:nvPr/>
              </p:nvGrpSpPr>
              <p:grpSpPr>
                <a:xfrm>
                  <a:off x="6715800" y="4008240"/>
                  <a:ext cx="342000" cy="408240"/>
                  <a:chOff x="6715800" y="4008240"/>
                  <a:chExt cx="342000" cy="408240"/>
                </a:xfrm>
              </p:grpSpPr>
              <p:pic>
                <p:nvPicPr>
                  <p:cNvPr id="438" name="" descr=""/>
                  <p:cNvPicPr/>
                  <p:nvPr/>
                </p:nvPicPr>
                <p:blipFill>
                  <a:blip r:embed="rId7"/>
                  <a:stretch/>
                </p:blipFill>
                <p:spPr>
                  <a:xfrm>
                    <a:off x="6715800" y="4008240"/>
                    <a:ext cx="342000" cy="408240"/>
                  </a:xfrm>
                  <a:prstGeom prst="rect">
                    <a:avLst/>
                  </a:prstGeom>
                  <a:ln w="0">
                    <a:noFill/>
                  </a:ln>
                </p:spPr>
              </p:pic>
              <p:pic>
                <p:nvPicPr>
                  <p:cNvPr id="439" name="" descr=""/>
                  <p:cNvPicPr/>
                  <p:nvPr/>
                </p:nvPicPr>
                <p:blipFill>
                  <a:blip r:embed="rId8"/>
                  <a:stretch/>
                </p:blipFill>
                <p:spPr>
                  <a:xfrm>
                    <a:off x="6715800" y="4008240"/>
                    <a:ext cx="342000" cy="408240"/>
                  </a:xfrm>
                  <a:prstGeom prst="rect">
                    <a:avLst/>
                  </a:prstGeom>
                  <a:ln w="0">
                    <a:noFill/>
                  </a:ln>
                </p:spPr>
              </p:pic>
            </p:grpSp>
            <p:grpSp>
              <p:nvGrpSpPr>
                <p:cNvPr id="440" name=""/>
                <p:cNvGrpSpPr/>
                <p:nvPr/>
              </p:nvGrpSpPr>
              <p:grpSpPr>
                <a:xfrm>
                  <a:off x="5265360" y="4606920"/>
                  <a:ext cx="277560" cy="195120"/>
                  <a:chOff x="5265360" y="4606920"/>
                  <a:chExt cx="277560" cy="195120"/>
                </a:xfrm>
              </p:grpSpPr>
              <p:grpSp>
                <p:nvGrpSpPr>
                  <p:cNvPr id="441" name=""/>
                  <p:cNvGrpSpPr/>
                  <p:nvPr/>
                </p:nvGrpSpPr>
                <p:grpSpPr>
                  <a:xfrm>
                    <a:off x="5265360" y="4606920"/>
                    <a:ext cx="277560" cy="195120"/>
                    <a:chOff x="5265360" y="4606920"/>
                    <a:chExt cx="277560" cy="195120"/>
                  </a:xfrm>
                </p:grpSpPr>
                <p:sp>
                  <p:nvSpPr>
                    <p:cNvPr id="442" name=""/>
                    <p:cNvSpPr/>
                    <p:nvPr/>
                  </p:nvSpPr>
                  <p:spPr>
                    <a:xfrm>
                      <a:off x="5290200" y="473220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43" name=""/>
                    <p:cNvSpPr/>
                    <p:nvPr/>
                  </p:nvSpPr>
                  <p:spPr>
                    <a:xfrm>
                      <a:off x="5290200" y="472356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44" name=""/>
                    <p:cNvSpPr/>
                    <p:nvPr/>
                  </p:nvSpPr>
                  <p:spPr>
                    <a:xfrm>
                      <a:off x="5328720" y="469080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45" name=""/>
                    <p:cNvSpPr/>
                    <p:nvPr/>
                  </p:nvSpPr>
                  <p:spPr>
                    <a:xfrm>
                      <a:off x="5362200" y="471492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46" name=""/>
                    <p:cNvSpPr/>
                    <p:nvPr/>
                  </p:nvSpPr>
                  <p:spPr>
                    <a:xfrm>
                      <a:off x="5274000" y="460692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47" name=""/>
                    <p:cNvSpPr/>
                    <p:nvPr/>
                  </p:nvSpPr>
                  <p:spPr>
                    <a:xfrm>
                      <a:off x="5297760" y="462348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48" name=""/>
                    <p:cNvSpPr/>
                    <p:nvPr/>
                  </p:nvSpPr>
                  <p:spPr>
                    <a:xfrm>
                      <a:off x="5314320" y="463680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49" name=""/>
                    <p:cNvSpPr/>
                    <p:nvPr/>
                  </p:nvSpPr>
                  <p:spPr>
                    <a:xfrm>
                      <a:off x="5313240" y="463680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50" name=""/>
                    <p:cNvSpPr/>
                    <p:nvPr/>
                  </p:nvSpPr>
                  <p:spPr>
                    <a:xfrm>
                      <a:off x="5322960" y="464328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51" name=""/>
                    <p:cNvGrpSpPr/>
                    <p:nvPr/>
                  </p:nvGrpSpPr>
                  <p:grpSpPr>
                    <a:xfrm>
                      <a:off x="5265360" y="4763880"/>
                      <a:ext cx="277560" cy="38160"/>
                      <a:chOff x="5265360" y="4763880"/>
                      <a:chExt cx="277560" cy="38160"/>
                    </a:xfrm>
                  </p:grpSpPr>
                  <p:sp>
                    <p:nvSpPr>
                      <p:cNvPr id="452" name=""/>
                      <p:cNvSpPr/>
                      <p:nvPr/>
                    </p:nvSpPr>
                    <p:spPr>
                      <a:xfrm>
                        <a:off x="5265360" y="476388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53" name=""/>
                      <p:cNvSpPr/>
                      <p:nvPr/>
                    </p:nvSpPr>
                    <p:spPr>
                      <a:xfrm>
                        <a:off x="5265360" y="476388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54" name=""/>
                      <p:cNvSpPr/>
                      <p:nvPr/>
                    </p:nvSpPr>
                    <p:spPr>
                      <a:xfrm>
                        <a:off x="5297760" y="479376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55" name=""/>
                    <p:cNvSpPr/>
                    <p:nvPr/>
                  </p:nvSpPr>
                  <p:spPr>
                    <a:xfrm>
                      <a:off x="5274000" y="460692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56" name=""/>
                  <p:cNvGrpSpPr/>
                  <p:nvPr/>
                </p:nvGrpSpPr>
                <p:grpSpPr>
                  <a:xfrm>
                    <a:off x="5265360" y="4606920"/>
                    <a:ext cx="277560" cy="195120"/>
                    <a:chOff x="5265360" y="4606920"/>
                    <a:chExt cx="277560" cy="195120"/>
                  </a:xfrm>
                </p:grpSpPr>
                <p:sp>
                  <p:nvSpPr>
                    <p:cNvPr id="457" name=""/>
                    <p:cNvSpPr/>
                    <p:nvPr/>
                  </p:nvSpPr>
                  <p:spPr>
                    <a:xfrm>
                      <a:off x="5290200" y="473220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8" name=""/>
                    <p:cNvSpPr/>
                    <p:nvPr/>
                  </p:nvSpPr>
                  <p:spPr>
                    <a:xfrm>
                      <a:off x="5290200" y="472356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9" name=""/>
                    <p:cNvSpPr/>
                    <p:nvPr/>
                  </p:nvSpPr>
                  <p:spPr>
                    <a:xfrm>
                      <a:off x="5328720" y="469080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60" name=""/>
                    <p:cNvSpPr/>
                    <p:nvPr/>
                  </p:nvSpPr>
                  <p:spPr>
                    <a:xfrm>
                      <a:off x="5362200" y="471492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61" name=""/>
                    <p:cNvSpPr/>
                    <p:nvPr/>
                  </p:nvSpPr>
                  <p:spPr>
                    <a:xfrm>
                      <a:off x="5274000" y="460692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62" name=""/>
                    <p:cNvSpPr/>
                    <p:nvPr/>
                  </p:nvSpPr>
                  <p:spPr>
                    <a:xfrm>
                      <a:off x="5297760" y="462348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63" name=""/>
                    <p:cNvSpPr/>
                    <p:nvPr/>
                  </p:nvSpPr>
                  <p:spPr>
                    <a:xfrm>
                      <a:off x="5314320" y="463680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64" name=""/>
                    <p:cNvSpPr/>
                    <p:nvPr/>
                  </p:nvSpPr>
                  <p:spPr>
                    <a:xfrm>
                      <a:off x="5313240" y="463680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65" name=""/>
                    <p:cNvSpPr/>
                    <p:nvPr/>
                  </p:nvSpPr>
                  <p:spPr>
                    <a:xfrm>
                      <a:off x="5322960" y="464328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66" name=""/>
                    <p:cNvGrpSpPr/>
                    <p:nvPr/>
                  </p:nvGrpSpPr>
                  <p:grpSpPr>
                    <a:xfrm>
                      <a:off x="5265360" y="4763880"/>
                      <a:ext cx="277560" cy="38160"/>
                      <a:chOff x="5265360" y="4763880"/>
                      <a:chExt cx="277560" cy="38160"/>
                    </a:xfrm>
                  </p:grpSpPr>
                  <p:sp>
                    <p:nvSpPr>
                      <p:cNvPr id="467" name=""/>
                      <p:cNvSpPr/>
                      <p:nvPr/>
                    </p:nvSpPr>
                    <p:spPr>
                      <a:xfrm>
                        <a:off x="5265360" y="476388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68" name=""/>
                      <p:cNvSpPr/>
                      <p:nvPr/>
                    </p:nvSpPr>
                    <p:spPr>
                      <a:xfrm>
                        <a:off x="5265360" y="476388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69" name=""/>
                      <p:cNvSpPr/>
                      <p:nvPr/>
                    </p:nvSpPr>
                    <p:spPr>
                      <a:xfrm>
                        <a:off x="5297760" y="479376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70" name=""/>
                    <p:cNvSpPr/>
                    <p:nvPr/>
                  </p:nvSpPr>
                  <p:spPr>
                    <a:xfrm>
                      <a:off x="5274000" y="460692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71" name=""/>
                <p:cNvGrpSpPr/>
                <p:nvPr/>
              </p:nvGrpSpPr>
              <p:grpSpPr>
                <a:xfrm>
                  <a:off x="7564680" y="4595760"/>
                  <a:ext cx="277560" cy="193680"/>
                  <a:chOff x="7564680" y="4595760"/>
                  <a:chExt cx="277560" cy="193680"/>
                </a:xfrm>
              </p:grpSpPr>
              <p:grpSp>
                <p:nvGrpSpPr>
                  <p:cNvPr id="472" name=""/>
                  <p:cNvGrpSpPr/>
                  <p:nvPr/>
                </p:nvGrpSpPr>
                <p:grpSpPr>
                  <a:xfrm>
                    <a:off x="7564680" y="4595760"/>
                    <a:ext cx="277560" cy="193680"/>
                    <a:chOff x="7564680" y="4595760"/>
                    <a:chExt cx="277560" cy="193680"/>
                  </a:xfrm>
                </p:grpSpPr>
                <p:sp>
                  <p:nvSpPr>
                    <p:cNvPr id="473" name=""/>
                    <p:cNvSpPr/>
                    <p:nvPr/>
                  </p:nvSpPr>
                  <p:spPr>
                    <a:xfrm>
                      <a:off x="7590240" y="471996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74" name=""/>
                    <p:cNvSpPr/>
                    <p:nvPr/>
                  </p:nvSpPr>
                  <p:spPr>
                    <a:xfrm>
                      <a:off x="7590240" y="471168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75" name=""/>
                    <p:cNvSpPr/>
                    <p:nvPr/>
                  </p:nvSpPr>
                  <p:spPr>
                    <a:xfrm>
                      <a:off x="7628760" y="467928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76" name=""/>
                    <p:cNvSpPr/>
                    <p:nvPr/>
                  </p:nvSpPr>
                  <p:spPr>
                    <a:xfrm>
                      <a:off x="7662240" y="470304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77" name=""/>
                    <p:cNvSpPr/>
                    <p:nvPr/>
                  </p:nvSpPr>
                  <p:spPr>
                    <a:xfrm>
                      <a:off x="7572960" y="459576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78" name=""/>
                    <p:cNvSpPr/>
                    <p:nvPr/>
                  </p:nvSpPr>
                  <p:spPr>
                    <a:xfrm>
                      <a:off x="7597080" y="461232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79" name=""/>
                    <p:cNvSpPr/>
                    <p:nvPr/>
                  </p:nvSpPr>
                  <p:spPr>
                    <a:xfrm>
                      <a:off x="7613280" y="462528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80" name=""/>
                    <p:cNvSpPr/>
                    <p:nvPr/>
                  </p:nvSpPr>
                  <p:spPr>
                    <a:xfrm>
                      <a:off x="7612200" y="462528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81" name=""/>
                    <p:cNvSpPr/>
                    <p:nvPr/>
                  </p:nvSpPr>
                  <p:spPr>
                    <a:xfrm>
                      <a:off x="7623000" y="463176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82" name=""/>
                    <p:cNvGrpSpPr/>
                    <p:nvPr/>
                  </p:nvGrpSpPr>
                  <p:grpSpPr>
                    <a:xfrm>
                      <a:off x="7564680" y="4751640"/>
                      <a:ext cx="277560" cy="37800"/>
                      <a:chOff x="7564680" y="4751640"/>
                      <a:chExt cx="277560" cy="37800"/>
                    </a:xfrm>
                  </p:grpSpPr>
                  <p:sp>
                    <p:nvSpPr>
                      <p:cNvPr id="483" name=""/>
                      <p:cNvSpPr/>
                      <p:nvPr/>
                    </p:nvSpPr>
                    <p:spPr>
                      <a:xfrm>
                        <a:off x="7564680" y="475164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84" name=""/>
                      <p:cNvSpPr/>
                      <p:nvPr/>
                    </p:nvSpPr>
                    <p:spPr>
                      <a:xfrm>
                        <a:off x="7564680" y="475164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85" name=""/>
                      <p:cNvSpPr/>
                      <p:nvPr/>
                    </p:nvSpPr>
                    <p:spPr>
                      <a:xfrm>
                        <a:off x="7597080" y="478116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86" name=""/>
                    <p:cNvSpPr/>
                    <p:nvPr/>
                  </p:nvSpPr>
                  <p:spPr>
                    <a:xfrm>
                      <a:off x="7572960" y="459576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87" name=""/>
                  <p:cNvGrpSpPr/>
                  <p:nvPr/>
                </p:nvGrpSpPr>
                <p:grpSpPr>
                  <a:xfrm>
                    <a:off x="7564680" y="4595760"/>
                    <a:ext cx="277560" cy="193680"/>
                    <a:chOff x="7564680" y="4595760"/>
                    <a:chExt cx="277560" cy="193680"/>
                  </a:xfrm>
                </p:grpSpPr>
                <p:sp>
                  <p:nvSpPr>
                    <p:cNvPr id="488" name=""/>
                    <p:cNvSpPr/>
                    <p:nvPr/>
                  </p:nvSpPr>
                  <p:spPr>
                    <a:xfrm>
                      <a:off x="7590240" y="471996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89" name=""/>
                    <p:cNvSpPr/>
                    <p:nvPr/>
                  </p:nvSpPr>
                  <p:spPr>
                    <a:xfrm>
                      <a:off x="7590240" y="471168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90" name=""/>
                    <p:cNvSpPr/>
                    <p:nvPr/>
                  </p:nvSpPr>
                  <p:spPr>
                    <a:xfrm>
                      <a:off x="7628760" y="467928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91" name=""/>
                    <p:cNvSpPr/>
                    <p:nvPr/>
                  </p:nvSpPr>
                  <p:spPr>
                    <a:xfrm>
                      <a:off x="7662240" y="470304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92" name=""/>
                    <p:cNvSpPr/>
                    <p:nvPr/>
                  </p:nvSpPr>
                  <p:spPr>
                    <a:xfrm>
                      <a:off x="7572960" y="459576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93" name=""/>
                    <p:cNvSpPr/>
                    <p:nvPr/>
                  </p:nvSpPr>
                  <p:spPr>
                    <a:xfrm>
                      <a:off x="7597080" y="461232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94" name=""/>
                    <p:cNvSpPr/>
                    <p:nvPr/>
                  </p:nvSpPr>
                  <p:spPr>
                    <a:xfrm>
                      <a:off x="7613280" y="462528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95" name=""/>
                    <p:cNvSpPr/>
                    <p:nvPr/>
                  </p:nvSpPr>
                  <p:spPr>
                    <a:xfrm>
                      <a:off x="7612200" y="462528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96" name=""/>
                    <p:cNvSpPr/>
                    <p:nvPr/>
                  </p:nvSpPr>
                  <p:spPr>
                    <a:xfrm>
                      <a:off x="7623000" y="463176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97" name=""/>
                    <p:cNvGrpSpPr/>
                    <p:nvPr/>
                  </p:nvGrpSpPr>
                  <p:grpSpPr>
                    <a:xfrm>
                      <a:off x="7564680" y="4751640"/>
                      <a:ext cx="277560" cy="37800"/>
                      <a:chOff x="7564680" y="4751640"/>
                      <a:chExt cx="277560" cy="37800"/>
                    </a:xfrm>
                  </p:grpSpPr>
                  <p:sp>
                    <p:nvSpPr>
                      <p:cNvPr id="498" name=""/>
                      <p:cNvSpPr/>
                      <p:nvPr/>
                    </p:nvSpPr>
                    <p:spPr>
                      <a:xfrm>
                        <a:off x="7564680" y="475164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99" name=""/>
                      <p:cNvSpPr/>
                      <p:nvPr/>
                    </p:nvSpPr>
                    <p:spPr>
                      <a:xfrm>
                        <a:off x="7564680" y="475164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00" name=""/>
                      <p:cNvSpPr/>
                      <p:nvPr/>
                    </p:nvSpPr>
                    <p:spPr>
                      <a:xfrm>
                        <a:off x="7597080" y="478116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01" name=""/>
                    <p:cNvSpPr/>
                    <p:nvPr/>
                  </p:nvSpPr>
                  <p:spPr>
                    <a:xfrm>
                      <a:off x="7572960" y="459576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502" name=""/>
                <p:cNvGrpSpPr/>
                <p:nvPr/>
              </p:nvGrpSpPr>
              <p:grpSpPr>
                <a:xfrm>
                  <a:off x="6962760" y="4595760"/>
                  <a:ext cx="279360" cy="193680"/>
                  <a:chOff x="6962760" y="4595760"/>
                  <a:chExt cx="279360" cy="193680"/>
                </a:xfrm>
              </p:grpSpPr>
              <p:grpSp>
                <p:nvGrpSpPr>
                  <p:cNvPr id="503" name=""/>
                  <p:cNvGrpSpPr/>
                  <p:nvPr/>
                </p:nvGrpSpPr>
                <p:grpSpPr>
                  <a:xfrm>
                    <a:off x="6962760" y="4595760"/>
                    <a:ext cx="279360" cy="193680"/>
                    <a:chOff x="6962760" y="4595760"/>
                    <a:chExt cx="279360" cy="193680"/>
                  </a:xfrm>
                </p:grpSpPr>
                <p:sp>
                  <p:nvSpPr>
                    <p:cNvPr id="504" name=""/>
                    <p:cNvSpPr/>
                    <p:nvPr/>
                  </p:nvSpPr>
                  <p:spPr>
                    <a:xfrm>
                      <a:off x="6987600" y="471996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05" name=""/>
                    <p:cNvSpPr/>
                    <p:nvPr/>
                  </p:nvSpPr>
                  <p:spPr>
                    <a:xfrm>
                      <a:off x="6987600" y="471168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06" name=""/>
                    <p:cNvSpPr/>
                    <p:nvPr/>
                  </p:nvSpPr>
                  <p:spPr>
                    <a:xfrm>
                      <a:off x="7027200" y="467928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07" name=""/>
                    <p:cNvSpPr/>
                    <p:nvPr/>
                  </p:nvSpPr>
                  <p:spPr>
                    <a:xfrm>
                      <a:off x="7061040" y="470304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08" name=""/>
                    <p:cNvSpPr/>
                    <p:nvPr/>
                  </p:nvSpPr>
                  <p:spPr>
                    <a:xfrm>
                      <a:off x="6971400" y="459576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09" name=""/>
                    <p:cNvSpPr/>
                    <p:nvPr/>
                  </p:nvSpPr>
                  <p:spPr>
                    <a:xfrm>
                      <a:off x="6995520" y="461232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10" name=""/>
                    <p:cNvSpPr/>
                    <p:nvPr/>
                  </p:nvSpPr>
                  <p:spPr>
                    <a:xfrm>
                      <a:off x="7011720" y="462528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11" name=""/>
                    <p:cNvSpPr/>
                    <p:nvPr/>
                  </p:nvSpPr>
                  <p:spPr>
                    <a:xfrm>
                      <a:off x="7011000" y="462528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12" name=""/>
                    <p:cNvSpPr/>
                    <p:nvPr/>
                  </p:nvSpPr>
                  <p:spPr>
                    <a:xfrm>
                      <a:off x="7021440" y="463176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13" name=""/>
                    <p:cNvGrpSpPr/>
                    <p:nvPr/>
                  </p:nvGrpSpPr>
                  <p:grpSpPr>
                    <a:xfrm>
                      <a:off x="6962760" y="4751640"/>
                      <a:ext cx="279360" cy="37800"/>
                      <a:chOff x="6962760" y="4751640"/>
                      <a:chExt cx="279360" cy="37800"/>
                    </a:xfrm>
                  </p:grpSpPr>
                  <p:sp>
                    <p:nvSpPr>
                      <p:cNvPr id="514" name=""/>
                      <p:cNvSpPr/>
                      <p:nvPr/>
                    </p:nvSpPr>
                    <p:spPr>
                      <a:xfrm>
                        <a:off x="6962760" y="475164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15" name=""/>
                      <p:cNvSpPr/>
                      <p:nvPr/>
                    </p:nvSpPr>
                    <p:spPr>
                      <a:xfrm>
                        <a:off x="6962760" y="475164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16" name=""/>
                      <p:cNvSpPr/>
                      <p:nvPr/>
                    </p:nvSpPr>
                    <p:spPr>
                      <a:xfrm>
                        <a:off x="6995520" y="478116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17" name=""/>
                    <p:cNvSpPr/>
                    <p:nvPr/>
                  </p:nvSpPr>
                  <p:spPr>
                    <a:xfrm>
                      <a:off x="6971400" y="459576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18" name=""/>
                  <p:cNvGrpSpPr/>
                  <p:nvPr/>
                </p:nvGrpSpPr>
                <p:grpSpPr>
                  <a:xfrm>
                    <a:off x="6962760" y="4595760"/>
                    <a:ext cx="279360" cy="193680"/>
                    <a:chOff x="6962760" y="4595760"/>
                    <a:chExt cx="279360" cy="193680"/>
                  </a:xfrm>
                </p:grpSpPr>
                <p:sp>
                  <p:nvSpPr>
                    <p:cNvPr id="519" name=""/>
                    <p:cNvSpPr/>
                    <p:nvPr/>
                  </p:nvSpPr>
                  <p:spPr>
                    <a:xfrm>
                      <a:off x="6987600" y="471996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20" name=""/>
                    <p:cNvSpPr/>
                    <p:nvPr/>
                  </p:nvSpPr>
                  <p:spPr>
                    <a:xfrm>
                      <a:off x="6987600" y="471168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21" name=""/>
                    <p:cNvSpPr/>
                    <p:nvPr/>
                  </p:nvSpPr>
                  <p:spPr>
                    <a:xfrm>
                      <a:off x="7027200" y="467928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22" name=""/>
                    <p:cNvSpPr/>
                    <p:nvPr/>
                  </p:nvSpPr>
                  <p:spPr>
                    <a:xfrm>
                      <a:off x="7061040" y="470304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23" name=""/>
                    <p:cNvSpPr/>
                    <p:nvPr/>
                  </p:nvSpPr>
                  <p:spPr>
                    <a:xfrm>
                      <a:off x="6971400" y="459576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24" name=""/>
                    <p:cNvSpPr/>
                    <p:nvPr/>
                  </p:nvSpPr>
                  <p:spPr>
                    <a:xfrm>
                      <a:off x="6995520" y="461232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25" name=""/>
                    <p:cNvSpPr/>
                    <p:nvPr/>
                  </p:nvSpPr>
                  <p:spPr>
                    <a:xfrm>
                      <a:off x="7011720" y="462528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26" name=""/>
                    <p:cNvSpPr/>
                    <p:nvPr/>
                  </p:nvSpPr>
                  <p:spPr>
                    <a:xfrm>
                      <a:off x="7011000" y="462528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27" name=""/>
                    <p:cNvSpPr/>
                    <p:nvPr/>
                  </p:nvSpPr>
                  <p:spPr>
                    <a:xfrm>
                      <a:off x="7021440" y="463176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28" name=""/>
                    <p:cNvGrpSpPr/>
                    <p:nvPr/>
                  </p:nvGrpSpPr>
                  <p:grpSpPr>
                    <a:xfrm>
                      <a:off x="6962760" y="4751640"/>
                      <a:ext cx="279360" cy="37800"/>
                      <a:chOff x="6962760" y="4751640"/>
                      <a:chExt cx="279360" cy="37800"/>
                    </a:xfrm>
                  </p:grpSpPr>
                  <p:sp>
                    <p:nvSpPr>
                      <p:cNvPr id="529" name=""/>
                      <p:cNvSpPr/>
                      <p:nvPr/>
                    </p:nvSpPr>
                    <p:spPr>
                      <a:xfrm>
                        <a:off x="6962760" y="475164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30" name=""/>
                      <p:cNvSpPr/>
                      <p:nvPr/>
                    </p:nvSpPr>
                    <p:spPr>
                      <a:xfrm>
                        <a:off x="6962760" y="475164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31" name=""/>
                      <p:cNvSpPr/>
                      <p:nvPr/>
                    </p:nvSpPr>
                    <p:spPr>
                      <a:xfrm>
                        <a:off x="6995520" y="478116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32" name=""/>
                    <p:cNvSpPr/>
                    <p:nvPr/>
                  </p:nvSpPr>
                  <p:spPr>
                    <a:xfrm>
                      <a:off x="6971400" y="459576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aphicFrame>
              <p:nvGraphicFramePr>
                <p:cNvPr id="533" name=""/>
                <p:cNvGraphicFramePr/>
                <p:nvPr/>
              </p:nvGraphicFramePr>
              <p:xfrm>
                <a:off x="7396200" y="3782880"/>
                <a:ext cx="264600" cy="641520"/>
              </p:xfrm>
              <a:graphic>
                <a:graphicData uri="http://schemas.openxmlformats.org/presentationml/2006/ole">
                  <p:oleObj r:id="rId9" spid="">
                    <p:embed/>
                    <p:pic>
                      <p:nvPicPr>
                        <p:cNvPr id="534" name="" descr=""/>
                        <p:cNvPicPr/>
                        <p:nvPr/>
                      </p:nvPicPr>
                      <p:blipFill>
                        <a:blip r:embed="rId10"/>
                        <a:stretch/>
                      </p:blipFill>
                      <p:spPr>
                        <a:xfrm>
                          <a:off x="7396200" y="3782880"/>
                          <a:ext cx="264600" cy="641520"/>
                        </a:xfrm>
                        <a:prstGeom prst="rect">
                          <a:avLst/>
                        </a:prstGeom>
                        <a:ln w="0">
                          <a:noFill/>
                        </a:ln>
                      </p:spPr>
                    </p:pic>
                  </p:oleObj>
                </a:graphicData>
              </a:graphic>
            </p:graphicFrame>
            <p:graphicFrame>
              <p:nvGraphicFramePr>
                <p:cNvPr id="535" name=""/>
                <p:cNvGraphicFramePr/>
                <p:nvPr/>
              </p:nvGraphicFramePr>
              <p:xfrm>
                <a:off x="8246520" y="4278240"/>
                <a:ext cx="264600" cy="641520"/>
              </p:xfrm>
              <a:graphic>
                <a:graphicData uri="http://schemas.openxmlformats.org/presentationml/2006/ole">
                  <p:oleObj r:id="rId11" spid="">
                    <p:embed/>
                    <p:pic>
                      <p:nvPicPr>
                        <p:cNvPr id="536" name="" descr=""/>
                        <p:cNvPicPr/>
                        <p:nvPr/>
                      </p:nvPicPr>
                      <p:blipFill>
                        <a:blip r:embed="rId12"/>
                        <a:stretch/>
                      </p:blipFill>
                      <p:spPr>
                        <a:xfrm>
                          <a:off x="8246520" y="4278240"/>
                          <a:ext cx="264600" cy="641520"/>
                        </a:xfrm>
                        <a:prstGeom prst="rect">
                          <a:avLst/>
                        </a:prstGeom>
                        <a:ln w="0">
                          <a:noFill/>
                        </a:ln>
                      </p:spPr>
                    </p:pic>
                  </p:oleObj>
                </a:graphicData>
              </a:graphic>
            </p:graphicFrame>
            <p:pic>
              <p:nvPicPr>
                <p:cNvPr id="537" name="" descr=""/>
                <p:cNvPicPr/>
                <p:nvPr/>
              </p:nvPicPr>
              <p:blipFill>
                <a:blip r:embed="rId13"/>
                <a:stretch/>
              </p:blipFill>
              <p:spPr>
                <a:xfrm>
                  <a:off x="4975200" y="4794120"/>
                  <a:ext cx="752400" cy="173160"/>
                </a:xfrm>
                <a:prstGeom prst="rect">
                  <a:avLst/>
                </a:prstGeom>
                <a:ln w="0">
                  <a:noFill/>
                </a:ln>
              </p:spPr>
            </p:pic>
            <p:pic>
              <p:nvPicPr>
                <p:cNvPr id="538" name="" descr=""/>
                <p:cNvPicPr/>
                <p:nvPr/>
              </p:nvPicPr>
              <p:blipFill>
                <a:blip r:embed="rId14"/>
                <a:stretch/>
              </p:blipFill>
              <p:spPr>
                <a:xfrm>
                  <a:off x="5855760" y="4778280"/>
                  <a:ext cx="750600" cy="173160"/>
                </a:xfrm>
                <a:prstGeom prst="rect">
                  <a:avLst/>
                </a:prstGeom>
                <a:ln w="0">
                  <a:noFill/>
                </a:ln>
              </p:spPr>
            </p:pic>
            <p:pic>
              <p:nvPicPr>
                <p:cNvPr id="539" name="" descr=""/>
                <p:cNvPicPr/>
                <p:nvPr/>
              </p:nvPicPr>
              <p:blipFill>
                <a:blip r:embed="rId15"/>
                <a:stretch/>
              </p:blipFill>
              <p:spPr>
                <a:xfrm>
                  <a:off x="6649920" y="4792680"/>
                  <a:ext cx="750960" cy="172800"/>
                </a:xfrm>
                <a:prstGeom prst="rect">
                  <a:avLst/>
                </a:prstGeom>
                <a:ln w="0">
                  <a:noFill/>
                </a:ln>
              </p:spPr>
            </p:pic>
            <p:pic>
              <p:nvPicPr>
                <p:cNvPr id="540" name="" descr=""/>
                <p:cNvPicPr/>
                <p:nvPr/>
              </p:nvPicPr>
              <p:blipFill>
                <a:blip r:embed="rId16"/>
                <a:stretch/>
              </p:blipFill>
              <p:spPr>
                <a:xfrm>
                  <a:off x="7397640" y="4792680"/>
                  <a:ext cx="752760" cy="171360"/>
                </a:xfrm>
                <a:prstGeom prst="rect">
                  <a:avLst/>
                </a:prstGeom>
                <a:ln w="0">
                  <a:noFill/>
                </a:ln>
              </p:spPr>
            </p:pic>
            <p:grpSp>
              <p:nvGrpSpPr>
                <p:cNvPr id="541" name=""/>
                <p:cNvGrpSpPr/>
                <p:nvPr/>
              </p:nvGrpSpPr>
              <p:grpSpPr>
                <a:xfrm>
                  <a:off x="6143040" y="4573440"/>
                  <a:ext cx="275760" cy="195480"/>
                  <a:chOff x="6143040" y="4573440"/>
                  <a:chExt cx="275760" cy="195480"/>
                </a:xfrm>
              </p:grpSpPr>
              <p:grpSp>
                <p:nvGrpSpPr>
                  <p:cNvPr id="542" name=""/>
                  <p:cNvGrpSpPr/>
                  <p:nvPr/>
                </p:nvGrpSpPr>
                <p:grpSpPr>
                  <a:xfrm>
                    <a:off x="6143040" y="4573440"/>
                    <a:ext cx="275760" cy="195480"/>
                    <a:chOff x="6143040" y="4573440"/>
                    <a:chExt cx="275760" cy="195480"/>
                  </a:xfrm>
                </p:grpSpPr>
                <p:sp>
                  <p:nvSpPr>
                    <p:cNvPr id="543" name=""/>
                    <p:cNvSpPr/>
                    <p:nvPr/>
                  </p:nvSpPr>
                  <p:spPr>
                    <a:xfrm>
                      <a:off x="6167880" y="469872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44" name=""/>
                    <p:cNvSpPr/>
                    <p:nvPr/>
                  </p:nvSpPr>
                  <p:spPr>
                    <a:xfrm>
                      <a:off x="6167880" y="469044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45" name=""/>
                    <p:cNvSpPr/>
                    <p:nvPr/>
                  </p:nvSpPr>
                  <p:spPr>
                    <a:xfrm>
                      <a:off x="6205680" y="465768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46" name=""/>
                    <p:cNvSpPr/>
                    <p:nvPr/>
                  </p:nvSpPr>
                  <p:spPr>
                    <a:xfrm>
                      <a:off x="6239520" y="468180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47" name=""/>
                    <p:cNvSpPr/>
                    <p:nvPr/>
                  </p:nvSpPr>
                  <p:spPr>
                    <a:xfrm>
                      <a:off x="6151680" y="457344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48" name=""/>
                    <p:cNvSpPr/>
                    <p:nvPr/>
                  </p:nvSpPr>
                  <p:spPr>
                    <a:xfrm>
                      <a:off x="6175440" y="459000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49" name=""/>
                    <p:cNvSpPr/>
                    <p:nvPr/>
                  </p:nvSpPr>
                  <p:spPr>
                    <a:xfrm>
                      <a:off x="6191640" y="460332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50" name=""/>
                    <p:cNvSpPr/>
                    <p:nvPr/>
                  </p:nvSpPr>
                  <p:spPr>
                    <a:xfrm>
                      <a:off x="6190560" y="460332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51" name=""/>
                    <p:cNvSpPr/>
                    <p:nvPr/>
                  </p:nvSpPr>
                  <p:spPr>
                    <a:xfrm>
                      <a:off x="6200280" y="460980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52" name=""/>
                    <p:cNvGrpSpPr/>
                    <p:nvPr/>
                  </p:nvGrpSpPr>
                  <p:grpSpPr>
                    <a:xfrm>
                      <a:off x="6143040" y="4730760"/>
                      <a:ext cx="275760" cy="38160"/>
                      <a:chOff x="6143040" y="4730760"/>
                      <a:chExt cx="275760" cy="38160"/>
                    </a:xfrm>
                  </p:grpSpPr>
                  <p:sp>
                    <p:nvSpPr>
                      <p:cNvPr id="553" name=""/>
                      <p:cNvSpPr/>
                      <p:nvPr/>
                    </p:nvSpPr>
                    <p:spPr>
                      <a:xfrm>
                        <a:off x="6143040" y="473076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54" name=""/>
                      <p:cNvSpPr/>
                      <p:nvPr/>
                    </p:nvSpPr>
                    <p:spPr>
                      <a:xfrm>
                        <a:off x="6143040" y="473076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55" name=""/>
                      <p:cNvSpPr/>
                      <p:nvPr/>
                    </p:nvSpPr>
                    <p:spPr>
                      <a:xfrm>
                        <a:off x="6175440" y="476064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56" name=""/>
                    <p:cNvSpPr/>
                    <p:nvPr/>
                  </p:nvSpPr>
                  <p:spPr>
                    <a:xfrm>
                      <a:off x="6151680" y="457344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57" name=""/>
                  <p:cNvGrpSpPr/>
                  <p:nvPr/>
                </p:nvGrpSpPr>
                <p:grpSpPr>
                  <a:xfrm>
                    <a:off x="6143040" y="4573440"/>
                    <a:ext cx="275760" cy="195480"/>
                    <a:chOff x="6143040" y="4573440"/>
                    <a:chExt cx="275760" cy="195480"/>
                  </a:xfrm>
                </p:grpSpPr>
                <p:sp>
                  <p:nvSpPr>
                    <p:cNvPr id="558" name=""/>
                    <p:cNvSpPr/>
                    <p:nvPr/>
                  </p:nvSpPr>
                  <p:spPr>
                    <a:xfrm>
                      <a:off x="6167880" y="469872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59" name=""/>
                    <p:cNvSpPr/>
                    <p:nvPr/>
                  </p:nvSpPr>
                  <p:spPr>
                    <a:xfrm>
                      <a:off x="6167880" y="469044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60" name=""/>
                    <p:cNvSpPr/>
                    <p:nvPr/>
                  </p:nvSpPr>
                  <p:spPr>
                    <a:xfrm>
                      <a:off x="6205680" y="465768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61" name=""/>
                    <p:cNvSpPr/>
                    <p:nvPr/>
                  </p:nvSpPr>
                  <p:spPr>
                    <a:xfrm>
                      <a:off x="6239520" y="468180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62" name=""/>
                    <p:cNvSpPr/>
                    <p:nvPr/>
                  </p:nvSpPr>
                  <p:spPr>
                    <a:xfrm>
                      <a:off x="6151680" y="457344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63" name=""/>
                    <p:cNvSpPr/>
                    <p:nvPr/>
                  </p:nvSpPr>
                  <p:spPr>
                    <a:xfrm>
                      <a:off x="6175440" y="459000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64" name=""/>
                    <p:cNvSpPr/>
                    <p:nvPr/>
                  </p:nvSpPr>
                  <p:spPr>
                    <a:xfrm>
                      <a:off x="6191640" y="460332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65" name=""/>
                    <p:cNvSpPr/>
                    <p:nvPr/>
                  </p:nvSpPr>
                  <p:spPr>
                    <a:xfrm>
                      <a:off x="6190560" y="460332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66" name=""/>
                    <p:cNvSpPr/>
                    <p:nvPr/>
                  </p:nvSpPr>
                  <p:spPr>
                    <a:xfrm>
                      <a:off x="6200280" y="460980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67" name=""/>
                    <p:cNvGrpSpPr/>
                    <p:nvPr/>
                  </p:nvGrpSpPr>
                  <p:grpSpPr>
                    <a:xfrm>
                      <a:off x="6143040" y="4730760"/>
                      <a:ext cx="275760" cy="38160"/>
                      <a:chOff x="6143040" y="4730760"/>
                      <a:chExt cx="275760" cy="38160"/>
                    </a:xfrm>
                  </p:grpSpPr>
                  <p:sp>
                    <p:nvSpPr>
                      <p:cNvPr id="568" name=""/>
                      <p:cNvSpPr/>
                      <p:nvPr/>
                    </p:nvSpPr>
                    <p:spPr>
                      <a:xfrm>
                        <a:off x="6143040" y="473076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69" name=""/>
                      <p:cNvSpPr/>
                      <p:nvPr/>
                    </p:nvSpPr>
                    <p:spPr>
                      <a:xfrm>
                        <a:off x="6143040" y="473076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70" name=""/>
                      <p:cNvSpPr/>
                      <p:nvPr/>
                    </p:nvSpPr>
                    <p:spPr>
                      <a:xfrm>
                        <a:off x="6175440" y="476064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71" name=""/>
                    <p:cNvSpPr/>
                    <p:nvPr/>
                  </p:nvSpPr>
                  <p:spPr>
                    <a:xfrm>
                      <a:off x="6151680" y="457344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sp>
          <p:nvSpPr>
            <p:cNvPr id="572" name=""/>
            <p:cNvSpPr/>
            <p:nvPr/>
          </p:nvSpPr>
          <p:spPr>
            <a:xfrm>
              <a:off x="4743720" y="3476520"/>
              <a:ext cx="2895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With Remote Management SW</a:t>
              </a:r>
              <a:endParaRPr b="0" lang="en-US" sz="1400" spc="-1" strike="noStrike">
                <a:solidFill>
                  <a:srgbClr val="000000"/>
                </a:solidFill>
                <a:latin typeface="Futura Bk"/>
              </a:endParaRPr>
            </a:p>
          </p:txBody>
        </p:sp>
      </p:gr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FFE66484-0824-4F38-A251-23737A00B5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graphicFrame>
        <p:nvGraphicFramePr>
          <p:cNvPr id="574" name=""/>
          <p:cNvGraphicFramePr/>
          <p:nvPr/>
        </p:nvGraphicFramePr>
        <p:xfrm>
          <a:off x="399960" y="992160"/>
          <a:ext cx="8586720" cy="5027760"/>
        </p:xfrm>
        <a:graphic>
          <a:graphicData uri="http://schemas.openxmlformats.org/drawingml/2006/table">
            <a:tbl>
              <a:tblPr/>
              <a:tblGrid>
                <a:gridCol w="2860920"/>
                <a:gridCol w="2862000"/>
                <a:gridCol w="2863800"/>
              </a:tblGrid>
              <a:tr h="441360">
                <a:tc>
                  <a:txBody>
                    <a:bodyPr lIns="90000" rIns="90000" tIns="46800" bIns="46800" anchor="ctr" anchorCtr="1">
                      <a:noAutofit/>
                    </a:bodyPr>
                    <a:p>
                      <a:pPr algn="ctr">
                        <a:lnSpc>
                          <a:spcPct val="9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 </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HP DL180 G5</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Dell PE2950</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82548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Proc. Type</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Xeon Dual or Quad-Core</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Xeon Dual or Quad-Core</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5972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Proc. Capacity</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2</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2</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82548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Int. Storage</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Up to eight (8) LFF SAS/SATA HDD </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Up to eight (8) SFF SATA HDD</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82548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Max Storage</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3.6TB SAS, 9TB SATA</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4.5TB SATA</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5972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Max. Memory</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6GB</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32GB </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76428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Memory Type</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DDR2-667MHz</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FBD DIMMS 533MHz/667MHz</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5972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Warranty</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1-1</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3-1-1</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A0695814-BA73-460D-AADD-9506B39BD0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BOB BURDEN</cp:lastModifiedBy>
  <cp:lastPrinted>2004-09-23T21:26:26Z</cp:lastPrinted>
  <dcterms:modified xsi:type="dcterms:W3CDTF">2008-01-17T21:24:16Z</dcterms:modified>
  <cp:revision>340</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