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DB8-6294-4A4D-9B27-E8E28568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ABD-9989-4BD0-92B3-DF12C5A6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83A-1204-4A17-9F68-BED03356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476-19EC-465A-8A38-2104E9EB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94D-336F-44CE-BE20-4B95E4DE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7E0-CC05-4317-BEE1-4C32D389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FB1-ED9A-4505-89EB-E22EA27C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69C-2BE4-4B25-B42B-46CC6F6B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905-FF5F-4BCA-9A9B-76D6787A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A4B-D1B0-45CD-B9D8-464078B6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9A6-F91B-44E8-BBB8-DA53D872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8E1-D2C3-47E0-9943-C8016FB4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3D7A-318C-4921-825B-F6ED4878C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6720" y="0"/>
            <a:ext cx="54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Fibre Channel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1120" y="3324240"/>
            <a:ext cx="24685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torage controllers, cache, batteri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2-B21   HSG80 RAID Array Controller w/ 256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674-B21   HSx80 256MB cache (2*128MB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3-B21   HSG80 Cache bulkhead upg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35360" y="53211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25440" y="533520"/>
            <a:ext cx="7920" cy="21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91200" y="552600"/>
            <a:ext cx="0" cy="24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9880" y="6391440"/>
            <a:ext cx="18334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5435640"/>
            <a:ext cx="1789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040" y="3724200"/>
            <a:ext cx="23940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065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</a:t>
            </a: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 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5200" y="5030640"/>
            <a:ext cx="23101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Compaq 9000 Series Rack, op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3-B22  9142 4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0-B21 Side Pa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3-B21 Rack Stabiliz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9-B21 Multi-Bay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7/678-B21 Fan Kit 110/220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9940-B21 Blank Panel Kit (Qty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2 PDU DOM 16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-2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3 PDU DOM 32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 ft L6-3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rder 91xx  with 1 or 2 P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Not all options sh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33480" y="5249880"/>
            <a:ext cx="574920" cy="1474560"/>
            <a:chOff x="1833480" y="5249880"/>
            <a:chExt cx="574920" cy="1474560"/>
          </a:xfrm>
        </p:grpSpPr>
        <p:sp>
          <p:nvSpPr>
            <p:cNvPr id="55" name=""/>
            <p:cNvSpPr/>
            <p:nvPr/>
          </p:nvSpPr>
          <p:spPr>
            <a:xfrm>
              <a:off x="1833480" y="5249880"/>
              <a:ext cx="574920" cy="1407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3480" y="6670440"/>
              <a:ext cx="150120" cy="52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6672240"/>
              <a:ext cx="149760" cy="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61120" y="5326200"/>
            <a:ext cx="727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OPAL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6119640"/>
            <a:ext cx="560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1080" y="593424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0400" y="0"/>
            <a:ext cx="113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6240" y="2911320"/>
            <a:ext cx="1841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-path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89-B21 Secure Path V3.1 for W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91-B21 Secure Path V2.1 for S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/F500 Clus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sic 103250-B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5960" y="2698560"/>
            <a:ext cx="3240" cy="22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99120" y="3015720"/>
            <a:ext cx="881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08360" y="5454360"/>
            <a:ext cx="32259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6600" y="29844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 Enclo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440" y="1095480"/>
            <a:ext cx="43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1711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17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5820-B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6560"/>
            <a:ext cx="123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(2) 180W Power Supplies, (3) Fa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UltraSCSI I/O Modules, EMU, (2) IEC C13-C14 Power Cords, RETM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unting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480" y="2673360"/>
            <a:ext cx="68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95440" y="4191120"/>
            <a:ext cx="16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3x0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08000" y="4946760"/>
            <a:ext cx="32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4873680"/>
            <a:ext cx="30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6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Meter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7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M, 189505-B21 3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3-005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5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5-010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5506920"/>
            <a:ext cx="555840" cy="1226880"/>
            <a:chOff x="4643280" y="5506920"/>
            <a:chExt cx="555840" cy="1226880"/>
          </a:xfrm>
        </p:grpSpPr>
        <p:sp>
          <p:nvSpPr>
            <p:cNvPr id="80" name=""/>
            <p:cNvSpPr/>
            <p:nvPr/>
          </p:nvSpPr>
          <p:spPr>
            <a:xfrm>
              <a:off x="4643280" y="5506920"/>
              <a:ext cx="555840" cy="117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280" y="6689160"/>
              <a:ext cx="145080" cy="43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4040" y="6690600"/>
              <a:ext cx="144720" cy="43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153040" y="5433840"/>
            <a:ext cx="2851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odular Storage Cabinet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1-B21  42U  (opal) 6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2-B22  42U  (opal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3-B21  36U  (opal) 6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4-B22  36U  (opal) 5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5-B21  22U  (opal) 6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6-B22  22U  (opal) 5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7-B21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60Hz w/ (26) IEC320-C13 - C14 Power Cord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8-B22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4160" y="5608800"/>
            <a:ext cx="694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 ava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0360" y="6446880"/>
            <a:ext cx="2515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ll Modular Storage Cabs includ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nt &amp; back doors, Side panels, (2) 2U 24Amp PDUs each wit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15’ L6-30P input Power Cord, (16) IEC320-C13 receptac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5160" y="598320"/>
            <a:ext cx="65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8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8800" y="177480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104240" y="820800"/>
            <a:ext cx="632880" cy="947520"/>
            <a:chOff x="7104240" y="820800"/>
            <a:chExt cx="632880" cy="947520"/>
          </a:xfrm>
        </p:grpSpPr>
        <p:sp>
          <p:nvSpPr>
            <p:cNvPr id="89" name=""/>
            <p:cNvSpPr/>
            <p:nvPr/>
          </p:nvSpPr>
          <p:spPr>
            <a:xfrm>
              <a:off x="7104240" y="820800"/>
              <a:ext cx="632880" cy="9046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4240" y="173340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72240" y="173448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620560" y="36828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7520" y="2097000"/>
            <a:ext cx="1003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99480" y="561960"/>
            <a:ext cx="633240" cy="1550880"/>
            <a:chOff x="8799480" y="56196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99480" y="561960"/>
              <a:ext cx="633240" cy="14810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99480" y="2055600"/>
              <a:ext cx="164880" cy="558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67840" y="2057400"/>
              <a:ext cx="164880" cy="55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 flipV="1">
            <a:off x="7838640" y="3022560"/>
            <a:ext cx="1260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840" y="5442120"/>
            <a:ext cx="19029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Storage Area Networ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 SAN Switch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3-B21  FC SAN Switch 16 por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2-B21  FC SAN Switch 8 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  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365-B21  8/16 SAN Switch Brac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407-B21  8/16 SAN Switch Power o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BICs, Connection K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1-B21 Optical Short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9-B21 Kit 3 SW 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96-B21 Kit 2 SW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7508-B21 Optical Long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20" y="576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1440" y="523800"/>
            <a:ext cx="58626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platform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, 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.S. Version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G80 SFT Ki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Adapters(AKA);Bu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C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 Path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igh Availability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NT X86 NT4.0/W2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79-B21(DS-KGPSA-CB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T   4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 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4.0F/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3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Tru64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Cluster 1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4.0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Configured and ordered through CSS only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    (NOT YET AVAILABLE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5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olaris 2.6, 7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4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503-001(DS-SWSA4-SC); SBU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 V2.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irstWatch onV2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6-001(SWSA4-P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CS V1.01 on V2.6,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Ware  4.2,5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9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18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GI IRIX 6.5.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6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0 SGI XT-FC-2P:XIO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 SGI PCI-FC-IP;PCI (requires X-F-OE-KIT (MIA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-UX 10.2, 1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K Class A3404A;HS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         Pvlinks in HP-UX 10.2 MC Service Guard Switch,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D Class A3591A;G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BM AIX 4.2.1, 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8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9841-B21 PCI for RS/600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ACMP V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Alph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ProLian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5800" y="2685960"/>
            <a:ext cx="282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G80 Array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7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/SW  Softw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91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Software w/CLONE+SNAPSHO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V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Data Replication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09720" y="4946400"/>
            <a:ext cx="14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5040" y="4930920"/>
            <a:ext cx="603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3880" y="35568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edefined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56720" y="785880"/>
            <a:ext cx="632880" cy="1417320"/>
            <a:chOff x="7956720" y="785880"/>
            <a:chExt cx="632880" cy="1417320"/>
          </a:xfrm>
        </p:grpSpPr>
        <p:sp>
          <p:nvSpPr>
            <p:cNvPr id="107" name=""/>
            <p:cNvSpPr/>
            <p:nvPr/>
          </p:nvSpPr>
          <p:spPr>
            <a:xfrm>
              <a:off x="7956720" y="785880"/>
              <a:ext cx="63288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6720" y="215100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4720" y="215280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856280" y="592200"/>
            <a:ext cx="95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S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9720" y="218124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1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36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  431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4760" y="511344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Cables 50 Micron Short Wave Multi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457-B21/B22/B23/B24/B2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tical cables (2/5/15/30/50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81240"/>
            <a:ext cx="30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338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- Single Bus, 14 Bay Device Enclosure, RETMA mounting kit, (2) Blowers, (1) Power Supply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57520"/>
            <a:ext cx="313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381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254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1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4R - Dual Bus, 14 Bay Device Enclosure, RETMA mounting kit, (2) Blowers,  (2) Power Supplies, (2) IEC-C13 to NEMA 5-15P Power Cords, (2) IEC-C13 to IEC-C14 Power Cords.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0720"/>
            <a:ext cx="30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1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- Single Bus, 10 Bay Device Enclosure, RETMA mounting kit, (2) Blowers, (2) Power Supplies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34080"/>
            <a:ext cx="1803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0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0R - Dual Bus, 10 Bay Device Enclosure, RETMA mounting kit, (2) Blowers, (2) Power Supplies (2) IEC-C13 to NEMA 5-15P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4000" y="280512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2x4, 43x4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5680" y="97164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7360" y="93996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12160" y="1181160"/>
            <a:ext cx="6159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4760" y="1206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dual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50240" y="1066680"/>
            <a:ext cx="6350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920" y="103500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1276200"/>
            <a:ext cx="62208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69320" y="1301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6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01560" y="3359160"/>
            <a:ext cx="1003320" cy="2876760"/>
            <a:chOff x="7801560" y="3359160"/>
            <a:chExt cx="1003320" cy="2876760"/>
          </a:xfrm>
        </p:grpSpPr>
        <p:grpSp>
          <p:nvGrpSpPr>
            <p:cNvPr id="127" name=""/>
            <p:cNvGrpSpPr/>
            <p:nvPr/>
          </p:nvGrpSpPr>
          <p:grpSpPr>
            <a:xfrm>
              <a:off x="7918560" y="3543480"/>
              <a:ext cx="632880" cy="1540800"/>
              <a:chOff x="7918560" y="3543480"/>
              <a:chExt cx="632880" cy="154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918560" y="3543480"/>
                <a:ext cx="63288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502776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86560" y="502920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801560" y="3359160"/>
              <a:ext cx="1003320" cy="2876760"/>
              <a:chOff x="7801560" y="3359160"/>
              <a:chExt cx="1003320" cy="2876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808760" y="3359160"/>
                <a:ext cx="9500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S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01560" y="5062680"/>
                <a:ext cx="100332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4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M2200 Enclos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  431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2080" y="3962520"/>
                <a:ext cx="635040" cy="19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43760" y="3930480"/>
                <a:ext cx="58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1) M2200 enclosur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18560" y="4172040"/>
                <a:ext cx="628560" cy="58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31160" y="4197240"/>
                <a:ext cx="5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6 single bus 10-bay drive enclosur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807400" y="88272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84132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07400" y="1092240"/>
            <a:ext cx="6224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26480" y="11174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643960" y="3314880"/>
            <a:ext cx="1047240" cy="2927160"/>
            <a:chOff x="8643960" y="3314880"/>
            <a:chExt cx="1047240" cy="2927160"/>
          </a:xfrm>
        </p:grpSpPr>
        <p:grpSp>
          <p:nvGrpSpPr>
            <p:cNvPr id="143" name=""/>
            <p:cNvGrpSpPr/>
            <p:nvPr/>
          </p:nvGrpSpPr>
          <p:grpSpPr>
            <a:xfrm>
              <a:off x="8643960" y="3314880"/>
              <a:ext cx="1047240" cy="2927160"/>
              <a:chOff x="8643960" y="3314880"/>
              <a:chExt cx="1047240" cy="292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807400" y="3527280"/>
                <a:ext cx="633240" cy="1550880"/>
                <a:chOff x="8807400" y="3527280"/>
                <a:chExt cx="633240" cy="1550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807400" y="3527280"/>
                  <a:ext cx="633240" cy="1550880"/>
                  <a:chOff x="8807400" y="3527280"/>
                  <a:chExt cx="633240" cy="1550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807400" y="3527280"/>
                    <a:ext cx="633240" cy="1481040"/>
                  </a:xfrm>
                  <a:prstGeom prst="rect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807400" y="5020920"/>
                    <a:ext cx="164880" cy="55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275760" y="5022720"/>
                    <a:ext cx="164880" cy="554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8807400" y="3543480"/>
                  <a:ext cx="622440" cy="19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13880" y="374652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807400" y="401940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813880" y="422280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807400" y="450216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13880" y="4705200"/>
                  <a:ext cx="615960" cy="2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8643960" y="3314880"/>
                <a:ext cx="9684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D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64840" y="5068800"/>
                <a:ext cx="102636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0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3)   M220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9)   4354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8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807400" y="350820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26480" y="370188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07400" y="398448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6480" y="41781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07400" y="446724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26480" y="466092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8400" y="4133880"/>
            <a:ext cx="187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nclosure 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Dual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2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Single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Dual Bus I/0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2_Front" descr=""/>
          <p:cNvPicPr/>
          <p:nvPr/>
        </p:nvPicPr>
        <p:blipFill>
          <a:blip r:embed="rId1"/>
          <a:stretch/>
        </p:blipFill>
        <p:spPr>
          <a:xfrm>
            <a:off x="160200" y="766800"/>
            <a:ext cx="1009800" cy="314280"/>
          </a:xfrm>
          <a:prstGeom prst="rect">
            <a:avLst/>
          </a:prstGeom>
          <a:ln w="0">
            <a:noFill/>
          </a:ln>
        </p:spPr>
      </p:pic>
      <p:pic>
        <p:nvPicPr>
          <p:cNvPr id="165" name="M2_Rear" descr=""/>
          <p:cNvPicPr/>
          <p:nvPr/>
        </p:nvPicPr>
        <p:blipFill>
          <a:blip r:embed="rId2"/>
          <a:stretch/>
        </p:blipFill>
        <p:spPr>
          <a:xfrm>
            <a:off x="160200" y="1355760"/>
            <a:ext cx="9511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Star10c" descr=""/>
          <p:cNvPicPr/>
          <p:nvPr/>
        </p:nvPicPr>
        <p:blipFill>
          <a:blip r:embed="rId3"/>
          <a:stretch/>
        </p:blipFill>
        <p:spPr>
          <a:xfrm>
            <a:off x="125280" y="4133880"/>
            <a:ext cx="115596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Star14a" descr=""/>
          <p:cNvPicPr/>
          <p:nvPr/>
        </p:nvPicPr>
        <p:blipFill>
          <a:blip r:embed="rId4"/>
          <a:stretch/>
        </p:blipFill>
        <p:spPr>
          <a:xfrm>
            <a:off x="0" y="2705040"/>
            <a:ext cx="1257480" cy="41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19440" y="3171960"/>
            <a:ext cx="501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ilmerK</cp:lastModifiedBy>
  <cp:lastPrinted>2000-07-18T16:33:02Z</cp:lastPrinted>
  <dcterms:modified xsi:type="dcterms:W3CDTF">2000-08-01T16:51:07Z</dcterms:modified>
  <cp:revision>72</cp:revision>
  <dc:subject/>
  <dc:title>No Slide Title</dc:title>
</cp:coreProperties>
</file>