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7034213" cy="9104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D0F-632B-4619-9AF1-EA4494A7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E01-4ECF-4999-BEEC-155EFD1D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CE9-D11D-4289-91B2-7E215910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B5F-242B-42FC-903C-9604F359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7E1-A8AF-4E26-9F56-215B7B41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780-14B9-4BC1-9F03-54362DF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92E-2303-4578-803A-7D574994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121-3019-4C6F-8399-A48B3978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FA6-61FF-428E-A549-DD9BBE23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E3F-D54C-42F0-B3C4-D3AA599E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117-2460-4545-9140-45101D65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02E-E533-4AA6-9018-A3342358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C47B-48EF-48E3-9E72-B2B6842D3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0560" y="5591160"/>
            <a:ext cx="2028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NEMA 5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3541-xxx Power Cords 13-20 Am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01 USA/Japan  -011 Aus/N.Zea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21 C.Europe     -031 UK/Irelan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511 Switzerland -481 Den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461 Italy             -AR1 India/S.Afric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BT1  Isra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8520" y="0"/>
            <a:ext cx="418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CI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8040" y="2562120"/>
            <a:ext cx="2436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 controllers, cache, batteri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04305-B21   HSJ80 RAID Array Controller w/ 512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778040" y="380880"/>
            <a:ext cx="7920" cy="647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2240" y="2876400"/>
            <a:ext cx="0" cy="398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6920" y="5638680"/>
            <a:ext cx="1846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6240" y="2946240"/>
            <a:ext cx="2470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3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7440" y="4160880"/>
            <a:ext cx="2856960" cy="1919160"/>
            <a:chOff x="1747440" y="4160880"/>
            <a:chExt cx="2856960" cy="1919160"/>
          </a:xfrm>
        </p:grpSpPr>
        <p:sp>
          <p:nvSpPr>
            <p:cNvPr id="53" name=""/>
            <p:cNvSpPr/>
            <p:nvPr/>
          </p:nvSpPr>
          <p:spPr>
            <a:xfrm>
              <a:off x="2329920" y="4160880"/>
              <a:ext cx="22744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paq 9142 Rack, option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1   9142 42U Cab (opal) No PDU- Flat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2   9142 42U Cab (opal) No PDU- Shock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3   9142 42U Cab (opal) No PDU- C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0-B21 Side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3-B21 Rack Stabi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9-B21 Multi-Bay K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7/678-B21 Fan Kit 110/22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9940-B21 Blank Panel Kit (Qty 4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1 PDU DOM Low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5-30P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2 PDU DOM 16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6-2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3 PDU DOM 32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6-3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Order 9142  with 1 or 2 PD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Not all options sh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747440" y="4240080"/>
              <a:ext cx="674280" cy="1474560"/>
              <a:chOff x="1747440" y="4240080"/>
              <a:chExt cx="674280" cy="147456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801800" y="4240080"/>
                <a:ext cx="574560" cy="1474560"/>
                <a:chOff x="1801800" y="4240080"/>
                <a:chExt cx="574560" cy="14745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01800" y="4240080"/>
                  <a:ext cx="574560" cy="1407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1800" y="5660640"/>
                  <a:ext cx="149760" cy="525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26600" y="5662440"/>
                  <a:ext cx="149400" cy="522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761120" y="4316400"/>
                <a:ext cx="660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mpa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et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PAL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47440" y="5421240"/>
                <a:ext cx="631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42U 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1800" y="5110200"/>
                <a:ext cx="560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C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7360" y="2009880"/>
            <a:ext cx="18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7840" y="2863800"/>
            <a:ext cx="2666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closure 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5-B21   180 Watt Power Supply for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   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   4214R Dual Bus I/O Modul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1280" y="8100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5960" y="4191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795320" y="2501640"/>
            <a:ext cx="2748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2514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8520" y="341640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2240" y="1443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er Enclosure - 4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511200"/>
            <a:ext cx="1765440" cy="2034000"/>
            <a:chOff x="0" y="511200"/>
            <a:chExt cx="1765440" cy="2034000"/>
          </a:xfrm>
        </p:grpSpPr>
        <p:sp>
          <p:nvSpPr>
            <p:cNvPr id="74" name=""/>
            <p:cNvSpPr/>
            <p:nvPr/>
          </p:nvSpPr>
          <p:spPr>
            <a:xfrm>
              <a:off x="576720" y="5112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40" y="124128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960" y="1990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00" y="19638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35820-B21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cludes: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(2) 180W Power Supplies, (3)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ns, (6) Ultra SCSI I/O Modules, EMU,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2) IEC C13-C14 Power Cords, RETM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ounting ki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3368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25304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el 42xx /43xx Device Enclosure - 3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95720"/>
            <a:ext cx="175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03381-001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4 Bay Device Enclosure, RETMA mounting kit, (2) Blower, (1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3815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5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1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4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840" y="3419640"/>
            <a:ext cx="3113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for C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256-B21  1Meter, 168257-B21  2M, 189505-B21 3M, 400983-005  5M, 400985-010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 C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CIA-10  10M, BNCIA-20  20M, BNCIA-45  45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r Coup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C  8 ports, dual CI path w/ Cabi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D  8 ports, dual CI path. Upgrades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 16 CI ports - installs inside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419112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6008760"/>
            <a:ext cx="29239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 9000 Series Racks Suppor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1  9136 -36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3  9136 -36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1  9122 -22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3  9122 -22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13680" y="5091120"/>
            <a:ext cx="3411000" cy="1600920"/>
            <a:chOff x="4513680" y="5091120"/>
            <a:chExt cx="3411000" cy="1600920"/>
          </a:xfrm>
        </p:grpSpPr>
        <p:sp>
          <p:nvSpPr>
            <p:cNvPr id="85" name=""/>
            <p:cNvSpPr/>
            <p:nvPr/>
          </p:nvSpPr>
          <p:spPr>
            <a:xfrm>
              <a:off x="5073480" y="5091120"/>
              <a:ext cx="285120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odular Storage Cabine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1-B21  42U  (opal) 6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2-B22  42U  (opal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3-B21  36U  (opal) 6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4-B22  36U  (opal) 5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5-B21  22U  (opal) 6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6-B22  22U  (opal) 5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7-B21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60Hz w/ (26) IEC320-C13 to C14 Power Cor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8-B22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l Modular Storage Cabs includ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ront &amp; back doors, Side panels, (2) 2U 24Amp PDUs each with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15’ L6-30P input Power Cord, (16) IEC320-C13 recepta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13680" y="5163840"/>
              <a:ext cx="694080" cy="1289520"/>
              <a:chOff x="4513680" y="5163840"/>
              <a:chExt cx="694080" cy="1289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579920" y="5208120"/>
                <a:ext cx="555480" cy="1245240"/>
                <a:chOff x="4579920" y="5208120"/>
                <a:chExt cx="555480" cy="1245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579920" y="5208120"/>
                  <a:ext cx="555480" cy="118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9920" y="6408000"/>
                  <a:ext cx="144720" cy="442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90680" y="6409440"/>
                  <a:ext cx="144720" cy="43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3680" y="5163840"/>
                <a:ext cx="694080" cy="120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odula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bi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22U, 36U,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42U ar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9000 Seri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Racks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41U i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SA12000 Cab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TO avail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582760" y="1830240"/>
            <a:ext cx="959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 Controller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che or D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47840" y="8244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23160" y="295200"/>
            <a:ext cx="633240" cy="1550880"/>
            <a:chOff x="8723160" y="29520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23160" y="295200"/>
              <a:ext cx="633240" cy="1481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3160" y="1788840"/>
              <a:ext cx="164880" cy="558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91520" y="1790640"/>
              <a:ext cx="164880" cy="55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697960" y="2844720"/>
            <a:ext cx="1044000" cy="2820960"/>
            <a:chOff x="8697960" y="2844720"/>
            <a:chExt cx="1044000" cy="2820960"/>
          </a:xfrm>
        </p:grpSpPr>
        <p:grpSp>
          <p:nvGrpSpPr>
            <p:cNvPr id="99" name=""/>
            <p:cNvGrpSpPr/>
            <p:nvPr/>
          </p:nvGrpSpPr>
          <p:grpSpPr>
            <a:xfrm>
              <a:off x="8861400" y="3057480"/>
              <a:ext cx="633240" cy="1550880"/>
              <a:chOff x="8861400" y="3057480"/>
              <a:chExt cx="633240" cy="155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8861400" y="3057480"/>
                <a:ext cx="633240" cy="148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61400" y="4551120"/>
                <a:ext cx="164880" cy="55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29760" y="4552920"/>
                <a:ext cx="164880" cy="55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697960" y="2844720"/>
              <a:ext cx="968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D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18840" y="4599000"/>
              <a:ext cx="1023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0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  M220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9)   425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8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 Controllers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che or Dis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46440" y="2857680"/>
            <a:ext cx="5146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700200"/>
            <a:ext cx="4511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cluster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olution Kit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OpenVMS, V8.5A, 203694-001;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Ss Supported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 softwar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6.2               CIXCD                        VMS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1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2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6.2-1H3      CIPCA                         VMSClust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1H1             “                                        “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-1              “ 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torage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693-B21  ACS V8.5J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50227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4848120"/>
            <a:ext cx="17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466560"/>
            <a:ext cx="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49280" y="142920"/>
            <a:ext cx="1003320" cy="2762280"/>
            <a:chOff x="7649280" y="142920"/>
            <a:chExt cx="1003320" cy="2762280"/>
          </a:xfrm>
        </p:grpSpPr>
        <p:sp>
          <p:nvSpPr>
            <p:cNvPr id="111" name=""/>
            <p:cNvSpPr/>
            <p:nvPr/>
          </p:nvSpPr>
          <p:spPr>
            <a:xfrm>
              <a:off x="7665840" y="14292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9280" y="17319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1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36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21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765920" y="336600"/>
            <a:ext cx="633240" cy="1417320"/>
            <a:chOff x="7765920" y="336600"/>
            <a:chExt cx="633240" cy="1417320"/>
          </a:xfrm>
        </p:grpSpPr>
        <p:sp>
          <p:nvSpPr>
            <p:cNvPr id="114" name=""/>
            <p:cNvSpPr/>
            <p:nvPr/>
          </p:nvSpPr>
          <p:spPr>
            <a:xfrm>
              <a:off x="7765920" y="336600"/>
              <a:ext cx="63324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5920" y="170172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4280" y="170352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front" descr=""/>
          <p:cNvPicPr/>
          <p:nvPr/>
        </p:nvPicPr>
        <p:blipFill>
          <a:blip r:embed="rId1"/>
          <a:stretch/>
        </p:blipFill>
        <p:spPr>
          <a:xfrm>
            <a:off x="8007480" y="3733920"/>
            <a:ext cx="581040" cy="164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23880" y="2813040"/>
            <a:ext cx="1003320" cy="2876760"/>
            <a:chOff x="7823880" y="2813040"/>
            <a:chExt cx="1003320" cy="2876760"/>
          </a:xfrm>
        </p:grpSpPr>
        <p:grpSp>
          <p:nvGrpSpPr>
            <p:cNvPr id="119" name=""/>
            <p:cNvGrpSpPr/>
            <p:nvPr/>
          </p:nvGrpSpPr>
          <p:grpSpPr>
            <a:xfrm>
              <a:off x="7940520" y="2997360"/>
              <a:ext cx="633240" cy="1540800"/>
              <a:chOff x="7940520" y="2997360"/>
              <a:chExt cx="633240" cy="1540800"/>
            </a:xfrm>
          </p:grpSpPr>
          <p:sp>
            <p:nvSpPr>
              <p:cNvPr id="120" name=""/>
              <p:cNvSpPr/>
              <p:nvPr/>
            </p:nvSpPr>
            <p:spPr>
              <a:xfrm>
                <a:off x="7940520" y="2997360"/>
                <a:ext cx="63324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0520" y="448164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08880" y="448308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830720" y="281304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3880" y="45165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4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31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591960" y="157176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18320" y="395280"/>
            <a:ext cx="651960" cy="1131840"/>
            <a:chOff x="6718320" y="395280"/>
            <a:chExt cx="651960" cy="1131840"/>
          </a:xfrm>
        </p:grpSpPr>
        <p:sp>
          <p:nvSpPr>
            <p:cNvPr id="127" name=""/>
            <p:cNvSpPr/>
            <p:nvPr/>
          </p:nvSpPr>
          <p:spPr>
            <a:xfrm>
              <a:off x="6718320" y="395280"/>
              <a:ext cx="65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737400" y="579600"/>
              <a:ext cx="632880" cy="947520"/>
              <a:chOff x="6737400" y="579600"/>
              <a:chExt cx="632880" cy="94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37400" y="579600"/>
                <a:ext cx="632880" cy="90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37400" y="149220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5400" y="149328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136600" y="3556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8520" y="45403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800" y="454824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Extenders / Translators for External (to cabinet) Devic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SE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D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Diff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83080"/>
            <a:ext cx="1758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0 Bay Device Enclosure, RETMA mounting kit, (2) Blower, (2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0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0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53240" y="903240"/>
            <a:ext cx="590400" cy="342720"/>
            <a:chOff x="6753240" y="903240"/>
            <a:chExt cx="590400" cy="342720"/>
          </a:xfrm>
        </p:grpSpPr>
        <p:sp>
          <p:nvSpPr>
            <p:cNvPr id="137" name=""/>
            <p:cNvSpPr/>
            <p:nvPr/>
          </p:nvSpPr>
          <p:spPr>
            <a:xfrm>
              <a:off x="6753240" y="903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9720" y="925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53240" y="741240"/>
            <a:ext cx="590400" cy="215640"/>
            <a:chOff x="6753240" y="741240"/>
            <a:chExt cx="590400" cy="215640"/>
          </a:xfrm>
        </p:grpSpPr>
        <p:sp>
          <p:nvSpPr>
            <p:cNvPr id="140" name=""/>
            <p:cNvSpPr/>
            <p:nvPr/>
          </p:nvSpPr>
          <p:spPr>
            <a:xfrm>
              <a:off x="6753240" y="7840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240" y="7412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81760" y="512640"/>
            <a:ext cx="590400" cy="215640"/>
            <a:chOff x="7781760" y="512640"/>
            <a:chExt cx="590400" cy="215640"/>
          </a:xfrm>
        </p:grpSpPr>
        <p:sp>
          <p:nvSpPr>
            <p:cNvPr id="143" name=""/>
            <p:cNvSpPr/>
            <p:nvPr/>
          </p:nvSpPr>
          <p:spPr>
            <a:xfrm>
              <a:off x="7781760" y="5554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9760" y="5126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75640" y="674640"/>
            <a:ext cx="626760" cy="714240"/>
            <a:chOff x="7775640" y="674640"/>
            <a:chExt cx="626760" cy="714240"/>
          </a:xfrm>
        </p:grpSpPr>
        <p:sp>
          <p:nvSpPr>
            <p:cNvPr id="146" name=""/>
            <p:cNvSpPr/>
            <p:nvPr/>
          </p:nvSpPr>
          <p:spPr>
            <a:xfrm>
              <a:off x="7781760" y="674640"/>
              <a:ext cx="599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5640" y="8744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744040" y="874800"/>
            <a:ext cx="590400" cy="342720"/>
            <a:chOff x="8744040" y="874800"/>
            <a:chExt cx="590400" cy="342720"/>
          </a:xfrm>
        </p:grpSpPr>
        <p:sp>
          <p:nvSpPr>
            <p:cNvPr id="149" name=""/>
            <p:cNvSpPr/>
            <p:nvPr/>
          </p:nvSpPr>
          <p:spPr>
            <a:xfrm>
              <a:off x="8744040" y="8748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0520" y="89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744040" y="712800"/>
            <a:ext cx="590400" cy="215640"/>
            <a:chOff x="8744040" y="712800"/>
            <a:chExt cx="590400" cy="215640"/>
          </a:xfrm>
        </p:grpSpPr>
        <p:sp>
          <p:nvSpPr>
            <p:cNvPr id="152" name=""/>
            <p:cNvSpPr/>
            <p:nvPr/>
          </p:nvSpPr>
          <p:spPr>
            <a:xfrm>
              <a:off x="8744040" y="7552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52040" y="7128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962840" y="3218040"/>
            <a:ext cx="590400" cy="215640"/>
            <a:chOff x="7962840" y="3218040"/>
            <a:chExt cx="590400" cy="215640"/>
          </a:xfrm>
        </p:grpSpPr>
        <p:sp>
          <p:nvSpPr>
            <p:cNvPr id="155" name=""/>
            <p:cNvSpPr/>
            <p:nvPr/>
          </p:nvSpPr>
          <p:spPr>
            <a:xfrm>
              <a:off x="7962840" y="326052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70840" y="32180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956720" y="3379680"/>
            <a:ext cx="617400" cy="714240"/>
            <a:chOff x="7956720" y="3379680"/>
            <a:chExt cx="617400" cy="714240"/>
          </a:xfrm>
        </p:grpSpPr>
        <p:sp>
          <p:nvSpPr>
            <p:cNvPr id="158" name=""/>
            <p:cNvSpPr/>
            <p:nvPr/>
          </p:nvSpPr>
          <p:spPr>
            <a:xfrm>
              <a:off x="7962840" y="3379680"/>
              <a:ext cx="590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6720" y="357948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0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877240" y="3198960"/>
            <a:ext cx="590400" cy="342720"/>
            <a:chOff x="8877240" y="3198960"/>
            <a:chExt cx="590400" cy="342720"/>
          </a:xfrm>
        </p:grpSpPr>
        <p:sp>
          <p:nvSpPr>
            <p:cNvPr id="161" name=""/>
            <p:cNvSpPr/>
            <p:nvPr/>
          </p:nvSpPr>
          <p:spPr>
            <a:xfrm>
              <a:off x="8877240" y="319896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3720" y="32209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877240" y="3036960"/>
            <a:ext cx="590400" cy="215640"/>
            <a:chOff x="8877240" y="3036960"/>
            <a:chExt cx="590400" cy="215640"/>
          </a:xfrm>
        </p:grpSpPr>
        <p:sp>
          <p:nvSpPr>
            <p:cNvPr id="164" name=""/>
            <p:cNvSpPr/>
            <p:nvPr/>
          </p:nvSpPr>
          <p:spPr>
            <a:xfrm>
              <a:off x="8877240" y="307944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85240" y="30369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877240" y="3684600"/>
            <a:ext cx="590400" cy="342720"/>
            <a:chOff x="8877240" y="3684600"/>
            <a:chExt cx="590400" cy="342720"/>
          </a:xfrm>
        </p:grpSpPr>
        <p:sp>
          <p:nvSpPr>
            <p:cNvPr id="167" name=""/>
            <p:cNvSpPr/>
            <p:nvPr/>
          </p:nvSpPr>
          <p:spPr>
            <a:xfrm>
              <a:off x="8877240" y="36846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3720" y="37065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877240" y="3522600"/>
            <a:ext cx="590400" cy="215640"/>
            <a:chOff x="8877240" y="3522600"/>
            <a:chExt cx="590400" cy="215640"/>
          </a:xfrm>
        </p:grpSpPr>
        <p:sp>
          <p:nvSpPr>
            <p:cNvPr id="170" name=""/>
            <p:cNvSpPr/>
            <p:nvPr/>
          </p:nvSpPr>
          <p:spPr>
            <a:xfrm>
              <a:off x="8877240" y="3565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85240" y="3522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877240" y="4170240"/>
            <a:ext cx="590400" cy="342720"/>
            <a:chOff x="8877240" y="4170240"/>
            <a:chExt cx="590400" cy="342720"/>
          </a:xfrm>
        </p:grpSpPr>
        <p:sp>
          <p:nvSpPr>
            <p:cNvPr id="173" name=""/>
            <p:cNvSpPr/>
            <p:nvPr/>
          </p:nvSpPr>
          <p:spPr>
            <a:xfrm>
              <a:off x="8877240" y="4170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83720" y="4192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877240" y="4008600"/>
            <a:ext cx="590400" cy="215640"/>
            <a:chOff x="8877240" y="4008600"/>
            <a:chExt cx="590400" cy="215640"/>
          </a:xfrm>
        </p:grpSpPr>
        <p:sp>
          <p:nvSpPr>
            <p:cNvPr id="176" name=""/>
            <p:cNvSpPr/>
            <p:nvPr/>
          </p:nvSpPr>
          <p:spPr>
            <a:xfrm>
              <a:off x="8877240" y="4051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85240" y="4008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179280" y="1427040"/>
          <a:ext cx="13716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2704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9920" y="746280"/>
          <a:ext cx="14479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920" y="746280"/>
                    <a:ext cx="1447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81080" y="2708280"/>
          <a:ext cx="13809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080" y="2708280"/>
                    <a:ext cx="1380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4897440"/>
          <a:ext cx="1409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4897440"/>
                    <a:ext cx="1409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urnickJ</cp:lastModifiedBy>
  <cp:lastPrinted>2000-06-09T14:02:01Z</cp:lastPrinted>
  <dcterms:modified xsi:type="dcterms:W3CDTF">2000-07-17T21:36:48Z</dcterms:modified>
  <cp:revision>74</cp:revision>
  <dc:subject/>
  <dc:title>No Slide Title</dc:title>
</cp:coreProperties>
</file>